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47B-49C0-47C5-9B45-D5CC0722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6D0-8E3E-43E2-881D-4B05C1AB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47A-021D-4CC1-8C0A-5238F0D1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9C2-CBA1-43E5-A050-3114B2AD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F54-5944-4434-BB96-3A0ADA1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A5F-124C-4E10-AD84-13640D2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15E-B62F-43C8-A258-79B6ED0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E10-4D76-43B9-8F7A-95290B02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DCC-CEAB-4313-B499-AA71385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336-E737-4AA6-8B0E-B318849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A98-5543-40AF-9B77-DEC9081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B36-044B-482C-A9B7-57775D0C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1F2-A294-490E-8BBD-0AA5ACD0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*x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B *x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*x+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Para esto haremos una columna en 0, 0.1, 0.2… hasta por lo menos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a columna con la función, ya sea parábola o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remos “=B$1*A5+B$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Donde B1 y B2 corresponden a las celdas que contienen las constantes y A5 la celda de los X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ría ver 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53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laboratorio</cp:lastModifiedBy>
  <dcterms:modified xsi:type="dcterms:W3CDTF">2007-01-10T13:44:17Z</dcterms:modified>
  <cp:revision>10</cp:revision>
  <dc:subject/>
  <dc:title>Clase nº1  Complemento Numérico</dc:title>
</cp:coreProperties>
</file>