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9706-F656-474D-B4B6-9BFED11B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2AC-C130-428A-A036-B2561C0C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9494-73AD-4B3E-B8F3-0B7CC37D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EC16-1169-4A52-8F22-F9EBF7CA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4A3F-92DD-4658-BFAA-70404BCF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27DF-2905-4106-B325-427BA06F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A8CF-6128-465D-A0DF-8CD29633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AE9-A6F9-4FEF-BA51-6240903C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955-0324-480A-9532-1E0304CD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09F-B7C1-442B-A3F7-C2385602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B89-8CDB-4F37-9662-BF5ABF28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DED-D986-45F2-AB68-F22D81C0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0495-189E-4472-9D6E-9DDF464CE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n º 1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Numé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Conocer algunas funciones tales como parabolas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tas, y su inters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a las constantes de la Parábola y de la Re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afique Parábola y Recta en la misma vent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aríe las constantes para lograr interceptar la parábola en solo 1 punto, y en 2 Pu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ponder preguntas del final de la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abemos que la Parabola es de la form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*x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+B *x+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Y la recta es de la 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*x+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finir las const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En una celda escribimos el valor de la constante que queremos para nuestra fu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bemos definir los x’s con los que graficare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Para esto haremos una columna en 0, 0.1, 0.2… hasta por lo menos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ir una columna con la función, ya sea parábola o re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¿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En una celda escribiremos “=B$1*A5+B$2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Donde B1 y B2 corresponden a las celdas que contienen las constantes y A5 la celda de los X’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bería ver a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55308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aficar la parábola y la recta en la misma vent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mbiar las constantes de la parábola o la recta de forma que se intercepten primero en un punto, y luego en dos pu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vez que se tiene la función definida para cada x’s se graf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Seleccionamos con el mouse la ta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apretamos el boton de gráf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elegimos “gráfico de dispersión” (con lineas curv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listo </a:t>
            </a:r>
            <a:r>
              <a:rPr b="0" lang="es-CL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 …. Repetimos esto con cada fu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948360" y="3789360"/>
            <a:ext cx="9064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é pasa si A es negativo, en el gráfico de la parábo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é significa que el termino que acompaña a x sea negativo, en la ecuación de la rec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ando la parábola tiene solo un máximo y solo un mínim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laboratorio</cp:lastModifiedBy>
  <dcterms:modified xsi:type="dcterms:W3CDTF">2007-01-10T13:44:17Z</dcterms:modified>
  <cp:revision>10</cp:revision>
  <dc:subject/>
  <dc:title>Clase nº1  Complemento Numérico</dc:title>
</cp:coreProperties>
</file>