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6B9-7E1F-4F68-8049-14D6047D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07B-3640-4433-B788-A270404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BA-675F-4736-9F45-AEEDCDA7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018-12F6-470F-BE21-54607C28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ADE-88AD-4352-BBE4-92C1694E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045-1F79-4F1D-B548-269E4B7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026-4BA1-45C4-A384-A17E96FD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AAD-07BD-4336-BA56-D1B907C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EB6-6A17-4EBE-8DB7-F178E42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52C-216E-4164-832E-8CB58C3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2F0-38A1-413C-88E4-761B65E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77F-27F0-4FD0-88BA-FF5D9C9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5CF-3874-499E-9989-5A51C62C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*x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B *x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*x+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Para esto haremos una columna en 0, 0.1, 0.2… hasta por lo menos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a columna con la función, ya sea parábola o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remos “=B$1*A5+B$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Donde B1 y B2 corresponden a las celdas que contienen las constantes y A5 la celda de los X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ría ver 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53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laboratorio</cp:lastModifiedBy>
  <dcterms:modified xsi:type="dcterms:W3CDTF">2007-01-10T13:44:17Z</dcterms:modified>
  <cp:revision>10</cp:revision>
  <dc:subject/>
  <dc:title>Clase nº1  Complemento Numérico</dc:title>
</cp:coreProperties>
</file>