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CCE-26EC-41EA-B073-4471BFE2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E09-AA35-4727-B71A-7E3C5E11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26B-B2D5-43FB-9DBE-3E317ABC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002-6486-4B13-880E-288FBEDC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64F-9B80-4A5E-9AB6-DB5F1E2A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FD9-70C5-4A02-8551-3281DFCF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B78-B8A8-4EBF-9DC2-130A854F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03D-9389-4F56-A122-322BEB83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7A3-9406-49F8-822A-652A77B7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AD0-2A74-4880-8236-95DE2708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210-B7D4-42A1-8A73-B1D9A58A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DC7-3EEC-4524-89F9-1A567D3F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7CCD-25B4-4A68-B3DF-ADCB0356F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faculty.umb.edu/stephen_silliman/P565e-Bourdieu.jpg&amp;imgrefurl=http://www.faculty.umb.edu/stephen_silliman/Anth565.html&amp;h=189&amp;w=161&amp;sz=25&amp;tbnid=XP8TI-mNQy0J:&amp;tbnh=96&amp;tbnw=82&amp;start=4&amp;prev=/images%3Fq%3DBourdieu%26hl%3Des%26lr%3D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chicureo.com/cronica/imagenes/2004/03/Ricardo_Lagos.jpg&amp;imgrefurl=http://chicureo.com/cronica/bronce.shtml&amp;h=211&amp;w=170&amp;sz=11&amp;tbnid=AgTTktQH8tUJ:&amp;tbnh=101&amp;tbnw=81&amp;start=13&amp;prev=/images%3Fq%3DRicardo%2BLagos%26hl%3Des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cinelatinotrieste.org/fest2003/imgts/allende.jpg&amp;imgrefurl=http://www.cinelatinotrieste.org/2003.html&amp;h=242&amp;w=325&amp;sz=19&amp;tbnid=JS9piwMH9HcJ:&amp;tbnh=84&amp;tbnw=113&amp;start=7&amp;prev=/images%3Fq%3DAllende%26hl%3Des%26lr%3D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academic.reed.edu/poli_sci/ppwls/dahl_pps_site.jpg&amp;imgrefurl=http://academic.reed.edu/poli_sci/ppw.html&amp;h=240&amp;w=160&amp;sz=13&amp;tbnid=2knjeu8l0HEJ:&amp;tbnh=104&amp;tbnw=69&amp;start=3&amp;prev=/images%3Fq%3Drobert%2BDahl%26hl%3Des%26lr%3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438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  DEMOCRA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867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 GRIMALDI T. Administrador Público U. de Chile. Magíster © en Ciencia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68580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a Linz Y Stepan, Una Democracia Está Consolidada Cuando Se Cumplen Estas 5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Condiciones que permitan el desarrollo de una sociedad civil libre y ac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Debe existir una sociedad política relativamente autó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En todo el territorio nacional los actores políticos y estatales deben estar sujetos al imperio de la l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Una estructura burocrática útil para el Estado democr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5. Debe existir una sociedad económica institucion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ablamos de consolidación democrática cuando en el sistema político la democracia pasa a ser  “The only game in tow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inz" descr="Dr.philos. h.c. professor emeritus Juan J. Linz"/>
          <p:cNvPicPr/>
          <p:nvPr/>
        </p:nvPicPr>
        <p:blipFill>
          <a:blip r:embed="rId1"/>
          <a:stretch/>
        </p:blipFill>
        <p:spPr>
          <a:xfrm>
            <a:off x="7315200" y="4724280"/>
            <a:ext cx="1554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371600"/>
            <a:ext cx="861048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MOCRACIA REPRESEN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adición democrática más básica se basa en el principio de representación, que hoy constituye un problema de análisis en la ciencia po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epresentación significa tener el poder de hablar en nombre de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809880"/>
            <a:ext cx="8458200" cy="2669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urdieu considera a la representación como </a:t>
            </a:r>
            <a:r>
              <a:rPr b="1" i="1" lang="es-ES" sz="2400" spc="-1" strike="noStrike">
                <a:solidFill>
                  <a:srgbClr val="000000"/>
                </a:solidFill>
                <a:latin typeface="Arial,BoldItalic"/>
              </a:rPr>
              <a:t>“un golpe de fuerza simbólico”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tiene un componente ficticio, ya que hasta en las democracias más consolidadas se da la siguiente parado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es posible que una sola persona represente a 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gru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23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80880"/>
            <a:ext cx="83818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A quién se representa: al grupo en su unidad o a la sociedad reconociendo la diversidad en sus compone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usseau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unidad social (voluntad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cke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diversidad (en el par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5486400"/>
            <a:ext cx="8077320" cy="10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presentatividad en la historia ha sido la luch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rar hablar en nombre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ousseau" descr=""/>
          <p:cNvPicPr/>
          <p:nvPr/>
        </p:nvPicPr>
        <p:blipFill>
          <a:blip r:embed="rId1"/>
          <a:stretch/>
        </p:blipFill>
        <p:spPr>
          <a:xfrm>
            <a:off x="7238880" y="1981080"/>
            <a:ext cx="94932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locke" descr=""/>
          <p:cNvPicPr/>
          <p:nvPr/>
        </p:nvPicPr>
        <p:blipFill>
          <a:blip r:embed="rId2"/>
          <a:stretch/>
        </p:blipFill>
        <p:spPr>
          <a:xfrm>
            <a:off x="7162920" y="3733920"/>
            <a:ext cx="1052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523880"/>
            <a:ext cx="8001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, la crisis de la política ha ocasionado que la representación pierda su fuerza simbólica y se deslegitime, principalmente por la desaprobación de la población hacia los partidos polí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lo ha conducido a volver hacia elementos de la democracia directa, llamada hoy democracia participa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ejemplo es la iniciativa del PT. En Brasil: “Los presupuestos municipales participativo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chas otras iniciativas son materias de estudio y debate en la política act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04920"/>
            <a:ext cx="5638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RISIS DE REPRESENTA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80880"/>
            <a:ext cx="807732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Cuál es el modelo democrático chile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Plena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n Transició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ismo Polític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Incomple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franja_no_02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4290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80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S ORÍ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ropológicamente su origen se facilita por el surgimiento de lo que Dahl denomina la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“lógica de la igualdad”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Esta lógica pudo haberse construido en varias partes a la vez, no necesariamente en la Grecia Antigua como la historia nos comenta. Ella fue sólo el escenario visible de un fenómeno que pudo haberse dado en otros lugares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876920"/>
            <a:ext cx="134460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952880"/>
            <a:ext cx="2286000" cy="169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304920"/>
            <a:ext cx="86108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Qué Es Democracia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CRACIA, VIENE DEL GRIE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S = PUEB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RATOS =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EGO, DEMOCRACIA ETIMOLÓGICAMENTE ES EL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 PUEBLO, PERO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QUIÉN ES El  PUEBLO 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iovanni Sartor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Democracia puede definirse en 3 ámbi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28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rberini4" descr=""/>
          <p:cNvPicPr/>
          <p:nvPr/>
        </p:nvPicPr>
        <p:blipFill>
          <a:blip r:embed="rId1"/>
          <a:stretch/>
        </p:blipFill>
        <p:spPr>
          <a:xfrm>
            <a:off x="7216920" y="0"/>
            <a:ext cx="1927080" cy="129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1447920"/>
            <a:ext cx="8991720" cy="524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PRINCIPIO DE LEGITIMIDAD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 poder deriva del pueblo y se basa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consenso verificado, no presunto, de los ciudadanos. Apela a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participa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SISTEMA POLÍTICO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iene relación con la titularidad del poder y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jercicio del poder. Se apela al concepto de la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Representativ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 entiende que el poder se transmite por medi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anismos representativ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IDEAL</a:t>
            </a:r>
            <a:r>
              <a:rPr b="1" lang="en-US" sz="1800" spc="-1" strike="noStrike">
                <a:solidFill>
                  <a:srgbClr val="000000"/>
                </a:solidFill>
                <a:latin typeface="Arial,Bold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como es en la realidad, no es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la 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como debería s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e define a la democracia en cuanto a los fine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igue. La democracia es ante todo y por encima de todo, un ideal.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 ideal o normativo es constitutivo de la democracia y provee 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sión entre lo ideal y lo real que hace que ésta sea perfec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114800"/>
            <a:ext cx="141588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09480"/>
            <a:ext cx="678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aporte más significativo en cuanto a la estandarización de la definición de democracia, lo realiz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obert DAH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quien adopta una “definición procedimental” estableciendo un cierto número de atributos que una democracia debe presentar. Las definiciones de carácter procedimenta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 detienen en el análisis de los procedimientos democráticos de un régimen y no en las políticas sustantivas o los resultados democráticamente deseables que el régimen genera.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228600"/>
            <a:ext cx="8077320" cy="1760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,Bold"/>
              </a:rPr>
              <a:t>POLIARQUÍA:</a:t>
            </a:r>
            <a:r>
              <a:rPr b="1" lang="es-ES" sz="18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érmino ha sido revitalizado p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obert Dah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1989) el cual recogió en esta definición la noción de un gobierno opuesto a la oligarquía y que se presenta como una democracia que tiene 7 requisitos para 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da poliarqu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096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1- Autoridades públicas ele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2- Elecciones libres y lim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3- Sufragio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4- Derecho a competir por carg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5- Libertad de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6- Información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7- Libertad de 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90720"/>
            <a:ext cx="457200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vita la tiran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recho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bertad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deter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nomía 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tección de intereses personale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ualdad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úsqueda de l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pe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57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Y... ¿Por Qué la Democraci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a%20libertad%20guiando%20al%20pueblo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840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04920"/>
            <a:ext cx="65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Arial"/>
              </a:rPr>
              <a:t>Clasificación de COLLIER y LEVIT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143000"/>
            <a:ext cx="7619760" cy="5028840"/>
            <a:chOff x="685800" y="1143000"/>
            <a:chExt cx="7619760" cy="5028840"/>
          </a:xfrm>
        </p:grpSpPr>
        <p:grpSp>
          <p:nvGrpSpPr>
            <p:cNvPr id="62" name=""/>
            <p:cNvGrpSpPr/>
            <p:nvPr/>
          </p:nvGrpSpPr>
          <p:grpSpPr>
            <a:xfrm>
              <a:off x="691200" y="1148760"/>
              <a:ext cx="7607880" cy="5016240"/>
              <a:chOff x="691200" y="1148760"/>
              <a:chExt cx="7607880" cy="501624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691200" y="1148760"/>
                <a:ext cx="2535840" cy="1009440"/>
                <a:chOff x="691200" y="1148760"/>
                <a:chExt cx="2535840" cy="10094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771480" y="1148760"/>
                  <a:ext cx="237528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912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227400" y="1148760"/>
                <a:ext cx="2535840" cy="1009440"/>
                <a:chOff x="3227400" y="1148760"/>
                <a:chExt cx="2535840" cy="10094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3073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 ampliad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2274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5763600" y="1148760"/>
                <a:ext cx="2535480" cy="1009440"/>
                <a:chOff x="5763600" y="1148760"/>
                <a:chExt cx="2535480" cy="1009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8435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finición Maximal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63600" y="1148760"/>
                  <a:ext cx="253548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91200" y="2158560"/>
                <a:ext cx="2535840" cy="4006440"/>
                <a:chOff x="691200" y="2158560"/>
                <a:chExt cx="2535840" cy="40064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1480" y="2158560"/>
                  <a:ext cx="237528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912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227400" y="2158560"/>
                <a:ext cx="2535840" cy="4006440"/>
                <a:chOff x="3227400" y="2158560"/>
                <a:chExt cx="2535840" cy="40064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3073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2274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763600" y="2158560"/>
                <a:ext cx="2535480" cy="4006440"/>
                <a:chOff x="5763600" y="2158560"/>
                <a:chExt cx="2535480" cy="40064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8435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.- Igualdad socioeconómica y/o altos niveles de participación popular en las instituciones económicas, sociales y políticas; control en los procesos de toma de decisiones y todos los niveles de polít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763600" y="2158560"/>
                  <a:ext cx="253548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685800" y="1143000"/>
              <a:ext cx="7619760" cy="5028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457200"/>
            <a:ext cx="7467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iciones y Consolidación democr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dam Przeworski, considera que una transición es el paso de un régimen no democrático a uno democrático, que implica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rocesos simultáneos: desintegración del ´régimen autoritari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nstauración de la democra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uillermo O’Donnell y Samuel Huntington distinguen 3 tipos de transici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581280"/>
            <a:ext cx="7771680" cy="2895480"/>
            <a:chOff x="762120" y="3581280"/>
            <a:chExt cx="7771680" cy="2895480"/>
          </a:xfrm>
        </p:grpSpPr>
        <p:grpSp>
          <p:nvGrpSpPr>
            <p:cNvPr id="84" name=""/>
            <p:cNvGrpSpPr/>
            <p:nvPr/>
          </p:nvGrpSpPr>
          <p:grpSpPr>
            <a:xfrm>
              <a:off x="774000" y="3589560"/>
              <a:ext cx="7745040" cy="2877480"/>
              <a:chOff x="774000" y="3589560"/>
              <a:chExt cx="7745040" cy="287748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774000" y="3589560"/>
                <a:ext cx="4005720" cy="1133640"/>
                <a:chOff x="774000" y="3589560"/>
                <a:chExt cx="4005720" cy="1133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950040" y="3589560"/>
                  <a:ext cx="365364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’ Donne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00" y="3589560"/>
                  <a:ext cx="400572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780440" y="3589560"/>
                <a:ext cx="3738600" cy="1133640"/>
                <a:chOff x="4780440" y="3589560"/>
                <a:chExt cx="3738600" cy="1133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955400" y="3589560"/>
                  <a:ext cx="338832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untingt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780440" y="3589560"/>
                  <a:ext cx="373860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74000" y="4723560"/>
                <a:ext cx="4005720" cy="1743480"/>
                <a:chOff x="774000" y="4723560"/>
                <a:chExt cx="4005720" cy="17434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950040" y="4723560"/>
                  <a:ext cx="365364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Ruptur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Institucionaliz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Pa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4000" y="4723560"/>
                  <a:ext cx="400572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780440" y="4723560"/>
                <a:ext cx="3738600" cy="1743480"/>
                <a:chOff x="4780440" y="4723560"/>
                <a:chExt cx="3738600" cy="17434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955400" y="4723560"/>
                  <a:ext cx="338832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Transform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Reemplaz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Traspas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780440" y="4723560"/>
                  <a:ext cx="373860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762120" y="3581280"/>
              <a:ext cx="7771680" cy="2895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images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846000" cy="1268280"/>
          </a:xfrm>
          <a:prstGeom prst="rect">
            <a:avLst/>
          </a:prstGeom>
          <a:ln w="0">
            <a:noFill/>
          </a:ln>
        </p:spPr>
      </p:pic>
      <p:pic>
        <p:nvPicPr>
          <p:cNvPr id="99" name="images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9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2:05:48Z</dcterms:created>
  <dc:creator>mtvial</dc:creator>
  <dc:description/>
  <dc:language>en-US</dc:language>
  <cp:lastModifiedBy>mtvial</cp:lastModifiedBy>
  <dcterms:modified xsi:type="dcterms:W3CDTF">2005-06-20T13:53:58Z</dcterms:modified>
  <cp:revision>3</cp:revision>
  <dc:subject/>
  <dc:title>Presentación de PowerPoint</dc:title>
</cp:coreProperties>
</file>