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C47-B6CC-4D62-9313-22DEFA08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001-00F6-43E1-B3F1-D8DBB1B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887-7C65-49AD-A023-CAA2DB1D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F00-5E7F-487F-9755-9592D3D8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7108-A16F-4BC5-BDE6-7E3F08FB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5C4-3C6A-455C-9411-E5FC813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7F38-47A5-48B5-B80B-04C89D4E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133B-7439-43E9-9F11-C6A580A1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99E9-CF77-4AD7-B5F5-8BE3C99F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63A-EBF9-4439-8D1A-7D5B0A5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C980-EA2F-4ED9-85A0-6F38274C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101-690F-46E1-AC6A-2109BB9A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946-451A-4390-859B-A0B626D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E172-78F6-4F75-B08D-649376D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AA3A-8705-4C47-9138-A56BD12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4DA-AF6D-49E0-85F3-E32346A5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6B8B-686D-4A34-8BD4-1A985D7F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62E-A1A1-495D-B53F-B8AF06D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9EA-A070-4281-A298-48BCC920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4C4-3604-48FB-9CD0-EA36DE3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FB9-0F5F-474F-AE18-58E2167F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262-EA40-4111-8E98-4D47840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E70-9A07-429F-A23B-D54022F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B83-FCAD-46E0-9832-5636486D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DC96-5E96-431B-B066-4CE31EDA8A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A84A-3935-4FA3-A965-D86610905A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aniel Grimaldi 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prueba final de tipo obje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839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D. Grimaldi 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(D. Grimaldi ) 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(D. Grimaldi ) 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me ocurre que es muy viej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D. Grimaldi 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 E. Araya 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D. Grimaldi 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 D.Grimaldi)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gestión y las políticas públicas (E. Araya)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sociedad Chilena Post Transición (E. Araya ) 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D. Grimaldi )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 D. Grimaldi )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 D.Grimaldi )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nel: Los jóvenes y la política. 26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ueba  27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Escuela de Gobierno</cp:lastModifiedBy>
  <dcterms:modified xsi:type="dcterms:W3CDTF">2006-01-24T20:40:05Z</dcterms:modified>
  <cp:revision>11</cp:revision>
  <dc:subject/>
  <dc:title>Presentación de PowerPoint</dc:title>
</cp:coreProperties>
</file>