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20F-B5A3-47E7-BD98-7BBFB1D8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F50-9708-4C1C-91E2-6063C6B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FCC-E3C4-49FE-9312-B3813270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220-6F2B-49CA-B098-E2D9D14A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EC5-1DC6-49AE-B6C1-F851CDCA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B01B-E706-4735-8003-AC1D025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D322-30E3-4188-B58D-0CA4D8D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E80-566C-4548-A016-32A5485E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00C-74FD-4974-AB37-4610C5B4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CC71-F93C-451F-92AC-99C010B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E487-D448-4E4A-89DD-408D919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FB4-66EA-41DE-84A0-405F2D4D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4B8-5092-4ADC-86F2-061B0F8C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CB85-5392-4415-9565-6E32E5E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7D0-42F9-445F-9F6C-939637C3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993F-D792-4BC3-B900-8B542F8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9E67-5FC3-42D8-A0C5-14D73C56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084-C63A-4597-B082-6263B2A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50B-B3EC-4F90-90C3-F8B9C53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92B-59CD-4C51-BB1B-36264E2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B96-F520-4C5D-B6C8-40C697C6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290-789A-4056-9AAD-525B1BE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60F-767B-455C-94E6-D15E7A0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FFD-EACC-43CE-9CAB-0304B4A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8921-0850-408C-BF61-264FF5C420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122-212B-4F3F-913D-8C6EE043E4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me ocurre que es muy viej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6-01-24T20:40:05Z</dcterms:modified>
  <cp:revision>11</cp:revision>
  <dc:subject/>
  <dc:title>Presentación de PowerPoint</dc:title>
</cp:coreProperties>
</file>