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CFC-DA15-4990-9ACF-396DEC10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C9C4-2DA6-4815-A9EA-D53F4062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B8C-FB80-44E7-91DD-4EC7A50A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EF6-3B29-434F-BC50-31D39E3A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A19F-7BA4-4321-9F51-0DAE0B65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698C-8A44-41CE-BF9E-EB117154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93C8-CBEA-4FAA-8E93-06D0975E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556B-EF8D-419F-9FB8-F4B6FED7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FF4A-E7F5-4B8B-BF59-56C8CDB8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6545-F9B2-4691-B215-78D7058D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EFBA-7B95-4925-BF31-7F1B47F2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4FC-D634-43D2-9B4F-535A6A30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4151-7722-41E9-B27E-C333C8E5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50CC-0068-44AB-89E0-A1198767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1166-B7E5-42AA-9E26-6EC3081E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135D-2F4B-4248-B74C-CC7B6B15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0AA3-BFBB-443E-8EB9-CB107C88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9A5-291A-4F3D-9979-252FBCD0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9FB-378D-4DA3-85FC-10C5331B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6EA-807E-4A5D-A96D-61081522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693-6E73-4E83-A7F0-74C760A7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562-863B-48D2-ADE8-AE28CEEA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C99-B9AA-483F-B8E8-E747AAE5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D86-81C6-402B-844B-CAA6A014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1736-07C6-4DB8-A655-97EBCF7AB06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C963-2CFD-4A37-8A3D-FE7317942F5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457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0600" y="3075120"/>
            <a:ext cx="915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128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371600"/>
            <a:ext cx="85345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cuela de verano 200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Georgia"/>
              </a:rPr>
              <a:t>FUNDAMENTOS DE LA CIENCIA POLÍTICA Y EL GOBIER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75776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FESORES: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Eduardo Araya M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Daniel Grimaldi 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14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Ciencia Política y 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33720" y="1066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ROGRAMA DEL CU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523880"/>
            <a:ext cx="84582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Objetiv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Curso tiene por f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nalidad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objetivo, entregar a los alumnos elementos para comprender la vida política a partir del estudio de conceptos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básicos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la Ciencia Política y el Gobier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l final del curso el estudiante estará en condiciones de comprender, en términos generales, la problemática, que se plantea en el mundo moderno, en torno al poder y distinguir los elementos valóricos y técnicos que entran en juego en el sistema  político nacional e internacion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Metodolog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clases serán principalmente expositivas con apoyo en material visual y lecturas obligatorias.  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Se estimulará la participación y la discusión a partir de las interrogantes e inquietudes de los estudi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Evaluación: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Se realizará una prueba final de tipo objetiv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4568"/>
                </a:solidFill>
                <a:latin typeface="Times New Roman"/>
              </a:rPr>
              <a:t>T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8839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.- La Polític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actividad humana (E. Araya ) 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conocimiento científico (D. Grimaldi ) 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iovanni Sartori “Elementos de Teoría Política”,(Cap. 10, La Política). Ed. Alianza, Madrid 1992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obert Dahl, “Análisis Político Actual”, Ed. Universitaria de B. Aires, Buenos Aires 1983.  (Cap. I ¿Qué es la Política?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iovanni Sartori, “La Política, lógica y método en las ciencias sociales”, Ed. Fondo de Cultura Económica, México 1987. (Cap VIII “La política como cienci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3880"/>
            <a:ext cx="815328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.- El Pensamiento Político en la Histor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eríodo clásico y Edad Media (D. Grimaldi ) 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Modernidad y Posmodernidad (D. Grimaldi ) 0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otella, Cañeque y Gonzalo (editores), “El Pensamiento Político en sus Textos. De Platón a Marx”, Ed. Tecnos, Madrid, 1998. Paginas: 17-59,  71-80,  87-110, 119-130,  169-183, 195-211,  260-280,  424- 45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Karl Deutsch, “Política y Gobierno”, Ed. Fondo de Cultura Económica México DF, 1977. (Cáp. IV. Imágenes de la Política: Algunas teorías clásicas del comportamiento y la comunidad” Pág. 87-119. 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Se me ocurre que es muy viej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371600"/>
            <a:ext cx="777240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I.- El Sistema Polític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istema Político como modelo (D. Grimaldi ) 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ementos y actores del sistema político ( E. Araya )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ultura Política, Instituciones, Elecciones, Votos, Alianz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democracia (D. Grimaldi ) 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Partidos Políticos ( D.Grimaldi) 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</a:t>
            </a:r>
            <a:r>
              <a:rPr b="1" lang="es-CL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avid Easton, “ El enfoque sistémico de la vida política”  .  en Ramón García Cotarello y Juan Luis Paniagua Soto (comp.)“ Introducción a la Ciencia Política”, Ed. Universidad Nacional de Educación a Distancia, Madrid, 198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Jacques Lagroye, “ Sociología Política”, Ed. Fondo de Cultura Económica, Buenos Aires 1994. (Cap 3. La Política como sistema)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828800"/>
            <a:ext cx="784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143000"/>
            <a:ext cx="8381880" cy="57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V.-  Estado, Gobierno, Administración Públi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Concepto y Evolución, Funciones, Roles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l Estado en el S. XXI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(E, Araya ) 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instituciones de Gobierno y Administración (E. Araya ) 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gestión y las políticas públicas (E. Araya) 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Gianfranco Pasquino, “ Manual de Ciencia Política”, Ed. Alianza Universidad Textos, Madrid 1996. Cap 8 “ Los Gobiernos” por Mauricio Cotta. Pág. 311-35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Manuel Pastor, “Fundamentos de Ciencia Política”, Ed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c Graw-Hill, Madrid 1994.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ap1 “Estado Nación y Gobiern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Hugo Palacios Mejía, “ Introducción a la Teoría del Estado” , Ed. Temis, Bogotá 1980. Cap II ¿Qué es el Estad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ugenio Lahera, “Introducción a las políticas públicas”, Ed. Fondo de Cultura Económica, Santiago 2002. Pág. 13-7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447920"/>
            <a:ext cx="914400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I.- La Sociedad Civil y el Estado en el Siglo XX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¿Qué es la sociedad civil? (E. Araya 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do y Sociedad Civil (E. Araya )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organizaciones civiles y su impacto en las decisiones de gobierno. El fenómeno de la              participación política ( E. Araya ). 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sociedad Chilena Post Transición (E. Araya )  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Eduardo Araya Moreno" La construcción del Estado regulador y la relación Estado sociedad civil" en Revista Estado, Gobierno, Gestión Pública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Revista Chilena de Administración Pública. Año I- N°1 Marzo 20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uís Ortega, “El Estado Como Instrumento de la Sociedad” en Revista Sistema, Madrid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Nuria Cunnill y Luiz  Bresser, “Lo Público No Estatal en La Reforma del Estado”, Ed. Piados, Buenos Aires 1998. (Cap. 1 Entre el Mercado y El Estado: lo público no estat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754380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.- Las Relaciones Internacion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ctores del sistema internacional (D. Grimaldi ) 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Estado nación en crisis ( D. Grimaldi ) 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roblemas emergentes en la política mundial ( D.Grimaldi ) 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anel: Los jóvenes y la política. 26 (Araya-Grimald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rueba  27 (Araya-Grimald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Fulvio Attina , “El sistema Político Global. Introducción a las relaciones internacionales”” Ed. Piados, Barcelona 2001. Cap 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lberto Sepúlveda, “Globalización y Orden Mundial: un análisis político”, en Revista Diplomacia nº 80, Santiago 199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02:39Z</dcterms:created>
  <dc:creator>Escuela de Gobierno</dc:creator>
  <dc:description/>
  <dc:language>en-US</dc:language>
  <cp:lastModifiedBy>Escuela de Gobierno</cp:lastModifiedBy>
  <dcterms:modified xsi:type="dcterms:W3CDTF">2006-01-24T20:40:05Z</dcterms:modified>
  <cp:revision>11</cp:revision>
  <dc:subject/>
  <dc:title>Presentación de PowerPoint</dc:title>
</cp:coreProperties>
</file>