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994-33AF-4306-965B-7DB4EFA7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8E3-1F4D-4552-A58E-587611EB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6B8-5677-4063-8468-7B0A5016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E86-EEB0-4C91-A944-4E7E3468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90DF-9E49-4C64-BE2D-47BCAE72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A808-278B-4D73-8EA5-8EE62601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3B85-49A0-4148-99D3-DA31C21D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C148-150C-4ED7-9865-10ABA478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BB14-76DC-4212-944B-B60FF519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79C1-7C34-4A9C-9243-6FC5395C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F2EF-EE9F-4A5E-AAEA-0B142365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89C-0ED2-4606-B217-6B2D8791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B08B-B990-40C3-AEA6-FA1C899E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9CEA-1222-4F0D-8C37-3C2AA477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7416-2DD8-47C1-B308-DF1270A0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F043-0FF5-41E9-89DB-BBE2D21F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3C18-2776-405B-A898-3F3AAEDC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E7F-3B5D-4F4F-BB04-406A8CC8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679-F665-4340-83B7-7BDB64B2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F2D-B39C-4508-9BF3-3FE968EF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50E-853F-48D4-912C-C6B01916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9D7-62DA-480E-B737-39A014DA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A28-31FB-4F58-BC1A-D82BCC17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5A3-301A-44AA-8A23-C89C35E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004B-7BAD-4E02-89D5-07C6E17CB82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86C1-15AE-4A02-9CCB-9586AA9398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0600" y="3075120"/>
            <a:ext cx="915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128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371600"/>
            <a:ext cx="85345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cuela de verano 200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Georgia"/>
              </a:rPr>
              <a:t>FUNDAMENTOS DE LA CIENCIA POLÍTICA Y EL GOBI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75776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FESORES: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Araya M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aniel Grimaldi 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LABORADORES: - Oscar Drouil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- Diego Barrí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14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Ciencia Política y 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OGRAMA DEL CU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458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Objetiv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Curso tiene por f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nalidad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objetivo, entregar a los alumnos elementos para comprender la vida política a partir del estudio de conceptos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básicos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la Ciencia Política y el Gobi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 final del curso el estudiante estará en condiciones de comprender, en términos generales, la problemática, que se plantea en el mundo moderno, en torno al poder y distinguir los elementos valóricos y técnicos que entran en juego en el sistema  político nacional e internacion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Metodolog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clases serán principalmente expositivas con apoyo en material visual y lecturas obligatorias. 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estimulará la participación y la discusión a partir de las interrogantes e inquietudes de los estudi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Evaluación: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Se realizará una prueba final de tipo objetiv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4568"/>
                </a:solidFill>
                <a:latin typeface="Times New Roman"/>
              </a:rPr>
              <a:t>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8839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.- La Políti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actividad humana (E. Araya ) 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conocimiento científico (D. Grimaldi ) 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n-US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Giovanni Sartori “Elementos de Teoría Política”,(Cap. 10, La Política). Ed. Alianza, Madrid 199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obert Dahl, “Análisis Político Actual”, Ed. Universitaria de B. Aires, Buenos Aires 1983.  (Cap. I ¿Qué es la Política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, “La Política, lógica y método en las ciencias sociales”, Ed. Fondo de Cultura Económica, México 1987. (Cap VIII “La política como cienci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3880"/>
            <a:ext cx="815328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El Pensamiento Político en la Histor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eríodo clásico y Edad Media (D. Grimaldi ) 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odernidad y Posmodernidad (D. Grimaldi ) 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otella, Cañeque y Gonzalo (editores), “El Pensamiento Político en sus Textos. De Platón a Marx”, Ed. Tecnos, Madrid, 1998. Paginas: 17-59,  71-80,  87-110, 119-130,  169-183, 195-211,  260-280,  424- 45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Karl Deutsch, “Política y Gobierno”, Ed. Fondo de Cultura Económica México DF, 1977. (Cáp. IV. Imágenes de la Política: Algunas teorías clásicas del comportamiento y la comunidad” Pág. 87-119. </a:t>
            </a:r>
            <a:r>
              <a:rPr b="1" i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Se me ocurre que es muy viejo</a:t>
            </a:r>
            <a:r>
              <a:rPr b="0" lang="es-ES" sz="1600" spc="-1" strike="noStrike" u="sng">
                <a:solidFill>
                  <a:srgbClr val="ccec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371600"/>
            <a:ext cx="77724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I.- El Sistema Polític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istema Político como modelo (D. Grimaldi ) 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ementos y actores del sistema político ( E. Araya )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ultura Política, Instituciones, Elecciones, Votos, Alianz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democracia (D. Grimaldi ) 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Partidos Políticos ( D.Grimaldi) 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   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David Easton, “ El enfoque sistémico de la vida política”  .  en Ramón García Cotarello y Juan Luis Paniagua Soto (comp.)“ Introducción a la Ciencia Política”, Ed. Universidad Nacional de Educación a Distancia, Madrid, 198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Jacques Lagroye, “ Sociología Política”, Ed. Fondo de Cultura Económica, Buenos Aires 1994. (Cap 3. La Política como sistema)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43000"/>
            <a:ext cx="838188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V.-  Estado, Gobierno, Administraci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Concepto y Evolución, Funciones, Roles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l Estado en el S. XXI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(E, Araya ) 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instituciones de Gobierno y Administración (E. Araya ) 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gestión y las políticas públicas (E. Araya) 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Gianfranco Pasquino, “ Manual de Ciencia Política”, Ed. Alianza Universidad Textos, Madrid 1996. Cap 8 “ Los Gobiernos” por Mauricio Cotta. Pág. 311-35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Manuel Pastor, “Fundamentos de Ciencia Política”, Ed. </a:t>
            </a:r>
            <a:r>
              <a:rPr b="1" lang="en-US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Mc Graw-Hill, Madrid 1994. 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Cap1 “Estado Nación y Gobiern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Hugo Palacios Mejía, “ Introducción a la Teoría del Estado” , Ed. Temis, Bogotá 1980. Cap II ¿Qué es el Estad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ugenio Lahera, “Introducción a las políticas públicas”, Ed. Fondo de Cultura Económica, Santiago 2002. Pág. 13-7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447920"/>
            <a:ext cx="914400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I.- La Sociedad Civil y el Estado en el Siglo XX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¿Qué es la sociedad civil? (E. Araya 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do y Sociedad Civil (E. Araya )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organizaciones civiles y su impacto en las decisiones de gobierno. El fenómeno de la              participación política ( E. Araya ).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sociedad Chilena Post Transición (E. Araya ) 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es-ES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ES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Eduardo Araya Moreno" La construcción del Estado regulador y la relación Estado sociedad civil" en Revista Estado, Gobierno, Gestión Públic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s-ES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Revista Chilena de Administración Pública. Año I- N°1 Marzo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ES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Luís Ortega, “El Estado Como Instrumento de la Sociedad” en Revista Sistema, Madrid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Nuria Cunnill y Luiz  Bresser, “Lo Público No Estatal en La Reforma del Estado”, Ed. Piados, Buenos Aires 1998. (Cap. 1 Entre el Mercado y El Estado: lo público no esta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754380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.- Las Relaciones Internacion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ctores del sistema internacional (D. Grimaldi ) 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Estado nación en crisis ( D. Grimaldi ) 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oblemas emergentes en la política mundial ( D.Grimaldi ) 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nel: Los jóvenes y la política. 26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ueba  27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Fulvio Attina , “El sistema Político Global. Introducción a las relaciones internacionales”” Ed. Piados, Barcelona 2001. Cap 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Alberto Sepúlveda, “Globalización y Orden Mundial: un análisis político”, en Revista Diplomacia nº 80, Santiago 199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02:39Z</dcterms:created>
  <dc:creator>Escuela de Gobierno</dc:creator>
  <dc:description/>
  <dc:language>en-US</dc:language>
  <cp:lastModifiedBy>Escuela de Gobierno</cp:lastModifiedBy>
  <dcterms:modified xsi:type="dcterms:W3CDTF">2005-12-26T18:43:25Z</dcterms:modified>
  <cp:revision>9</cp:revision>
  <dc:subject/>
  <dc:title>Presentación de PowerPoint</dc:title>
</cp:coreProperties>
</file>