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C35-2953-41A7-8359-FF2910B0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D12-8F6E-451A-8EE4-8A6E38A3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407-50E2-47E7-B292-663145B1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483-C1A4-43D9-9AB2-99A41C1D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432A-3CF2-4D24-8CB0-D93720B9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EC69-606F-4F42-A3B9-403BD9D5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EB26-26CC-4E3C-AE88-52A63AD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C6F-16B2-4997-B11B-9ECB6293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4829-B636-40B2-BC42-841E11BB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3E19-26F9-402C-B6BC-52E398E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959D-2A15-46B3-AB63-CA28015B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275-EEB9-4F2A-BC96-D3FE2B3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2C14-6176-4D78-8DAE-61E0820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C077-321B-4D0E-9727-7F27F50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7582-AD55-4A68-ADAB-30606CB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5605-4D89-472A-B929-A316E9F9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EA53-4B78-4ED6-8DBE-F825F19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5EF-7458-473D-BFEF-A9C55940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BDF-D7F1-43F6-9363-3B833AA9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F1D-7C6A-4CA9-A988-02DE417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831-63DF-4B50-858B-4FA7E36A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E31-2494-45E6-B5B1-52142A03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B76-D116-4304-ADED-7A79D02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B77-D20B-47C0-A44E-AE021A98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36A6-017A-4B7A-8AA8-13E024AEFA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8BE-B235-4E18-B622-E41252703B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BORADORES: - Oscar Droui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- Diego Barrí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n-U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Giovanni Sartori “Elementos de Teoría Política”,(Cap. 10, La Política). Ed. Alianza, Madrid 199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Se me ocurre que es muy viejo</a:t>
            </a:r>
            <a:r>
              <a:rPr b="0" lang="es-ES" sz="1600" spc="-1" strike="noStrike" u="sng">
                <a:solidFill>
                  <a:srgbClr val="ccecff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 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Mc Graw-Hill, Madrid 1994.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ES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5-12-26T18:43:25Z</dcterms:modified>
  <cp:revision>9</cp:revision>
  <dc:subject/>
  <dc:title>Presentación de PowerPoint</dc:title>
</cp:coreProperties>
</file>