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C913-2C50-4449-A61F-E7965CD5E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A5CB-0F7A-426B-A9C0-E2C1937E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24B3-FFC6-4E72-AB06-9F865F223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D73C-6A7E-4A09-82FA-C3CBAAADF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1B02-CCE5-48B8-AAA2-2F30B791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5369-B205-4557-A1D7-D83FE4BF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5F8D-C6B7-4237-9A90-F60B1E81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6542-75E0-4902-8289-879A3FFC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425D-79C7-4729-AE1A-856DE74C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2A66-A5F9-4A43-82B2-D5E191D8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4B64-F937-4D0A-BE33-3168E27E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9828-F313-456A-989F-58692D1D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B8CA-3ED3-4C5C-A640-B5A3C6CC9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faculty.umb.edu/stephen_silliman/P565e-Bourdieu.jpg&amp;imgrefurl=http://www.faculty.umb.edu/stephen_silliman/Anth565.html&amp;h=189&amp;w=161&amp;sz=25&amp;tbnid=XP8TI-mNQy0J:&amp;tbnh=96&amp;tbnw=82&amp;start=4&amp;prev=/images%3Fq%3DBourdieu%26hl%3Des%26lr%3D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chicureo.com/cronica/imagenes/2004/03/Ricardo_Lagos.jpg&amp;imgrefurl=http://chicureo.com/cronica/bronce.shtml&amp;h=211&amp;w=170&amp;sz=11&amp;tbnid=AgTTktQH8tUJ:&amp;tbnh=101&amp;tbnw=81&amp;start=13&amp;prev=/images%3Fq%3DRicardo%2BLagos%26hl%3Des%26lr%3D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l/imgres?imgurl=http://www.cinelatinotrieste.org/fest2003/imgts/allende.jpg&amp;imgrefurl=http://www.cinelatinotrieste.org/2003.html&amp;h=242&amp;w=325&amp;sz=19&amp;tbnid=JS9piwMH9HcJ:&amp;tbnh=84&amp;tbnw=113&amp;start=7&amp;prev=/images%3Fq%3DAllende%26hl%3Des%26lr%3D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academic.reed.edu/poli_sci/ppwls/dahl_pps_site.jpg&amp;imgrefurl=http://academic.reed.edu/poli_sci/ppw.html&amp;h=240&amp;w=160&amp;sz=13&amp;tbnid=2knjeu8l0HEJ:&amp;tbnh=104&amp;tbnw=69&amp;start=3&amp;prev=/images%3Fq%3Drobert%2BDahl%26hl%3Des%26lr%3D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24382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A  DEMOCRAC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58672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NIEL GRIMALDI T. Administrador Público U. de Chile. Magíster © en Ciencia Polí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80880" y="685800"/>
            <a:ext cx="7620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ara Linz Y Stepan, Una Democracia Está Consolidada Cuando Se Cumplen Estas 5 Cond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1. Condiciones que permitan el desarrollo de una sociedad civil libre y acti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2. Debe existir una sociedad política relativamente autó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3. En todo el territorio nacional los actores políticos y estatales deben estar sujetos al imperio de la le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4. Una estructura burocrática útil para el Estado democrát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5. Debe existir una sociedad económica institucionaliz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Hablamos de consolidación democrática cuando en el sistema político la democracia pasa a ser  “The only game in town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linz" descr="Dr.philos. h.c. professor emeritus Juan J. Linz"/>
          <p:cNvPicPr/>
          <p:nvPr/>
        </p:nvPicPr>
        <p:blipFill>
          <a:blip r:embed="rId1"/>
          <a:stretch/>
        </p:blipFill>
        <p:spPr>
          <a:xfrm>
            <a:off x="7315200" y="4724280"/>
            <a:ext cx="155412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3520" y="1371600"/>
            <a:ext cx="8610480" cy="24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EMOCRACIA REPRESENT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tradición democrática más básica se basa en el principio de representación, que hoy constituye un problema de análisis en la ciencia polít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representación significa tener el poder de hablar en nombre de ot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3809880"/>
            <a:ext cx="8458200" cy="2669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ourdieu considera a la representación como </a:t>
            </a:r>
            <a:r>
              <a:rPr b="1" i="1" lang="es-ES" sz="2400" spc="-1" strike="noStrike">
                <a:solidFill>
                  <a:srgbClr val="000000"/>
                </a:solidFill>
                <a:latin typeface="Arial,BoldItalic"/>
              </a:rPr>
              <a:t>“un golpe de fuerza simbólico”,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e tiene un componente ficticio, ya que hasta en las democracias más consolidadas se da la siguiente paradoj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Cómo es posible que una sola persona represente a t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grup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28600"/>
            <a:ext cx="12366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920" y="380880"/>
            <a:ext cx="838188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¿A quién se representa: al grupo en su unidad o a la sociedad reconociendo la diversidad en sus component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ousseau: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la unidad social (voluntad gene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cke: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la diversidad (en el parlam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5486400"/>
            <a:ext cx="8077320" cy="10159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representatividad en la historia ha sido la lucha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rar hablar en nombre de 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rousseau" descr=""/>
          <p:cNvPicPr/>
          <p:nvPr/>
        </p:nvPicPr>
        <p:blipFill>
          <a:blip r:embed="rId1"/>
          <a:stretch/>
        </p:blipFill>
        <p:spPr>
          <a:xfrm>
            <a:off x="7238880" y="1981080"/>
            <a:ext cx="949320" cy="1295640"/>
          </a:xfrm>
          <a:prstGeom prst="rect">
            <a:avLst/>
          </a:prstGeom>
          <a:ln w="0">
            <a:noFill/>
          </a:ln>
        </p:spPr>
      </p:pic>
      <p:pic>
        <p:nvPicPr>
          <p:cNvPr id="108" name="locke" descr=""/>
          <p:cNvPicPr/>
          <p:nvPr/>
        </p:nvPicPr>
        <p:blipFill>
          <a:blip r:embed="rId2"/>
          <a:stretch/>
        </p:blipFill>
        <p:spPr>
          <a:xfrm>
            <a:off x="7162920" y="3733920"/>
            <a:ext cx="1052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33520" y="1523880"/>
            <a:ext cx="800100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oy , la crisis de la política ha ocasionado que la representación pierda su fuerza simbólica y se deslegitime, principalmente por la desaprobación de la población hacia los partidos polít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lo ha conducido a volver hacia elementos de la democracia directa, llamada hoy democracia participati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 ejemplo es la iniciativa del PT. En Brasil: “Los presupuestos municipales participativos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uchas otras iniciativas son materias de estudio y debate en la política actu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304920"/>
            <a:ext cx="56386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CRISIS DE REPRESENTATIV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28600" y="380880"/>
            <a:ext cx="8077320" cy="64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¿Cuál es el modelo democrático chile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Democracia Plena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En Transició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Transformismo Político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Democracia Incomplet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franja_no_02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342900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380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S ORÍ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75248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ntropológicamente su origen se facilita por el surgimiento de lo que Dahl denomina la </a:t>
            </a: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“lógica de la igualdad”.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Esta lógica pudo haberse construido en varias partes a la vez, no necesariamente en la Grecia Antigua como la historia nos comenta. Ella fue sólo el escenario visible de un fenómeno que pudo haberse dado en otros lugares de la tier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4876920"/>
            <a:ext cx="1344600" cy="1676160"/>
          </a:xfrm>
          <a:prstGeom prst="rect">
            <a:avLst/>
          </a:prstGeom>
          <a:ln w="0">
            <a:noFill/>
          </a:ln>
        </p:spPr>
      </p:pic>
      <p:pic>
        <p:nvPicPr>
          <p:cNvPr id="47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53080" y="4952880"/>
            <a:ext cx="2286000" cy="1698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280" y="304920"/>
            <a:ext cx="86108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¿Qué Es Democracia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MOCRACIA, VIENE DEL GRIEG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MOS = PUEB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RATOS = GOBI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UEGO, DEMOCRACIA ETIMOLÓGICAMENTE ES EL GOBI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 PUEBLO, PERO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¿QUIÉN ES El  PUEBLO ?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522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iovanni Sartor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la Democracia puede definirse en 3 ámbit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0" y="286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barberini4" descr=""/>
          <p:cNvPicPr/>
          <p:nvPr/>
        </p:nvPicPr>
        <p:blipFill>
          <a:blip r:embed="rId1"/>
          <a:stretch/>
        </p:blipFill>
        <p:spPr>
          <a:xfrm>
            <a:off x="7216920" y="0"/>
            <a:ext cx="1927080" cy="1290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2280" y="1447920"/>
            <a:ext cx="8991720" cy="52459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,Bold"/>
              </a:rPr>
              <a:t>COMO PRINCIPIO DE LEGITIMIDAD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l poder deriva del pueblo y se basa 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 consenso verificado, no presunto, de los ciudadanos. Apela a 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cracia participativ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,Bold"/>
              </a:rPr>
              <a:t>COMO SISTEMA POLÍTICO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iene relación con la titularidad del poder y 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jercicio del poder. Se apela al concepto de la </a:t>
            </a:r>
            <a:r>
              <a:rPr b="1" i="1" lang="en-US" sz="1600" spc="-1" strike="noStrike">
                <a:solidFill>
                  <a:srgbClr val="000000"/>
                </a:solidFill>
                <a:latin typeface="Arial,Italic"/>
              </a:rPr>
              <a:t>Democra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,Italic"/>
              </a:rPr>
              <a:t>Representativa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e entiende que el poder se transmite por medio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canismos representativ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,Bold"/>
              </a:rPr>
              <a:t>COMO IDEAL</a:t>
            </a:r>
            <a:r>
              <a:rPr b="1" lang="en-US" sz="1800" spc="-1" strike="noStrike">
                <a:solidFill>
                  <a:srgbClr val="000000"/>
                </a:solidFill>
                <a:latin typeface="Arial,Bold"/>
              </a:rPr>
              <a:t>:</a:t>
            </a:r>
            <a:r>
              <a:rPr b="1" lang="en-US" sz="1600" spc="-1" strike="noStrike">
                <a:solidFill>
                  <a:srgbClr val="000000"/>
                </a:solidFill>
                <a:latin typeface="Arial,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cracia como es en la realidad, no es </a:t>
            </a:r>
            <a:r>
              <a:rPr b="1" i="1" lang="en-US" sz="1600" spc="-1" strike="noStrike">
                <a:solidFill>
                  <a:srgbClr val="000000"/>
                </a:solidFill>
                <a:latin typeface="Arial,Italic"/>
              </a:rPr>
              <a:t>la democra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,Italic"/>
              </a:rPr>
              <a:t>como debería s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Se define a la democracia en cuanto a los fines 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sigue. La democracia es ante todo y por encima de todo, un ideal. 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mento ideal o normativo es constitutivo de la democracia y provee u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nsión entre lo ideal y lo real que hace que ésta sea perfect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91520" y="4114800"/>
            <a:ext cx="1415880" cy="2133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920" y="609480"/>
            <a:ext cx="6781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l aporte más significativo en cuanto a la estandarización de la definición de democracia, lo realiza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Robert DAHL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quien adopta una “definición procedimental” estableciendo un cierto número de atributos que una democracia debe presentar. Las definiciones de carácter procedimental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 detienen en el análisis de los procedimientos democráticos de un régimen y no en las políticas sustantivas o los resultados democráticamente deseables que el régimen genera.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52280" y="228600"/>
            <a:ext cx="8077320" cy="1760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,Bold"/>
              </a:rPr>
              <a:t>POLIARQUÍA:</a:t>
            </a:r>
            <a:r>
              <a:rPr b="1" lang="es-ES" sz="1800" spc="-1" strike="noStrike">
                <a:solidFill>
                  <a:srgbClr val="000000"/>
                </a:solidFill>
                <a:latin typeface="Arial,Bold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término ha sido revitalizado por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obert Dah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1989) el cual recogió en esta definición la noción de un gobierno opuesto a la oligarquía y que se presenta como una democracia que tiene 7 requisitos para 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iderada poliarqu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2209680"/>
            <a:ext cx="86868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,Bold"/>
              </a:rPr>
              <a:t>1- Autoridades públicas elec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,Bold"/>
              </a:rPr>
              <a:t>2- Elecciones libres y limp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,Bold"/>
              </a:rPr>
              <a:t>3- Sufragio uni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,Bold"/>
              </a:rPr>
              <a:t>4- Derecho a competir por cargos públ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,Bold"/>
              </a:rPr>
              <a:t>5- Libertad de expre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,Bold"/>
              </a:rPr>
              <a:t>6- Información Altern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,Bold"/>
              </a:rPr>
              <a:t>7- Libertad de aso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990720"/>
            <a:ext cx="4572000" cy="50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vita la tiran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erechos esen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bertad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utodetermin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utonomía m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esarrollo hum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tección de intereses personales esen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gualdad polí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úsqueda de la p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sper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4572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Y... ¿Por Qué la Democracia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la%20libertad%20guiando%20al%20pueblo" descr=""/>
          <p:cNvPicPr/>
          <p:nvPr/>
        </p:nvPicPr>
        <p:blipFill>
          <a:blip r:embed="rId1"/>
          <a:stretch/>
        </p:blipFill>
        <p:spPr>
          <a:xfrm>
            <a:off x="4800600" y="1219320"/>
            <a:ext cx="384012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304920"/>
            <a:ext cx="65530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  <a:ea typeface="Arial"/>
              </a:rPr>
              <a:t>Clasificación de COLLIER y LEVITS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85800" y="1143000"/>
            <a:ext cx="7619760" cy="5028840"/>
            <a:chOff x="685800" y="1143000"/>
            <a:chExt cx="7619760" cy="5028840"/>
          </a:xfrm>
        </p:grpSpPr>
        <p:grpSp>
          <p:nvGrpSpPr>
            <p:cNvPr id="62" name=""/>
            <p:cNvGrpSpPr/>
            <p:nvPr/>
          </p:nvGrpSpPr>
          <p:grpSpPr>
            <a:xfrm>
              <a:off x="691200" y="1148760"/>
              <a:ext cx="7607880" cy="5016240"/>
              <a:chOff x="691200" y="1148760"/>
              <a:chExt cx="7607880" cy="5016240"/>
            </a:xfrm>
          </p:grpSpPr>
          <p:grpSp>
            <p:nvGrpSpPr>
              <p:cNvPr id="63" name=""/>
              <p:cNvGrpSpPr/>
              <p:nvPr/>
            </p:nvGrpSpPr>
            <p:grpSpPr>
              <a:xfrm>
                <a:off x="691200" y="1148760"/>
                <a:ext cx="2535840" cy="1009440"/>
                <a:chOff x="691200" y="1148760"/>
                <a:chExt cx="2535840" cy="100944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771480" y="1148760"/>
                  <a:ext cx="2375280" cy="100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ínimo procediment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691200" y="1148760"/>
                  <a:ext cx="2535840" cy="100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3227400" y="1148760"/>
                <a:ext cx="2535840" cy="1009440"/>
                <a:chOff x="3227400" y="1148760"/>
                <a:chExt cx="2535840" cy="100944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3307320" y="1148760"/>
                  <a:ext cx="2375640" cy="100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ínimo procedimental ampliad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3227400" y="1148760"/>
                  <a:ext cx="2535840" cy="100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5763600" y="1148760"/>
                <a:ext cx="2535480" cy="1009440"/>
                <a:chOff x="5763600" y="1148760"/>
                <a:chExt cx="2535480" cy="100944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5843520" y="1148760"/>
                  <a:ext cx="2375640" cy="100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finición Maximalist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5763600" y="1148760"/>
                  <a:ext cx="2535480" cy="100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91200" y="2158560"/>
                <a:ext cx="2535840" cy="4006440"/>
                <a:chOff x="691200" y="2158560"/>
                <a:chExt cx="2535840" cy="400644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771480" y="2158560"/>
                  <a:ext cx="2375280" cy="400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.- Elecciones Libr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2.- Sufragio Universa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3.- Participación Plen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4.- Libertades Civil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691200" y="2158560"/>
                  <a:ext cx="2535840" cy="400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3227400" y="2158560"/>
                <a:ext cx="2535840" cy="4006440"/>
                <a:chOff x="3227400" y="2158560"/>
                <a:chExt cx="2535840" cy="400644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3307320" y="2158560"/>
                  <a:ext cx="2375640" cy="400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.- Elecciones Libr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2.- Sufragio Universa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3.- Participación Plen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4.- Libertades Civil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5.- Los gobernantes electos tienen poder efectivo para goberna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227400" y="2158560"/>
                  <a:ext cx="2535840" cy="400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5763600" y="2158560"/>
                <a:ext cx="2535480" cy="4006440"/>
                <a:chOff x="5763600" y="2158560"/>
                <a:chExt cx="2535480" cy="400644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5843520" y="2158560"/>
                  <a:ext cx="2375640" cy="400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.- Elecciones Libr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2.- Sufragio Universa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3.- Participación Plen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4.- Libertades Civil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5.- Los gobernantes electos tienen poder efectivo para goberna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6.- Igualdad socioeconómica y/o altos niveles de participación popular en las instituciones económicas, sociales y políticas; control en los procesos de toma de decisiones y todos los niveles de política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5763600" y="2158560"/>
                  <a:ext cx="2535480" cy="400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1" name=""/>
            <p:cNvSpPr/>
            <p:nvPr/>
          </p:nvSpPr>
          <p:spPr>
            <a:xfrm>
              <a:off x="685800" y="1143000"/>
              <a:ext cx="7619760" cy="5028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90720" y="457200"/>
            <a:ext cx="74674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ransiciones y Consolidación democr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Adam Przeworski, considera que una transición es el paso de un régimen no democrático a uno democrático, que implica 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procesos simultáneos: desintegración del ´régimen autoritario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instauración de la democrac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Guillermo O’Donnell y Samuel Huntington distinguen 3 tipos de transicion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762120" y="3581280"/>
            <a:ext cx="7771680" cy="2895480"/>
            <a:chOff x="762120" y="3581280"/>
            <a:chExt cx="7771680" cy="2895480"/>
          </a:xfrm>
        </p:grpSpPr>
        <p:grpSp>
          <p:nvGrpSpPr>
            <p:cNvPr id="84" name=""/>
            <p:cNvGrpSpPr/>
            <p:nvPr/>
          </p:nvGrpSpPr>
          <p:grpSpPr>
            <a:xfrm>
              <a:off x="774000" y="3589560"/>
              <a:ext cx="7745040" cy="2877480"/>
              <a:chOff x="774000" y="3589560"/>
              <a:chExt cx="7745040" cy="287748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774000" y="3589560"/>
                <a:ext cx="4005720" cy="1133640"/>
                <a:chOff x="774000" y="3589560"/>
                <a:chExt cx="4005720" cy="113364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950040" y="3589560"/>
                  <a:ext cx="3653640" cy="113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’ Donnel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74000" y="3589560"/>
                  <a:ext cx="4005720" cy="113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4780440" y="3589560"/>
                <a:ext cx="3738600" cy="1133640"/>
                <a:chOff x="4780440" y="3589560"/>
                <a:chExt cx="3738600" cy="113364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4955400" y="3589560"/>
                  <a:ext cx="3388320" cy="113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untingto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4780440" y="3589560"/>
                  <a:ext cx="3738600" cy="113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774000" y="4723560"/>
                <a:ext cx="4005720" cy="1743480"/>
                <a:chOff x="774000" y="4723560"/>
                <a:chExt cx="4005720" cy="174348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950040" y="4723560"/>
                  <a:ext cx="3653640" cy="174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- Rupturist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- Institucionalizad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- Pactad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774000" y="4723560"/>
                  <a:ext cx="4005720" cy="174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4780440" y="4723560"/>
                <a:ext cx="3738600" cy="1743480"/>
                <a:chOff x="4780440" y="4723560"/>
                <a:chExt cx="3738600" cy="174348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4955400" y="4723560"/>
                  <a:ext cx="3388320" cy="174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- Transformació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- Reemplaz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- Traspas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780440" y="4723560"/>
                  <a:ext cx="3738600" cy="174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7" name=""/>
            <p:cNvSpPr/>
            <p:nvPr/>
          </p:nvSpPr>
          <p:spPr>
            <a:xfrm>
              <a:off x="762120" y="3581280"/>
              <a:ext cx="7771680" cy="28954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8" name="images" descr=""/>
          <p:cNvPicPr/>
          <p:nvPr/>
        </p:nvPicPr>
        <p:blipFill>
          <a:blip r:embed="rId1"/>
          <a:stretch/>
        </p:blipFill>
        <p:spPr>
          <a:xfrm>
            <a:off x="3657600" y="3505320"/>
            <a:ext cx="846000" cy="1268280"/>
          </a:xfrm>
          <a:prstGeom prst="rect">
            <a:avLst/>
          </a:prstGeom>
          <a:ln w="0">
            <a:noFill/>
          </a:ln>
        </p:spPr>
      </p:pic>
      <p:pic>
        <p:nvPicPr>
          <p:cNvPr id="99" name="images" descr=""/>
          <p:cNvPicPr/>
          <p:nvPr/>
        </p:nvPicPr>
        <p:blipFill>
          <a:blip r:embed="rId2"/>
          <a:stretch/>
        </p:blipFill>
        <p:spPr>
          <a:xfrm>
            <a:off x="7467480" y="3429000"/>
            <a:ext cx="943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22:05:48Z</dcterms:created>
  <dc:creator>mtvial</dc:creator>
  <dc:description/>
  <dc:language>en-US</dc:language>
  <cp:lastModifiedBy>mtvial</cp:lastModifiedBy>
  <dcterms:modified xsi:type="dcterms:W3CDTF">2005-06-20T13:53:58Z</dcterms:modified>
  <cp:revision>3</cp:revision>
  <dc:subject/>
  <dc:title>Presentación de PowerPoint</dc:title>
</cp:coreProperties>
</file>