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2CA93-271F-46E9-9D45-DDDD25CE8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136F-AEA7-4DFC-824E-556C1ED76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CA3-6927-434A-BB2B-A4393B319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D319C-423C-4708-8572-40AD9FA47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B94B-0BA8-482F-AF8A-69935E91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4AE8-B203-4AA6-9D27-41038335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8FD88-F681-4CFB-AB39-D792963C2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C7AD-67F7-43D4-B25F-03D90911C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5A99-5BB8-4C75-BA68-EB3474C08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E76-505C-4F4F-B530-C0FC7AB9F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F393-7453-4878-9E8C-8D04365BB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33384-3ABF-41DB-8959-7266541F2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A9F4AD-C9C3-4BD5-97FF-63913120A0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www.faculty.umb.edu/stephen_silliman/P565e-Bourdieu.jpg&amp;imgrefurl=http://www.faculty.umb.edu/stephen_silliman/Anth565.html&amp;h=189&amp;w=161&amp;sz=25&amp;tbnid=XP8TI-mNQy0J:&amp;tbnh=96&amp;tbnw=82&amp;start=4&amp;prev=/images%3Fq%3DBourdieu%26hl%3Des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chicureo.com/cronica/imagenes/2004/03/Ricardo_Lagos.jpg&amp;imgrefurl=http://chicureo.com/cronica/bronce.shtml&amp;h=211&amp;w=170&amp;sz=11&amp;tbnid=AgTTktQH8tUJ:&amp;tbnh=101&amp;tbnw=81&amp;start=13&amp;prev=/images%3Fq%3DRicardo%2BLagos%26hl%3Des%26lr%3D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ages.google.cl/imgres?imgurl=http://www.cinelatinotrieste.org/fest2003/imgts/allende.jpg&amp;imgrefurl=http://www.cinelatinotrieste.org/2003.html&amp;h=242&amp;w=325&amp;sz=19&amp;tbnid=JS9piwMH9HcJ:&amp;tbnh=84&amp;tbnw=113&amp;start=7&amp;prev=/images%3Fq%3DAllende%26hl%3Des%26lr%3D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ages.google.cl/imgres?imgurl=http://academic.reed.edu/poli_sci/ppwls/dahl_pps_site.jpg&amp;imgrefurl=http://academic.reed.edu/poli_sci/ppw.html&amp;h=240&amp;w=160&amp;sz=13&amp;tbnid=2knjeu8l0HEJ:&amp;tbnh=104&amp;tbnw=69&amp;start=3&amp;prev=/images%3Fq%3Drobert%2BDahl%26hl%3Des%26lr%3D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90720" y="2438280"/>
            <a:ext cx="723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LA  DEMOCRAC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28600" y="5867280"/>
            <a:ext cx="784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NIEL GRIMALDI T. Administrador Público U. de Chile. Magíster © en Ciencia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80880" y="685800"/>
            <a:ext cx="76201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  <a:ea typeface="Arial"/>
              </a:rPr>
              <a:t>Para Linz Y Stepan, Una Democracia Está Consolidada Cuando Se Cumplen Estas 5 Condicion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1. Condiciones que permitan el desarrollo de una sociedad civil libre y ac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2. Debe existir una sociedad política relativamente autóno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3. En todo el territorio nacional los actores políticos y estatales deben estar sujetos al imperio de la le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4. Una estructura burocrática útil para el Estado democrátic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5. Debe existir una sociedad económica institucionaliz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  <a:ea typeface="Arial"/>
              </a:rPr>
              <a:t>Hablamos de consolidación democrática cuando en el sistema político la democracia pasa a ser  “The only game in tow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linz" descr="Dr.philos. h.c. professor emeritus Juan J. Linz"/>
          <p:cNvPicPr/>
          <p:nvPr/>
        </p:nvPicPr>
        <p:blipFill>
          <a:blip r:embed="rId1"/>
          <a:stretch/>
        </p:blipFill>
        <p:spPr>
          <a:xfrm>
            <a:off x="7315200" y="4724280"/>
            <a:ext cx="155412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533520" y="1371600"/>
            <a:ext cx="8610480" cy="24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DEMOCRACIA REPRESENT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tradición democrática más básica se basa en el principio de representación, que hoy constituye un problema de análisis en la ciencia políti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 representación significa tener el poder de hablar en nombre de ot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809880"/>
            <a:ext cx="8458200" cy="2669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Bourdieu considera a la representación como </a:t>
            </a:r>
            <a:r>
              <a:rPr b="1" i="1" lang="es-ES" sz="2400" spc="-1" strike="noStrike">
                <a:solidFill>
                  <a:srgbClr val="000000"/>
                </a:solidFill>
                <a:latin typeface="Arial,BoldItalic"/>
              </a:rPr>
              <a:t>“un golpe de fuerza simbólico”,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que tiene un componente ficticio, ya que hasta en las democracias más consolidadas se da la siguiente paradoj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Cómo es posible que una sola persona represente a to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un grup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920" y="228600"/>
            <a:ext cx="123660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380880"/>
            <a:ext cx="8381880" cy="48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¿A quién se representa: al grupo en su unidad o a la sociedad reconociendo la diversidad en sus componentes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ousseau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unidad social (voluntad gene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ocke: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A la diversidad (en el parlament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5486400"/>
            <a:ext cx="8077320" cy="101592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representatividad en la historia ha sido la lucha p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grar hablar en nombre de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rousseau" descr=""/>
          <p:cNvPicPr/>
          <p:nvPr/>
        </p:nvPicPr>
        <p:blipFill>
          <a:blip r:embed="rId1"/>
          <a:stretch/>
        </p:blipFill>
        <p:spPr>
          <a:xfrm>
            <a:off x="7238880" y="1981080"/>
            <a:ext cx="949320" cy="1295640"/>
          </a:xfrm>
          <a:prstGeom prst="rect">
            <a:avLst/>
          </a:prstGeom>
          <a:ln w="0">
            <a:noFill/>
          </a:ln>
        </p:spPr>
      </p:pic>
      <p:pic>
        <p:nvPicPr>
          <p:cNvPr id="108" name="locke" descr=""/>
          <p:cNvPicPr/>
          <p:nvPr/>
        </p:nvPicPr>
        <p:blipFill>
          <a:blip r:embed="rId2"/>
          <a:stretch/>
        </p:blipFill>
        <p:spPr>
          <a:xfrm>
            <a:off x="7162920" y="3733920"/>
            <a:ext cx="1052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33520" y="1523880"/>
            <a:ext cx="8001000" cy="42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oy , la crisis de la política ha ocasionado que la representación pierda su fuerza simbólica y se deslegitime, principalmente por la desaprobación de la población hacia los partidos polític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llo ha conducido a volver hacia elementos de la democracia directa, llamada hoy democracia participativ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Un ejemplo es la iniciativa del PT. En Brasil: “Los presupuestos municipales participativos.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uchas otras iniciativas son materias de estudio y debate en la política actu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7920" y="304920"/>
            <a:ext cx="56386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33"/>
                </a:solidFill>
                <a:latin typeface="Arial"/>
              </a:rPr>
              <a:t>CRISIS DE REPRESENTATIV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28600" y="380880"/>
            <a:ext cx="8077320" cy="64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¿Cuál es el modelo democrático chilen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Plena 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En Transición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Transformismo Político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Arial"/>
              </a:rPr>
              <a:t>Democracia Incompleta</a:t>
            </a: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 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franja_no_02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429000" cy="24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80880" y="380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S ORÍGE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1752480"/>
            <a:ext cx="8001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Antropológicamente su origen se facilita por el surgimiento de lo que Dahl denomina la </a:t>
            </a:r>
            <a:r>
              <a:rPr b="0" lang="es-ES" sz="2400" spc="-1" strike="noStrike">
                <a:solidFill>
                  <a:srgbClr val="ffff66"/>
                </a:solidFill>
                <a:latin typeface="Times New Roman"/>
              </a:rPr>
              <a:t>“lógica de la igualdad”.</a:t>
            </a: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  Esta lógica pudo haberse construido en varias partes a la vez, no necesariamente en la Grecia Antigua como la historia nos comenta. Ella fue sólo el escenario visible de un fenómeno que pudo haberse dado en otros lugares de la tier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62120" y="4876920"/>
            <a:ext cx="1344600" cy="1676160"/>
          </a:xfrm>
          <a:prstGeom prst="rect">
            <a:avLst/>
          </a:prstGeom>
          <a:ln w="0">
            <a:noFill/>
          </a:ln>
        </p:spPr>
      </p:pic>
      <p:pic>
        <p:nvPicPr>
          <p:cNvPr id="47" name="images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553080" y="4952880"/>
            <a:ext cx="2286000" cy="1698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52280" y="304920"/>
            <a:ext cx="8610840" cy="46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¿Qué Es Democracia?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CRACIA, VIENE DEL GRIEG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MOS = PUEB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KRATOS =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UEGO, DEMOCRACIA ETIMOLÓGICAMENTE ES EL GOBIER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EL PUEBLO, PERO.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¿QUIÉN ES El  PUEBLO ?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15228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ara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Giovanni Sartori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la Democracia puede definirse en 3 ámbit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0" y="286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barberini4" descr=""/>
          <p:cNvPicPr/>
          <p:nvPr/>
        </p:nvPicPr>
        <p:blipFill>
          <a:blip r:embed="rId1"/>
          <a:stretch/>
        </p:blipFill>
        <p:spPr>
          <a:xfrm>
            <a:off x="7216920" y="0"/>
            <a:ext cx="1927080" cy="12906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52280" y="1447920"/>
            <a:ext cx="8991720" cy="52459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PRINCIPIO DE LEGITIMIDAD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l poder deriva del pueblo y se basa 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 consenso verificado, no presunto, de los ciudadanos. Apela a 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particip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SISTEMA POLÍTICO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tiene relación con la titularidad del poder y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jercicio del poder. Se apela al concepto de la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Representativ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e entiende que el poder se transmite por medi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ecanismos representativ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,Bold"/>
              </a:rPr>
              <a:t>COMO IDEAL</a:t>
            </a:r>
            <a:r>
              <a:rPr b="1" lang="en-US" sz="1800" spc="-1" strike="noStrike">
                <a:solidFill>
                  <a:srgbClr val="000000"/>
                </a:solidFill>
                <a:latin typeface="Arial,Bold"/>
              </a:rPr>
              <a:t>:</a:t>
            </a:r>
            <a:r>
              <a:rPr b="1" lang="en-US" sz="16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mocracia como es en la realidad, no es </a:t>
            </a: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la democ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,Italic"/>
              </a:rPr>
              <a:t>como debería se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 Se define a la democracia en cuanto a los fines q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ersigue. La democracia es ante todo y por encima de todo, un ideal.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emento ideal o normativo es constitutivo de la democracia y provee u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nsión entre lo ideal y lo real que hace que ésta sea perfect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images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91520" y="4114800"/>
            <a:ext cx="1415880" cy="2133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04920" y="609480"/>
            <a:ext cx="67816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El aporte más significativo en cuanto a la estandarización de la definición de democracia, lo realiza </a:t>
            </a:r>
            <a:r>
              <a:rPr b="1" i="1" lang="es-ES" sz="2400" spc="-1" strike="noStrike">
                <a:solidFill>
                  <a:srgbClr val="ffffff"/>
                </a:solidFill>
                <a:latin typeface="Arial"/>
                <a:ea typeface="Arial"/>
              </a:rPr>
              <a:t>Robert DAHL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Arial"/>
              </a:rPr>
              <a:t> quien adopta una “definición procedimental” estableciendo un cierto número de atributos que una democracia debe presentar. Las definiciones de carácter procedimental 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e detienen en el análisis de los procedimientos democráticos de un régimen y no en las políticas sustantivas o los resultados democráticamente deseables que el régimen genera.</a:t>
            </a:r>
            <a:r>
              <a:rPr b="0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52280" y="228600"/>
            <a:ext cx="8077320" cy="1760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,Bold"/>
              </a:rPr>
              <a:t>POLIARQUÍA:</a:t>
            </a:r>
            <a:r>
              <a:rPr b="1" lang="es-ES" sz="1800" spc="-1" strike="noStrike">
                <a:solidFill>
                  <a:srgbClr val="000000"/>
                </a:solidFill>
                <a:latin typeface="Arial,Bold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l término ha sido revitalizado por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obert Dahl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(1989) el cual recogió en esta definición la noción de un gobierno opuesto a la oligarquía y que se presenta como una democracia que tiene 7 requisitos para s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nsiderada poliarqu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2209680"/>
            <a:ext cx="86868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1- Autoridades públicas elec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2- Elecciones libres y limp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3- Sufragio univers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4- Derecho a competir por cargos públ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5- Libertad de expre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6- Información Alterna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,Bold"/>
              </a:rPr>
              <a:t>7- Libertad de asoci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990720"/>
            <a:ext cx="4572000" cy="50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vita la tiran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recho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Libertad gen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determin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utonomía mo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sarrollo human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tección de intereses personales esen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Igualdad polít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úsqueda de l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sper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9480" y="45720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33"/>
                </a:solidFill>
                <a:latin typeface="Times New Roman"/>
              </a:rPr>
              <a:t>Y... ¿Por Qué la Democracia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la%20libertad%20guiando%20al%20pueblo" descr=""/>
          <p:cNvPicPr/>
          <p:nvPr/>
        </p:nvPicPr>
        <p:blipFill>
          <a:blip r:embed="rId1"/>
          <a:stretch/>
        </p:blipFill>
        <p:spPr>
          <a:xfrm>
            <a:off x="4800600" y="1219320"/>
            <a:ext cx="3840120" cy="279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33520" y="304920"/>
            <a:ext cx="65530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Clasificación de COLLIER y LEVITS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685800" y="1143000"/>
            <a:ext cx="7619760" cy="5028840"/>
            <a:chOff x="685800" y="1143000"/>
            <a:chExt cx="7619760" cy="5028840"/>
          </a:xfrm>
        </p:grpSpPr>
        <p:grpSp>
          <p:nvGrpSpPr>
            <p:cNvPr id="62" name=""/>
            <p:cNvGrpSpPr/>
            <p:nvPr/>
          </p:nvGrpSpPr>
          <p:grpSpPr>
            <a:xfrm>
              <a:off x="691200" y="1148760"/>
              <a:ext cx="7607880" cy="5016240"/>
              <a:chOff x="691200" y="1148760"/>
              <a:chExt cx="7607880" cy="5016240"/>
            </a:xfrm>
          </p:grpSpPr>
          <p:grpSp>
            <p:nvGrpSpPr>
              <p:cNvPr id="63" name=""/>
              <p:cNvGrpSpPr/>
              <p:nvPr/>
            </p:nvGrpSpPr>
            <p:grpSpPr>
              <a:xfrm>
                <a:off x="691200" y="1148760"/>
                <a:ext cx="2535840" cy="1009440"/>
                <a:chOff x="691200" y="1148760"/>
                <a:chExt cx="2535840" cy="100944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771480" y="1148760"/>
                  <a:ext cx="237528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6912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3227400" y="1148760"/>
                <a:ext cx="2535840" cy="1009440"/>
                <a:chOff x="3227400" y="1148760"/>
                <a:chExt cx="2535840" cy="100944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33073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Mínimo procedimental ampliad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3227400" y="1148760"/>
                  <a:ext cx="253584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5763600" y="1148760"/>
                <a:ext cx="2535480" cy="1009440"/>
                <a:chOff x="5763600" y="1148760"/>
                <a:chExt cx="2535480" cy="100944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5843520" y="1148760"/>
                  <a:ext cx="2375640" cy="1009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Definición Maximal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5763600" y="1148760"/>
                  <a:ext cx="2535480" cy="1009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691200" y="2158560"/>
                <a:ext cx="2535840" cy="4006440"/>
                <a:chOff x="691200" y="2158560"/>
                <a:chExt cx="2535840" cy="400644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771480" y="2158560"/>
                  <a:ext cx="237528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6912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3227400" y="2158560"/>
                <a:ext cx="2535840" cy="4006440"/>
                <a:chOff x="3227400" y="2158560"/>
                <a:chExt cx="2535840" cy="400644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33073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3227400" y="2158560"/>
                  <a:ext cx="253584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5763600" y="2158560"/>
                <a:ext cx="2535480" cy="4006440"/>
                <a:chOff x="5763600" y="2158560"/>
                <a:chExt cx="2535480" cy="400644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5843520" y="2158560"/>
                  <a:ext cx="2375640" cy="4006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1.- Elecciones Libr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2.- Sufragio Universa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3.- Participación Plena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4.- Libertades Civile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5.- Los gobernantes electos tienen poder efectivo para goberna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  <a:ea typeface="Arial"/>
                    </a:rPr>
                    <a:t>6.- Igualdad socioeconómica y/o altos niveles de participación popular en las instituciones económicas, sociales y políticas; control en los procesos de toma de decisiones y todos los niveles de política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5763600" y="2158560"/>
                  <a:ext cx="2535480" cy="40064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1" name=""/>
            <p:cNvSpPr/>
            <p:nvPr/>
          </p:nvSpPr>
          <p:spPr>
            <a:xfrm>
              <a:off x="685800" y="1143000"/>
              <a:ext cx="7619760" cy="502884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80"/>
            </a:gs>
            <a:gs pos="100000">
              <a:srgbClr val="88c3c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990720" y="457200"/>
            <a:ext cx="74674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Transiciones y Consolidación democrát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Adam Przeworski, considera que una transición es el paso de un régimen no democrático a uno democrático, que implica 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procesos simultáneos: desintegración del ´régimen autoritario 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instauración de la democrac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Guillermo O’Donnell y Samuel Huntington distinguen 3 tipos de transicione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762120" y="3581280"/>
            <a:ext cx="7771680" cy="2895480"/>
            <a:chOff x="762120" y="3581280"/>
            <a:chExt cx="7771680" cy="2895480"/>
          </a:xfrm>
        </p:grpSpPr>
        <p:grpSp>
          <p:nvGrpSpPr>
            <p:cNvPr id="84" name=""/>
            <p:cNvGrpSpPr/>
            <p:nvPr/>
          </p:nvGrpSpPr>
          <p:grpSpPr>
            <a:xfrm>
              <a:off x="774000" y="3589560"/>
              <a:ext cx="7745040" cy="2877480"/>
              <a:chOff x="774000" y="3589560"/>
              <a:chExt cx="7745040" cy="2877480"/>
            </a:xfrm>
          </p:grpSpPr>
          <p:grpSp>
            <p:nvGrpSpPr>
              <p:cNvPr id="85" name=""/>
              <p:cNvGrpSpPr/>
              <p:nvPr/>
            </p:nvGrpSpPr>
            <p:grpSpPr>
              <a:xfrm>
                <a:off x="774000" y="3589560"/>
                <a:ext cx="4005720" cy="1133640"/>
                <a:chOff x="774000" y="3589560"/>
                <a:chExt cx="4005720" cy="1133640"/>
              </a:xfrm>
            </p:grpSpPr>
            <p:sp>
              <p:nvSpPr>
                <p:cNvPr id="86" name=""/>
                <p:cNvSpPr/>
                <p:nvPr/>
              </p:nvSpPr>
              <p:spPr>
                <a:xfrm>
                  <a:off x="950040" y="3589560"/>
                  <a:ext cx="365364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O’ Donnell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7" name=""/>
                <p:cNvSpPr/>
                <p:nvPr/>
              </p:nvSpPr>
              <p:spPr>
                <a:xfrm>
                  <a:off x="774000" y="3589560"/>
                  <a:ext cx="400572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8" name=""/>
              <p:cNvGrpSpPr/>
              <p:nvPr/>
            </p:nvGrpSpPr>
            <p:grpSpPr>
              <a:xfrm>
                <a:off x="4780440" y="3589560"/>
                <a:ext cx="3738600" cy="1133640"/>
                <a:chOff x="4780440" y="3589560"/>
                <a:chExt cx="3738600" cy="1133640"/>
              </a:xfrm>
            </p:grpSpPr>
            <p:sp>
              <p:nvSpPr>
                <p:cNvPr id="89" name=""/>
                <p:cNvSpPr/>
                <p:nvPr/>
              </p:nvSpPr>
              <p:spPr>
                <a:xfrm>
                  <a:off x="4955400" y="3589560"/>
                  <a:ext cx="3388320" cy="113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4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Huntington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0" name=""/>
                <p:cNvSpPr/>
                <p:nvPr/>
              </p:nvSpPr>
              <p:spPr>
                <a:xfrm>
                  <a:off x="4780440" y="3589560"/>
                  <a:ext cx="3738600" cy="11336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1" name=""/>
              <p:cNvGrpSpPr/>
              <p:nvPr/>
            </p:nvGrpSpPr>
            <p:grpSpPr>
              <a:xfrm>
                <a:off x="774000" y="4723560"/>
                <a:ext cx="4005720" cy="1743480"/>
                <a:chOff x="774000" y="4723560"/>
                <a:chExt cx="4005720" cy="1743480"/>
              </a:xfrm>
            </p:grpSpPr>
            <p:sp>
              <p:nvSpPr>
                <p:cNvPr id="92" name=""/>
                <p:cNvSpPr/>
                <p:nvPr/>
              </p:nvSpPr>
              <p:spPr>
                <a:xfrm>
                  <a:off x="950040" y="4723560"/>
                  <a:ext cx="365364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Rupturist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Institucionaliz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E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Pactada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3" name=""/>
                <p:cNvSpPr/>
                <p:nvPr/>
              </p:nvSpPr>
              <p:spPr>
                <a:xfrm>
                  <a:off x="774000" y="4723560"/>
                  <a:ext cx="400572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4" name=""/>
              <p:cNvGrpSpPr/>
              <p:nvPr/>
            </p:nvGrpSpPr>
            <p:grpSpPr>
              <a:xfrm>
                <a:off x="4780440" y="4723560"/>
                <a:ext cx="3738600" cy="1743480"/>
                <a:chOff x="4780440" y="4723560"/>
                <a:chExt cx="3738600" cy="1743480"/>
              </a:xfrm>
            </p:grpSpPr>
            <p:sp>
              <p:nvSpPr>
                <p:cNvPr id="95" name=""/>
                <p:cNvSpPr/>
                <p:nvPr/>
              </p:nvSpPr>
              <p:spPr>
                <a:xfrm>
                  <a:off x="4955400" y="4723560"/>
                  <a:ext cx="3388320" cy="174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1- Transforma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2- Reemplaz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Arial"/>
                      <a:ea typeface="Arial"/>
                    </a:rPr>
                    <a:t>3- Traspas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6" name=""/>
                <p:cNvSpPr/>
                <p:nvPr/>
              </p:nvSpPr>
              <p:spPr>
                <a:xfrm>
                  <a:off x="4780440" y="4723560"/>
                  <a:ext cx="3738600" cy="17434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7" name=""/>
            <p:cNvSpPr/>
            <p:nvPr/>
          </p:nvSpPr>
          <p:spPr>
            <a:xfrm>
              <a:off x="762120" y="3581280"/>
              <a:ext cx="7771680" cy="2895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98" name="images" descr=""/>
          <p:cNvPicPr/>
          <p:nvPr/>
        </p:nvPicPr>
        <p:blipFill>
          <a:blip r:embed="rId1"/>
          <a:stretch/>
        </p:blipFill>
        <p:spPr>
          <a:xfrm>
            <a:off x="3657600" y="3505320"/>
            <a:ext cx="846000" cy="12682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2"/>
          <a:stretch/>
        </p:blipFill>
        <p:spPr>
          <a:xfrm>
            <a:off x="7467480" y="3429000"/>
            <a:ext cx="94320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1T22:05:48Z</dcterms:created>
  <dc:creator>mtvial</dc:creator>
  <dc:description/>
  <dc:language>en-US</dc:language>
  <cp:lastModifiedBy>mtvial</cp:lastModifiedBy>
  <dcterms:modified xsi:type="dcterms:W3CDTF">2005-06-20T13:53:58Z</dcterms:modified>
  <cp:revision>3</cp:revision>
  <dc:subject/>
  <dc:title>Presentación de PowerPoint</dc:title>
</cp:coreProperties>
</file>