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0BA-0C36-460B-9FBD-CE9465F3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A8D-534E-4F02-B602-B2C5669E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397-96CA-401B-8EF0-3145685E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5B5-1E99-47DC-974E-65F5336D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E462-D456-48EE-8DD2-2356524A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3B7E-127D-459D-B344-A90B4DB7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4651-CAD6-4E28-B889-1BCEBB2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F42E-7C65-4A05-A1D4-BA7C3A51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CB9-7DEA-427D-8008-3E1288C2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7D0C-CB38-455A-BD9A-685C5830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B364-5678-45D8-967E-16E9D893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041-E63C-476F-B2E9-05D59A49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2022-597E-4E01-9CD0-8BA73E6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34B5-FB38-41C4-95C0-3BFB4250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55D7-28CC-44F8-BE18-2A20D3F6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9BBB-B4F1-4AF2-8A78-8FE1E455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2E74-C7FB-4A1C-81BE-21C92960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453-0850-46BC-8BEB-259C0796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29D-A20A-46A9-91F2-F93240CA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612-50D3-4B8F-A363-38E5B1CC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FF2-6037-465F-95CC-6BFF865A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8BB-4B93-4EF7-BC2A-10E31C2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DDE-40BB-4545-A382-2C27A00C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48F-A6F6-4F6A-B82E-C8B8423B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7560-2D1C-4FDF-8C34-4B74D22991BB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4F54-FCD5-4A6A-BAFD-992AE85141D4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idi.com/images/zak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on.canterbury.ac.nz/nobel/np-stiglitz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www.cinu.org.mx/multi/onutrabaja/imagenes/fmi38.gif&amp;imgrefurl=http://www.cinu.org.mx/multi/onutrabaja/fmi38.htm&amp;h=243&amp;w=239&amp;prev=/images%3Fq%3DFMI%26svnum%3D10%26hl%3Des%26lr%3D%26ie%3DUTF-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El Estado Nación en Cris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Soberanía v/s Globa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75248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La globalización es el fenómeno más característico del fin del siglo XX y se proyecta como el marco del siglo XX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Para Zaki Laïdi, la globalización es un movimiento planetario en que las sociedades renegocian su relación con el espacio y el tiempo por medio de concatenaciones que ponen en acción una proximidad planetaria bajo su forma territorial (fin de la geografía), simbólica (la pertenencia a un mismo mundo) y temporal ( la simultaneidad)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zak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105520"/>
            <a:ext cx="111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533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LAS CONSECUENCI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desigualdad%20250b" descr="DESIGUALDAD y HAMBRE"/>
          <p:cNvPicPr/>
          <p:nvPr/>
        </p:nvPicPr>
        <p:blipFill>
          <a:blip r:embed="rId1"/>
          <a:stretch/>
        </p:blipFill>
        <p:spPr>
          <a:xfrm>
            <a:off x="6400800" y="228600"/>
            <a:ext cx="2209680" cy="1508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1828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no funciona para todos igual, el progreso es para las elites con acceso a privilegios, sin embargo los efectos negativos llegan a to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 pesar de aquello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419720"/>
            <a:ext cx="7543800" cy="1557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iminarla no es la solución, ya que también tiene sus beneficios como aumento de los mercados, mayor acceso a tecnologías, mejor salud, mayor democrac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4572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LTERNATIV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Se requieren vías alternativas de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960" y="155736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676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un proceso inducido por instituciones y actores, por lo cual hay que reformarlas y controlar los intereses crea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Gobernanza, reformar las estructuras de po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5812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 Consenso de Washington está agotado, es necesario un nuevo consenso basado en lo soci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334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Humanizar la Globaliz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justiciaglobal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65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blemas emergentes en el Sistema Inter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52388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Conflictos locales y resurgir de las fracturas nacionalist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Narcotráfico, terrorismo y redes delictuales trans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Deterioro del medioamb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Salud global y control de enfermeda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Inequidad y problemas del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457200"/>
            <a:ext cx="84582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eaeaea"/>
                </a:solidFill>
                <a:uFillTx/>
                <a:latin typeface="Arial Narrow"/>
              </a:rPr>
              <a:t>Dos conceptos que engloban la problemática Intern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Gobernanza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: El concepto se refiere a la capacidad de abordar los problemas internacionales, por parte de las instituciones internacionales. Se trata de dar funcionamiento al sistema decis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Seguridad Humana: 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Es un concepto que engloba los nuevos riesgos para los ciudadanos a partir de los cambios post Guerra Frí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0"/>
            <a:ext cx="7467840" cy="87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Jorge Nef (1999), establece las dimensiones de la Seguridad Humana en los siguientes térmi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1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medioambiental, personal y fís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. Se refiere al derecho de los individuos y las comunidades a la preservación de su vida y salud y a desarrollarse en un medioambiente sostenib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2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económ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acceso al empleo y a los medios necesarios para una buena calidad de vida en comunidad reduciendo la escasez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.- Seguridad soci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ibertad y no discriminación de ningún ti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4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Polític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Derecho a la representación y autonomía, participación, derecho a disentir combinado con empoderamiento para realizar cambios efec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5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cultur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el conjunto de factores psicológicos que ayudan a reducir la inseguridad y el tem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Las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981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onu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1219320" cy="784080"/>
          </a:xfrm>
          <a:prstGeom prst="rect">
            <a:avLst/>
          </a:prstGeom>
          <a:ln w="0">
            <a:noFill/>
          </a:ln>
        </p:spPr>
      </p:pic>
      <p:pic>
        <p:nvPicPr>
          <p:cNvPr id="153" name="orga2" descr="ORGANIGRAMA DE NACIONES UNIDAS"/>
          <p:cNvPicPr/>
          <p:nvPr/>
        </p:nvPicPr>
        <p:blipFill>
          <a:blip r:embed="rId2"/>
          <a:stretch/>
        </p:blipFill>
        <p:spPr>
          <a:xfrm>
            <a:off x="1066680" y="990720"/>
            <a:ext cx="6553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45720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s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Fundament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acronism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 distribución de poder en el Consejo de Seguridad rige desde mediados del siglo pasado y es inadecuada para la realidad act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Ineficienci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s estructuras son poco eficientes y burocrát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in poder re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posee mecanismos efectivos para hacer cumplir las resolu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tidemocrátic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existe representatividad en el Consej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Desfinanciado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Los recursos son insufici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annan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00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533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Las fuerzas que impulsan la Global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002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981080"/>
            <a:ext cx="7010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érmino de la Guerra Fría: Un mundo unipo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Desarrollo tecnológico ( en especial de las comunicacion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terconexión de las economí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457200"/>
            <a:ext cx="75438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¿Qué implicancias tiene para el Estado Na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a inserción en un mundo altamente dinám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érdida de soberanía y protagonismo por la emergencia de nuevos actores inter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daptación de las estructuras estatales a los nuevos requerimientos de la política y la economía (reforma al Est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809880"/>
            <a:ext cx="7086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llo puede ser visto desde dos puntos de vist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modernización y adap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desmantelación de Estado y sometimiento al poder trans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533520"/>
            <a:ext cx="74674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¿Por qué una crisis del Estado Na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Veamos los elementos constitutivos del Estado nació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Territorio y recursos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Se eliminan las fronteras (UE) y el control de los recursos pasan a manos de las transnaciona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Población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: Grandes olas migratorias hacia los polos de desarrollo (genera sentimientos de desafectación y desarraig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oberanía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Estado cede soberanía a los organismos internacionales y al mercado ( en el ámbito de las decisiones económicas se deslegitima la planificación estat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Bien común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bien común pasa a buscarse fuera del Estado, transformándose en bienestar particul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n definitiva el Estado Nación se deslegiti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523880"/>
            <a:ext cx="8458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Sin embargo, toda vez que apreciamos una descomposición de los estados soberanos, asistimos al mismo tiempo al surgimiento de EL ESTADO SOBERANO, personificado en los Estados Unidos de Norteamérica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(Grimaldi 200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lobalización: Una visión crític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37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la integración más estrecha de los países y los pueblos del mundo, producida por la enorme reducción de los costes de transporte y comunicación y desmantelamiento de las barreras artificiales a los flujos de bienes, servicios, capitales, conocimientos y personas a través de las frontera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np-stiglitz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419720"/>
            <a:ext cx="1635120" cy="200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43200" y="57150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ahoma"/>
              </a:rPr>
              <a:t>Joseph Stiglitz, Premio Nobel de Economía 200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304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GLOBALIZACIÓN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Un Proceso induc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523880"/>
            <a:ext cx="7848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globalización es un proceso inducido por actores internacionales identificables en pro de la extensión del capitalismo transnacio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Banco Mund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Reserva Federal de EE.U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Empresas Transn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572000"/>
            <a:ext cx="74674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La “mano invisible de la economía” de Smith, no existe en la globalización. El proceso ha sido guiado por intereses particulare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76520" y="53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Consenso de Washington (1989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228600"/>
            <a:ext cx="83052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s" descr=""/>
          <p:cNvPicPr/>
          <p:nvPr/>
        </p:nvPicPr>
        <p:blipFill>
          <a:blip r:embed="rId3"/>
          <a:stretch/>
        </p:blipFill>
        <p:spPr>
          <a:xfrm>
            <a:off x="76320" y="228600"/>
            <a:ext cx="838080" cy="83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990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B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99072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Diez Puntos del Consenso: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) establecer una disciplina fiscal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2) priorizar el gasto público en educación y salud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3) llevar a cabo una reforma tributari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4) establecer tasas de interés positivas determinadas por el mercado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5) lograr tipos de cambio competitivo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6) desarrollar políticas comerciales liberale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7) una mayor apertura a la inversión extranjer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8) privatizar las empresas pública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9) llevar a cabo una profunda desregulación; y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0) garantizar la protección de la propiedad priv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748040"/>
            <a:ext cx="8381880" cy="2113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Estado restringe su accionar en la economía, mientras las demandas hacia él aumentan generando ingobernabilidad por incapacidad de respuest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ahoma"/>
              </a:rPr>
              <a:t>La liberalización ha sido tomada como un fin y no como un med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El Estado Receptor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990720"/>
            <a:ext cx="74674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Jorge Nef, considera que l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as reformas impulsadas bajo los OI (FMI, BM), configuran lo que él denomina el “Estado receptor”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,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que implica una transnacionalización de la alianza en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poder, corporativismo porque los pactos fundamentales se establecen entre las elites, despolitización de las actividades esenciales del Estado como seguridad y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sistema financiero, adopción del ajuste estructural como tarea central,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énfasis en la privatización y exportaciones en vez de la industrialización, restricción de la democracia por la pérdida de  la movilidad civil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El Estado receptor en Latinoamérica, refuerza la problemática ya que no genera soluciones a problemas endógenos de la sociedad sino responde a intereses foráne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nef3b" descr=""/>
          <p:cNvPicPr/>
          <p:nvPr/>
        </p:nvPicPr>
        <p:blipFill>
          <a:blip r:embed="rId1"/>
          <a:stretch/>
        </p:blipFill>
        <p:spPr>
          <a:xfrm>
            <a:off x="7265880" y="4343400"/>
            <a:ext cx="1527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23:36:47Z</dcterms:created>
  <dc:creator>Escuela de Gobierno</dc:creator>
  <dc:description/>
  <dc:language>en-US</dc:language>
  <cp:lastModifiedBy>mtvial</cp:lastModifiedBy>
  <dcterms:modified xsi:type="dcterms:W3CDTF">2006-01-23T12:45:09Z</dcterms:modified>
  <cp:revision>8</cp:revision>
  <dc:subject/>
  <dc:title>El sistema Internacional: sus actores y elementos</dc:title>
</cp:coreProperties>
</file>