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562-3DC6-4143-BE88-C7848082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5EA-0F88-4DBE-A03B-D3BCC7F4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799-A3C2-4A8E-9409-9F7A7732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5C82-B21A-47F3-994C-2CC9DF8A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9E16-1A3C-45A6-A16A-4A1A33ED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EF17-1C91-4B2B-BEA0-3E5DED49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3F36-7294-4A6F-B44B-E71CAA0C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AF34-8808-4601-90DC-5B0C568C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27DB-6CBD-4E9B-810C-AD875063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5755-AACA-42CD-AAD3-1163EEA5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048F-FE56-4F79-8BC8-CA38175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B25-C86C-447C-9FA8-BC03418C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713B-7327-4066-B9E1-4A117408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82EB-2293-413D-BAA1-98CD471E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E18D-4CC6-4941-B1FF-AC020296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3FE6-6F46-427A-9DF5-43468530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C4C4-7277-4BA1-9568-4071CF02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5DD-ACC3-4FEB-8A7A-4371886D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3DD-008B-4331-AC23-039E853C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DB9-BB9C-4E86-A373-4532ED2B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9D0-304F-49E7-8962-BAEB9756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93C-3EC4-4CA5-AB22-6DDBAEF9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A9C-FCA1-4473-8830-51FD70E5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927E-CA4D-4D67-B400-F678BCA1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2C4A-A3E1-4E32-9C8C-5EA3162D2D4D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5C32-FBBD-467E-9DA8-28910AAADB8E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idi.com/images/zaki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con.canterbury.ac.nz/nobel/np-stiglitz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www.cinu.org.mx/multi/onutrabaja/imagenes/fmi38.gif&amp;imgrefurl=http://www.cinu.org.mx/multi/onutrabaja/fmi38.htm&amp;h=243&amp;w=239&amp;prev=/images%3Fq%3DFMI%26svnum%3D10%26hl%3Des%26lr%3D%26ie%3DUTF-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El Estado Nación en Crisi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Soberanía v/s Globalid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752480"/>
            <a:ext cx="7696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La globalización es el fenómeno más característico del fin del siglo XX y se proyecta como el marco del siglo XXI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“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Para Zaki Laïdi, la globalización es un movimiento planetario en que las sociedades renegocian su relación con el espacio y el tiempo por medio de concatenaciones que ponen en acción una proximidad planetaria bajo su forma territorial (fin de la geografía), simbólica (la pertenencia a un mismo mundo) y temporal ( la simultaneidad)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zak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5105520"/>
            <a:ext cx="1110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533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LAS CONSECUENCI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desigualdad%20250b" descr="DESIGUALDAD y HAMBRE"/>
          <p:cNvPicPr/>
          <p:nvPr/>
        </p:nvPicPr>
        <p:blipFill>
          <a:blip r:embed="rId1"/>
          <a:stretch/>
        </p:blipFill>
        <p:spPr>
          <a:xfrm>
            <a:off x="6400800" y="228600"/>
            <a:ext cx="2209680" cy="1508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1828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no funciona para todos igual, el progreso es para las elites con acceso a privilegios, sin embargo los efectos negativos llegan a to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A pesar de aquello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419720"/>
            <a:ext cx="7543800" cy="1557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Eliminarla no es la solución, ya que también tiene sus beneficios como aumento de los mercados, mayor acceso a tecnologías, mejor salud, mayor democrac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4572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ALTERNATIVA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572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Se requieren vías alternativas de desarrol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9960" y="155736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676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es un proceso inducido por instituciones y actores, por lo cual hay que reformarlas y controlar los intereses cread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Gobernanza, reformar las estructuras de po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58128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El Consenso de Washington está agotado, es necesario un nuevo consenso basado en lo soci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334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Humanizar la Globaliz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justiciaglobal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65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716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oblemas emergentes en el Sistema Intern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523880"/>
            <a:ext cx="7010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Conflictos locales y resurgir de las fracturas nacionalist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Narcotráfico, terrorismo y redes delictuales transnacio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Deterioro del medioamb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Salud global y control de enfermeda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Inequidad y problemas del desarrol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forma al sistema de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457200"/>
            <a:ext cx="845820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eaeaea"/>
                </a:solidFill>
                <a:uFillTx/>
                <a:latin typeface="Arial Narrow"/>
              </a:rPr>
              <a:t>Dos conceptos que engloban la problemática Intern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Narrow"/>
              </a:rPr>
              <a:t>Gobernanza</a:t>
            </a: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: El concepto se refiere a la capacidad de abordar los problemas internacionales, por parte de las instituciones internacionales. Se trata de dar funcionamiento al sistema decisio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Narrow"/>
              </a:rPr>
              <a:t>Seguridad Humana: </a:t>
            </a: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Es un concepto que engloba los nuevos riesgos para los ciudadanos a partir de los cambios post Guerra Frí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0"/>
            <a:ext cx="7467840" cy="87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Jorge Nef (1999), establece las dimensiones de la Seguridad Humana en los siguientes términ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1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medioambiental, personal y física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. Se refiere al derecho de los individuos y las comunidades a la preservación de su vida y salud y a desarrollarse en un medioambiente sostenib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2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económica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: acceso al empleo y a los medios necesarios para una buena calidad de vida en comunidad reduciendo la escasez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.- Seguridad soci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ibertad y no discriminación de ningún tip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4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Política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Derecho a la representación y autonomía, participación, derecho a disentir combinado con empoderamiento para realizar cambios efectiv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5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cultur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el conjunto de factores psicológicos que ayudan a reducir la inseguridad y el tem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Las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9810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onu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1219320" cy="784080"/>
          </a:xfrm>
          <a:prstGeom prst="rect">
            <a:avLst/>
          </a:prstGeom>
          <a:ln w="0">
            <a:noFill/>
          </a:ln>
        </p:spPr>
      </p:pic>
      <p:pic>
        <p:nvPicPr>
          <p:cNvPr id="153" name="orga2" descr="ORGANIGRAMA DE NACIONES UNIDAS"/>
          <p:cNvPicPr/>
          <p:nvPr/>
        </p:nvPicPr>
        <p:blipFill>
          <a:blip r:embed="rId2"/>
          <a:stretch/>
        </p:blipFill>
        <p:spPr>
          <a:xfrm>
            <a:off x="1066680" y="990720"/>
            <a:ext cx="6553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45720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formas al sistema de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Fundament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Anacronismo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a distribución de poder en el Consejo de Seguridad rige desde mediados del siglo pasado y es inadecuada para la realidad actu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Ineficiencia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as estructuras son poco eficientes y burocráti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in poder re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No posee mecanismos efectivos para hacer cumplir las resolu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Antidemocrático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No existe representatividad en el Consej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Desfinanciado 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: Los recursos son insufici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annan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005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533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Las fuerzas que impulsan la Globaliz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002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981080"/>
            <a:ext cx="7010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érmino de la Guerra Fría: Un mundo unipol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Desarrollo tecnológico ( en especial de las comunicacion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terconexión de las economí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457200"/>
            <a:ext cx="75438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¿Qué implicancias tiene para el Estado Na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a inserción en un mundo altamente dinám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érdida de soberanía y protagonismo por la emergencia de nuevos actores internacio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daptación de las estructuras estatales a los nuevos requerimientos de la política y la economía (reforma al Est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809880"/>
            <a:ext cx="7086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Ello puede ser visto desde dos puntos de vist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ignifica modernización y adapt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ignifica desmantelación de Estado y sometimiento al poder transn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533520"/>
            <a:ext cx="74674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¿Por qué una crisis del Estado Nació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Veamos los elementos constitutivos del Estado nació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Territorio y recursos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Se eliminan las fronteras (UE) y el control de los recursos pasan a manos de las transnaciona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Población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: Grandes olas migratorias hacia los polos de desarrollo (genera sentimientos de desafectación y desarraig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oberanía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El Estado cede soberanía a los organismos internacionales y al mercado ( en el ámbito de las decisiones económicas se deslegitima la planificación estat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Bien común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El bien común pasa a buscarse fuera del Estado, transformándose en bienestar particula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En definitiva el Estado Nación se deslegitim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523880"/>
            <a:ext cx="8458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Sin embargo, toda vez que apreciamos una descomposición de los estados soberanos, asistimos al mismo tiempo al surgimiento de EL ESTADO SOBERANO, personificado en los Estados Unidos de Norteamérica”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(Grimaldi 200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lobalización: Una visión crític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3716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es la integración más estrecha de los países y los pueblos del mundo, producida por la enorme reducción de los costes de transporte y comunicación y desmantelamiento de las barreras artificiales a los flujos de bienes, servicios, capitales, conocimientos y personas a través de las fronteras” (Stiglitz 200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np-stiglitz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4419720"/>
            <a:ext cx="1635120" cy="2000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743200" y="57150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ahoma"/>
              </a:rPr>
              <a:t>Joseph Stiglitz, Premio Nobel de Economía 200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304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GLOBALIZACIÓN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Un Proceso induc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523880"/>
            <a:ext cx="7848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La globalización es un proceso inducido por actores internacionales identificables en pro de la extensión del capitalismo transnacion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FM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Banco Mundi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La Reserva Federal de EE.U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Empresas Transnacion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572000"/>
            <a:ext cx="746748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0" i="1" lang="es-ES_tradnl" sz="2400" spc="-1" strike="noStrike">
                <a:solidFill>
                  <a:srgbClr val="eaeaea"/>
                </a:solidFill>
                <a:latin typeface="Tahoma"/>
              </a:rPr>
              <a:t>La “mano invisible de la economía” de Smith, no existe en la globalización. El proceso ha sido guiado por intereses particulares” (Stiglitz 200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76520" y="533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El Consenso de Washington (1989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228600"/>
            <a:ext cx="830520" cy="838080"/>
          </a:xfrm>
          <a:prstGeom prst="rect">
            <a:avLst/>
          </a:prstGeom>
          <a:ln w="0">
            <a:noFill/>
          </a:ln>
        </p:spPr>
      </p:pic>
      <p:pic>
        <p:nvPicPr>
          <p:cNvPr id="121" name="images" descr=""/>
          <p:cNvPicPr/>
          <p:nvPr/>
        </p:nvPicPr>
        <p:blipFill>
          <a:blip r:embed="rId3"/>
          <a:stretch/>
        </p:blipFill>
        <p:spPr>
          <a:xfrm>
            <a:off x="76320" y="228600"/>
            <a:ext cx="838080" cy="830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990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ahoma"/>
              </a:rPr>
              <a:t>B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990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ahoma"/>
              </a:rPr>
              <a:t>FM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99072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os Diez Puntos del Consenso: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1) establecer una disciplina fiscal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2) priorizar el gasto público en educación y salud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3) llevar a cabo una reforma tributaria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4) establecer tasas de interés positivas determinadas por el mercado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5) lograr tipos de cambio competitivo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6) desarrollar políticas comerciales liberale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7) una mayor apertura a la inversión extranjera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8) privatizar las empresas pública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9) llevar a cabo una profunda desregulación; y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10) garantizar la protección de la propiedad priv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748040"/>
            <a:ext cx="8381880" cy="21132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El Estado restringe su accionar en la economía, mientras las demandas hacia él aumentan generando ingobernabilidad por incapacidad de respuest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d189"/>
                </a:solidFill>
                <a:latin typeface="Tahoma"/>
              </a:rPr>
              <a:t>La liberalización ha sido tomada como un fin y no como un med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El Estado Receptor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990720"/>
            <a:ext cx="74674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Jorge Nef, considera que l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as reformas impulsadas bajo los OI (FMI, BM), configuran lo que él denomina el “Estado receptor”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,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que implica una transnacionalización de la alianza en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el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poder, corporativismo porque los pactos fundamentales se establecen entre las elites, despolitización de las actividades esenciales del Estado como seguridad y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el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sistema financiero, adopción del ajuste estructural como tarea central,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énfasis en la privatización y exportaciones en vez de la industrialización, restricción de la democracia por la pérdida de  la movilidad civil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El Estado receptor en Latinoamérica, refuerza la problemática ya que no genera soluciones a problemas endógenos de la sociedad sino responde a intereses foráne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nef3b" descr=""/>
          <p:cNvPicPr/>
          <p:nvPr/>
        </p:nvPicPr>
        <p:blipFill>
          <a:blip r:embed="rId1"/>
          <a:stretch/>
        </p:blipFill>
        <p:spPr>
          <a:xfrm>
            <a:off x="7265880" y="4343400"/>
            <a:ext cx="1527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23:36:47Z</dcterms:created>
  <dc:creator>Escuela de Gobierno</dc:creator>
  <dc:description/>
  <dc:language>en-US</dc:language>
  <cp:lastModifiedBy>mtvial</cp:lastModifiedBy>
  <dcterms:modified xsi:type="dcterms:W3CDTF">2006-01-23T12:45:09Z</dcterms:modified>
  <cp:revision>8</cp:revision>
  <dc:subject/>
  <dc:title>El sistema Internacional: sus actores y elementos</dc:title>
</cp:coreProperties>
</file>