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331-C20D-45A0-A364-6A92CD75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2E7-0778-450E-A20E-DAF6D89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1FB-78C6-497F-BA4B-1791FA2B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E5C-FB03-40D1-A575-78218498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DB4B-17B3-4A8B-A5EA-7C3BDBE5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F5CB-8A24-484E-8AD5-0FB522C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D80-BB49-4FE4-99DC-E75BA83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B3ED-0A15-408C-8D0A-8579B081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FF2E-72E0-4A3C-9F76-45524612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865D-35D2-4306-8611-429A789E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3455-7EF5-4F8E-B47A-88F350E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2D5-6953-472D-9188-898FC9C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667-02F1-4714-B576-FB3F04D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A29-092E-4DBA-ABAD-EE0B0D2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673-2BC9-4DDA-905A-4CE85E97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904D-5786-4A4A-A9C1-FD617CF0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CA72-B731-45D7-8556-D3DE4CC9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0BB-483C-497A-91CA-58B21E8B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6C6-95B5-45A7-B293-0214E12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A34-0E3D-41F8-94DF-FF55F5E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DD1-1453-4E64-A994-FEC7CC5C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F1D-69DA-473F-83BA-BBBC564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2B1-6A94-4E5E-8C5E-4F50208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738-E7CD-4DFA-863F-B9050DD4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A241-B72E-4C21-AC6F-C7EC3A408E95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1BB-30F9-438C-9C5F-4A248D6973CC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idi.com/images/za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.canterbury.ac.nz/nobel/np-stiglitz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www.cinu.org.mx/multi/onutrabaja/imagenes/fmi38.gif&amp;imgrefurl=http://www.cinu.org.mx/multi/onutrabaja/fmi38.htm&amp;h=243&amp;w=239&amp;prev=/images%3Fq%3DFMI%26svnum%3D10%26hl%3Des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El Estado Nación en Cris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Soberanía v/s Glob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7524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La globalización es el fenómeno más característico del fin del siglo XX y se proyecta como el marco del siglo XX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Para Zaki Laïdi, la globalización es un movimiento planetario en que las sociedades renegocian su relación con el espacio y el tiempo por medio de concatenaciones que ponen en acción una proximidad planetaria bajo su forma territorial (fin de la geografía), simbólica (la pertenencia a un mismo mundo) y temporal ( la simultaneidad)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zak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05520"/>
            <a:ext cx="111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LAS CONSECUENC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desigualdad%20250b" descr="DESIGUALDAD y HAMBRE"/>
          <p:cNvPicPr/>
          <p:nvPr/>
        </p:nvPicPr>
        <p:blipFill>
          <a:blip r:embed="rId1"/>
          <a:stretch/>
        </p:blipFill>
        <p:spPr>
          <a:xfrm>
            <a:off x="6400800" y="228600"/>
            <a:ext cx="2209680" cy="150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no funciona para todos igual, el progreso es para las elites con acceso a privilegios, sin embargo los efectos negativos llegan a 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 pesar de aquello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19720"/>
            <a:ext cx="7543800" cy="1557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iminarla no es la solución, ya que también tiene sus beneficios como aumento de los mercados, mayor acceso a tecnologías, mejor salud, mayor democra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LTERN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Se requieren vías alternativas de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557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un proceso inducido por instituciones y actores, por lo cual hay que reformarlas y controlar los intereses cre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Gobernanza, reformar las estructuras de po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5812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 Consenso de Washington está agotado, es necesario un nuevo consenso basado en lo soci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Humanizar la Global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justiciaglobal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65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blemas emergentes en el Sistema Inter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Conflictos locales y resurgir de las fracturas nacionalis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Narcotráfico, terrorismo y redes delictuales trans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terioro del medioamb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alud global y control de enferme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equidad y problemas del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84582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aeaea"/>
                </a:solidFill>
                <a:uFillTx/>
                <a:latin typeface="Arial Narrow"/>
              </a:rPr>
              <a:t>Dos conceptos que engloban la problemática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Gobernanza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: El concepto se refiere a la capacidad de abordar los problemas internacionales, por parte de las instituciones internacionales. Se trata de dar funcionamiento al sistema decis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Seguridad Humana: 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Es un concepto que engloba los nuevos riesgos para los ciudadanos a partir de los cambios post Guerra Fr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0"/>
            <a:ext cx="7467840" cy="87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Jorge Nef (1999), establece las dimensiones de la Seguridad Humana en los siguientes térmi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1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medioambiental, personal y fís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. Se refiere al derecho de los individuos y las comunidades a la preservación de su vida y salud y a desarrollarse en un medioambiente sosteni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2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económ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acceso al empleo y a los medios necesarios para una buena calidad de vida en comunidad reduciendo la escase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.- Seguridad soci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ibertad y no discriminación de ningún 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4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Polític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Derecho a la representación y autonomía, participación, derecho a disentir combinado con empoderamiento para realizar cambios efec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5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cultur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el conjunto de factores psicológicos que ayudan a reducir la inseguridad y el te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as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onu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121932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orga2" descr="ORGANIGRAMA DE NACIONES UNIDAS"/>
          <p:cNvPicPr/>
          <p:nvPr/>
        </p:nvPicPr>
        <p:blipFill>
          <a:blip r:embed="rId2"/>
          <a:stretch/>
        </p:blipFill>
        <p:spPr>
          <a:xfrm>
            <a:off x="1066680" y="990720"/>
            <a:ext cx="6553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s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undamen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acronism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 distribución de poder en el Consejo de Seguridad rige desde mediados del siglo pasado y es inadecuada para la realidad ac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Ineficienci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s estructuras son poco eficientes y burocrá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in poder re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posee mecanismos efectivos para hacer cumplir las resolu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tidemocrátic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existe representatividad en el Consej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Desfinanciado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Los recursos son insufic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annan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Las fuerzas que impulsan la Global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8108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érmino de la Guerra Fría: Un mundo unipo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Desarrollo tecnológico ( en especial de las comunicacio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conexión de las economí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457200"/>
            <a:ext cx="75438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¿Qué implicancias tiene para el Estado N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a inserción en un mundo altamente dinám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érdida de soberanía y protagonismo por la emergencia de nuevos actores inter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daptación de las estructuras estatales a los nuevos requerimientos de la política y la economía (reforma al Est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80988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llo puede ser visto desde dos puntos de vist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modernización y adap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desmantelación de Estado y sometimiento al poder trans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533520"/>
            <a:ext cx="74674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¿Por qué una crisis del Estado Na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Veamos los elementos constitutivos del Estado na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Territorio y recursos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Se eliminan las fronteras (UE) y el control de los recursos pasan a manos de las transnaciona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Població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: Grandes olas migratorias hacia los polos de desarrollo (genera sentimientos de desafectación y desarraig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oberanía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Estado cede soberanía a los organismos internacionales y al mercado ( en el ámbito de las decisiones económicas se deslegitima la planificación estat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Bien común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bien común pasa a buscarse fuera del Estado, transformándose en bienestar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n definitiva el Estado Nación se deslegiti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Sin embargo, toda vez que apreciamos una descomposición de los estados soberanos, asistimos al mismo tiempo al surgimiento de EL ESTADO SOBERANO, personificado en los Estados Unidos de Norteamérica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(Grimaldi 200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lobalización: Una visión crític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la integración más estrecha de los países y los pueblos del mundo, producida por la enorme reducción de los costes de transporte y comunicación y desmantelamiento de las barreras artificiales a los flujos de bienes, servicios, capitales, conocimientos y personas a través de las frontera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np-stiglitz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419720"/>
            <a:ext cx="1635120" cy="20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3200" y="57150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ahoma"/>
              </a:rPr>
              <a:t>Joseph Stiglitz, Premio Nobel de Economía 200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304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GLOBALIZACIÓN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Un Proceso induc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523880"/>
            <a:ext cx="78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globalización es un proceso inducido por actores internacionales identificables en pro de la extensión del capitalismo transnacio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Banco Mund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Reserva Federal de EE.U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Empresas Transn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0"/>
            <a:ext cx="74674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La “mano invisible de la economía” de Smith, no existe en la globalización. El proceso ha sido guiado por intereses particulare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Consenso de Washington (1989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28600"/>
            <a:ext cx="83052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s" descr=""/>
          <p:cNvPicPr/>
          <p:nvPr/>
        </p:nvPicPr>
        <p:blipFill>
          <a:blip r:embed="rId3"/>
          <a:stretch/>
        </p:blipFill>
        <p:spPr>
          <a:xfrm>
            <a:off x="76320" y="228600"/>
            <a:ext cx="838080" cy="83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B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Diez Puntos del Consenso: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) establecer una disciplina fiscal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2) priorizar el gasto público en educación y salud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3) llevar a cabo una reforma tributari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4) establecer tasas de interés positivas determinadas por el mercado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5) lograr tipos de cambio competitivo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6) desarrollar políticas comerciales liberale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7) una mayor apertura a la inversión extranjer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8) privatizar las empresas pública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9) llevar a cabo una profunda desregulación; y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0) garantizar la protección de la propiedad 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48040"/>
            <a:ext cx="8381880" cy="2113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Estado restringe su accionar en la economía, mientras las demandas hacia él aumentan generando ingobernabilidad por incapacidad de respues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ahoma"/>
              </a:rPr>
              <a:t>La liberalización ha sido tomada como un fin y no como un med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l Estado Receptor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990720"/>
            <a:ext cx="74674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Jorge Nef, considera que l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as reformas impulsadas bajo los OI (FMI, BM), configuran lo que él denomina el “Estado receptor”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que implica una transnacionalización de la alianza en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poder, corporativismo porque los pactos fundamentales se establecen entre las elites, despolitización de las actividades esenciales del Estado como seguridad y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sistema financiero, adopción del ajuste estructural como tarea central,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énfasis en la privatización y exportaciones en vez de la industrialización, restricción de la democracia por la pérdida de  la movilidad civil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El Estado receptor en Latinoamérica, refuerza la problemática ya que no genera soluciones a problemas endógenos de la sociedad sino responde a intereses foráne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nef3b" descr=""/>
          <p:cNvPicPr/>
          <p:nvPr/>
        </p:nvPicPr>
        <p:blipFill>
          <a:blip r:embed="rId1"/>
          <a:stretch/>
        </p:blipFill>
        <p:spPr>
          <a:xfrm>
            <a:off x="7265880" y="4343400"/>
            <a:ext cx="152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3:36:47Z</dcterms:created>
  <dc:creator>Escuela de Gobierno</dc:creator>
  <dc:description/>
  <dc:language>en-US</dc:language>
  <cp:lastModifiedBy>mtvial</cp:lastModifiedBy>
  <dcterms:modified xsi:type="dcterms:W3CDTF">2006-01-23T12:45:09Z</dcterms:modified>
  <cp:revision>8</cp:revision>
  <dc:subject/>
  <dc:title>El sistema Internacional: sus actores y elementos</dc:title>
</cp:coreProperties>
</file>