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CB179-E1DD-4139-8F20-281DD5278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4AF4D-267B-47F9-AC89-3567F2A2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3A4B5-7E5E-488F-B5E5-F177BCDB4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A5DBA-819F-4412-A493-0C5F9BC38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2F463-48BA-4D0D-B2D3-13EC9765C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C1690-9FBE-44FD-80D2-86CFDBD7E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1E33B-365F-498F-82EE-AE76FB913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3920-8A14-418C-9E95-2DC63DDA4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ABC21-6D94-461B-8603-2F74BEDD3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8B5C6-5159-4FA9-993E-BCE8179D5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7DE74-8A99-406A-B554-DCF3896A5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B78E-0659-48E0-9384-34C61B7B0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F1BC1-4E9D-40A8-AE7B-40EA69958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EEEFD-50BD-4C26-B859-F09E4F3CF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36125-C93C-4605-AA08-6F1CACB9E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C946F-D174-4F2A-9404-88EFF2C60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1B989-67B4-4C72-AE3E-BCFC98BC6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BB76-996A-4268-960A-920DE116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E0431-0831-400A-A8E4-850E8FB85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DD4BB-4926-41F6-9043-429570C1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B76D3-8C2F-4AD6-B953-4D314271D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F6F1-5353-490D-9972-82C51F8A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3A6C-C366-4537-9DEF-B7B217BB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AFF0-FB53-475D-B4C3-E810E60D3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4221-90DA-43A5-9E7A-90319B27AD3B}"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2AE2-1655-420B-80D3-06361FEE7B7C}"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08"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9" name="wilson_pic" descr=""/>
          <p:cNvPicPr/>
          <p:nvPr/>
        </p:nvPicPr>
        <p:blipFill>
          <a:blip r:embed="rId1"/>
          <a:stretch/>
        </p:blipFill>
        <p:spPr>
          <a:xfrm>
            <a:off x="7086600" y="4495680"/>
            <a:ext cx="1736640" cy="200052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2" name="morgenthau_sm" descr=""/>
          <p:cNvPicPr/>
          <p:nvPr/>
        </p:nvPicPr>
        <p:blipFill>
          <a:blip r:embed="rId1"/>
          <a:stretch/>
        </p:blipFill>
        <p:spPr>
          <a:xfrm>
            <a:off x="6553080" y="2819520"/>
            <a:ext cx="1737000" cy="1268280"/>
          </a:xfrm>
          <a:prstGeom prst="rect">
            <a:avLst/>
          </a:prstGeom>
          <a:ln w="0">
            <a:noFill/>
          </a:ln>
        </p:spPr>
      </p:pic>
      <p:pic>
        <p:nvPicPr>
          <p:cNvPr id="113" name="images" descr=""/>
          <p:cNvPicPr/>
          <p:nvPr/>
        </p:nvPicPr>
        <p:blipFill>
          <a:blip r:embed="rId2"/>
          <a:stretch/>
        </p:blipFill>
        <p:spPr>
          <a:xfrm>
            <a:off x="6781680" y="4572000"/>
            <a:ext cx="1406520" cy="1703520"/>
          </a:xfrm>
          <a:prstGeom prst="rect">
            <a:avLst/>
          </a:prstGeom>
          <a:ln w="0">
            <a:noFill/>
          </a:ln>
        </p:spPr>
      </p:pic>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6" name="Kaplan" descr=""/>
          <p:cNvPicPr/>
          <p:nvPr/>
        </p:nvPicPr>
        <p:blipFill>
          <a:blip r:embed="rId1"/>
          <a:stretch/>
        </p:blipFill>
        <p:spPr>
          <a:xfrm>
            <a:off x="6818400" y="3352680"/>
            <a:ext cx="1662120" cy="2362320"/>
          </a:xfrm>
          <a:prstGeom prst="rect">
            <a:avLst/>
          </a:prstGeom>
          <a:ln w="0">
            <a:noFill/>
          </a:ln>
        </p:spPr>
      </p:pic>
      <p:sp>
        <p:nvSpPr>
          <p:cNvPr id="117"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9" name="deutsch1" descr=""/>
          <p:cNvPicPr/>
          <p:nvPr/>
        </p:nvPicPr>
        <p:blipFill>
          <a:blip r:embed="rId2"/>
          <a:stretch/>
        </p:blipFill>
        <p:spPr>
          <a:xfrm>
            <a:off x="1219320" y="3505320"/>
            <a:ext cx="1854000" cy="2341440"/>
          </a:xfrm>
          <a:prstGeom prst="rect">
            <a:avLst/>
          </a:prstGeom>
          <a:ln w="0">
            <a:noFill/>
          </a:ln>
        </p:spPr>
      </p:pic>
      <p:sp>
        <p:nvSpPr>
          <p:cNvPr id="120"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1"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4"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6"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28"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mtvial</cp:lastModifiedBy>
  <dcterms:modified xsi:type="dcterms:W3CDTF">2006-01-23T12:42:46Z</dcterms:modified>
  <cp:revision>3</cp:revision>
  <dc:subject/>
  <dc:title>Presentación de PowerPoint</dc:title>
</cp:coreProperties>
</file>