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FAA2F-00E7-489F-8CD8-37B7DCDE4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7C39-6CB7-45BF-8988-E98C36440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D441B-5132-4E31-B9B9-F0165A07C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2B35F-CCD5-41A8-96BA-FA55647B2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28C94-D254-46F5-B819-1BAA5118C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DEA33-1C85-4B0A-B45C-A7F9C6102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F2ABA-988B-4A41-A1E9-B86F949D9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76419-CE57-4F28-AD12-7C4007CF1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D6F04-495F-435E-A844-4514CF658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F3485-9338-4F75-9C0E-D81CD1134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84C85-77CF-4F07-8A9D-26DBD2846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CB8D-8416-400C-B71C-31E3CF48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29167-AC9B-4202-BD8F-0AE231711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A499-B7BE-48C3-BDC5-77EB463B0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D067-EF49-4637-97F7-649F043F4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62BA9-16DC-4FB0-B68E-EDEBC76BB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CEC2B-1B37-4830-B072-79DD0C63E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14ABF-7FE9-454B-B156-296620F84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212B-E8D7-4DB5-9BB4-7F0230C68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6AD2F-2618-4F81-90C3-036350E08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00FF-67B8-4904-8B3E-7EAA10B7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B0CC3-B45B-4981-BA58-BFD712B2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6967-9210-44D1-972A-38C6776D8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FA0D7-48D6-4A93-8628-090A8BED4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AD7C-5EE7-44F7-9339-90C90B326A62}"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8AA7-F2D2-46A2-8B23-FF4D76E62C68}"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08"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9" name="wilson_pic" descr=""/>
          <p:cNvPicPr/>
          <p:nvPr/>
        </p:nvPicPr>
        <p:blipFill>
          <a:blip r:embed="rId1"/>
          <a:stretch/>
        </p:blipFill>
        <p:spPr>
          <a:xfrm>
            <a:off x="7086600" y="4495680"/>
            <a:ext cx="1736640" cy="2000520"/>
          </a:xfrm>
          <a:prstGeom prst="rect">
            <a:avLst/>
          </a:prstGeom>
          <a:ln w="0">
            <a:noFill/>
          </a:ln>
        </p:spPr>
      </p:pic>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2" name="morgenthau_sm" descr=""/>
          <p:cNvPicPr/>
          <p:nvPr/>
        </p:nvPicPr>
        <p:blipFill>
          <a:blip r:embed="rId1"/>
          <a:stretch/>
        </p:blipFill>
        <p:spPr>
          <a:xfrm>
            <a:off x="6553080" y="2819520"/>
            <a:ext cx="1737000" cy="1268280"/>
          </a:xfrm>
          <a:prstGeom prst="rect">
            <a:avLst/>
          </a:prstGeom>
          <a:ln w="0">
            <a:noFill/>
          </a:ln>
        </p:spPr>
      </p:pic>
      <p:pic>
        <p:nvPicPr>
          <p:cNvPr id="113" name="images" descr=""/>
          <p:cNvPicPr/>
          <p:nvPr/>
        </p:nvPicPr>
        <p:blipFill>
          <a:blip r:embed="rId2"/>
          <a:stretch/>
        </p:blipFill>
        <p:spPr>
          <a:xfrm>
            <a:off x="6781680" y="4572000"/>
            <a:ext cx="1406520" cy="1703520"/>
          </a:xfrm>
          <a:prstGeom prst="rect">
            <a:avLst/>
          </a:prstGeom>
          <a:ln w="0">
            <a:noFill/>
          </a:ln>
        </p:spPr>
      </p:pic>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6" name="Kaplan" descr=""/>
          <p:cNvPicPr/>
          <p:nvPr/>
        </p:nvPicPr>
        <p:blipFill>
          <a:blip r:embed="rId1"/>
          <a:stretch/>
        </p:blipFill>
        <p:spPr>
          <a:xfrm>
            <a:off x="6818400" y="3352680"/>
            <a:ext cx="1662120" cy="2362320"/>
          </a:xfrm>
          <a:prstGeom prst="rect">
            <a:avLst/>
          </a:prstGeom>
          <a:ln w="0">
            <a:noFill/>
          </a:ln>
        </p:spPr>
      </p:pic>
      <p:sp>
        <p:nvSpPr>
          <p:cNvPr id="117"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18"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9" name="deutsch1" descr=""/>
          <p:cNvPicPr/>
          <p:nvPr/>
        </p:nvPicPr>
        <p:blipFill>
          <a:blip r:embed="rId2"/>
          <a:stretch/>
        </p:blipFill>
        <p:spPr>
          <a:xfrm>
            <a:off x="1219320" y="3505320"/>
            <a:ext cx="1854000" cy="2341440"/>
          </a:xfrm>
          <a:prstGeom prst="rect">
            <a:avLst/>
          </a:prstGeom>
          <a:ln w="0">
            <a:noFill/>
          </a:ln>
        </p:spPr>
      </p:pic>
      <p:sp>
        <p:nvSpPr>
          <p:cNvPr id="120"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1"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4"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6"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28"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mtvial</cp:lastModifiedBy>
  <dcterms:modified xsi:type="dcterms:W3CDTF">2006-01-23T12:42:46Z</dcterms:modified>
  <cp:revision>3</cp:revision>
  <dc:subject/>
  <dc:title>Presentación de PowerPoint</dc:title>
</cp:coreProperties>
</file>