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28F-6DD6-4D97-BE06-A501BED8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2E7B-0EC1-45FA-8BD8-30268C6A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9C3-6161-47A3-8F72-E4F63C29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BB2-4F84-4D6E-AA9E-F1692C89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8F0-B09C-4703-828F-9AAEF189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CCAE-3E51-4A29-B874-E304A2F4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C55-9C44-4AB6-819D-73590BA3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B106-4949-4AB5-8951-62830CC3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CE6-8088-461F-ABA3-A1979D09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089-49B6-4218-9DB5-31833337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C2D-ACBC-4603-B3E8-E1A5C409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374-EEA5-4603-8BFD-774EA088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94B4-56BE-42D0-B785-889704CC5A3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01720" y="2309760"/>
            <a:ext cx="383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troducción a 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nzim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11760" y="2708280"/>
            <a:ext cx="85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programs.northlandcollege.edu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720" y="213372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zimas alosté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50040" y="784080"/>
            <a:ext cx="56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gulación de la actividad enzi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2384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5480" y="350028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tivación alost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3280" y="465300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ción no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9600" y="5157720"/>
            <a:ext cx="583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io.winona.msus.edu/berg/ANIMTNS/n-c-in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240" y="4076640"/>
            <a:ext cx="58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io.winona.msus.edu/berg/ANIMTNS/allost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1040" y="5870520"/>
            <a:ext cx="68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cs.whfreeman.com/thelifewire/content/chp06/06020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8360" y="0"/>
          <a:ext cx="813600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0"/>
                    <a:ext cx="8136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9640" y="476280"/>
          <a:ext cx="820908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20908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4312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2492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47720" y="47912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4214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52360" y="5870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84200" y="524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476280"/>
          <a:ext cx="799128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799128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63480" y="1360440"/>
            <a:ext cx="786924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enzimas acoplan la combustión espontánea de los alimentos a reacciones que producen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64000" y="2924280"/>
            <a:ext cx="0" cy="1081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6680" y="4097160"/>
            <a:ext cx="39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ciones acopl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58920" y="189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la célula fabrica ATP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620640"/>
            <a:ext cx="8893080" cy="68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Directa: fosforilación a nivel de sustrato: cuando un sustrato (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dona su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l ADP para hacer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directa: Mecanismo: Quimiosm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sustratos de los alimentos donan s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 moléculas aceptoras: NAD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NADP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, FA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para producción de moléculas reducid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protón difunde a través de la membrana plasmática (bacterias) o mitocondrial o tilacoide (eucariontes) e ingresa nuevamente activando ATPa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DP + Pi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630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04400" y="4718160"/>
            <a:ext cx="71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microbelibrary.org/images/Tterry/anim/ATPsynthbac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55480" y="378288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ATP en bacterias por quimiosm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34720" y="1989000"/>
            <a:ext cx="68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cat.cc.md.us/~gkaiser/biotutorials/energy/subph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84200" y="121608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forilación a nivel de 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992" t="40641" r="53994" b="10017"/>
          <a:stretch/>
        </p:blipFill>
        <p:spPr>
          <a:xfrm>
            <a:off x="1598760" y="1125360"/>
            <a:ext cx="54878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51117" t="32697" r="15315" b="16456"/>
          <a:stretch/>
        </p:blipFill>
        <p:spPr>
          <a:xfrm>
            <a:off x="1905120" y="533520"/>
            <a:ext cx="4495680" cy="5105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2720" y="5772240"/>
            <a:ext cx="824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 Km y la Vmax para una reacción catalizada por una enzima está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das desde  los gráficos de velocidad inicial versus concentr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l sustrat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4960" y="803160"/>
            <a:ext cx="8841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SIGNIFICADO de Km y Vm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n dos parámetros que definen el comportamiento ci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una enzima como una función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m representa la concentración de sustrato que se requ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ra alcanzar  la mitad de la velocidad máxima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m es una concentración. Se expresa como moles/litro (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max es una medida de velo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 expresa en moles/min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79280" y="112536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ción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27200" y="2060640"/>
            <a:ext cx="58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io.winona.msus.edu/berg/ANIMTNS/c-inhb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9:23:14Z</dcterms:created>
  <dc:creator>amronco</dc:creator>
  <dc:description/>
  <dc:language>en-US</dc:language>
  <cp:lastModifiedBy>amronco</cp:lastModifiedBy>
  <dcterms:modified xsi:type="dcterms:W3CDTF">2006-01-04T18:29:49Z</dcterms:modified>
  <cp:revision>10</cp:revision>
  <dc:subject/>
  <dc:title>Diapositiva 1</dc:title>
</cp:coreProperties>
</file>