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90A-5F1E-49BA-B290-96F90EC6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6EB-4187-4E17-823F-F359D86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760-DEF3-4863-8B5A-F0D6598E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77D-E609-4FE5-AFE0-2B2872B5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35C-907C-4731-A8F8-74A6B9A0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DDB-A929-4541-B406-C3927CCA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7DD-C9AA-4C69-A633-031DA42B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7F6-A999-4A38-870F-59FDA82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B03-3DC5-4F24-9A03-91B9E65E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08C-AAFF-42BD-8A96-36CC7AD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D0B-9005-4D41-8904-1B802E1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8AF-D0C1-4009-9C8B-E790877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9CF-AC6B-4042-9A0E-E293BC9E0C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23097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nzi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1760" y="270828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rograms.northlandcollege.edu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720" y="21337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as alost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0040" y="78408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ón de la actividad 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2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5480" y="3500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ción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280" y="465300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600" y="515772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n-c-in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240" y="407664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allost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1040" y="58705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640" y="476280"/>
          <a:ext cx="820908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4312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7720" y="4791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421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2360" y="587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3480" y="1360440"/>
            <a:ext cx="78692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292428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6680" y="4097160"/>
            <a:ext cx="39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189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20640"/>
            <a:ext cx="889308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63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4400" y="4718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microbelibrary.org/images/Tterry/anim/ATPsynthb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55480" y="37828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 en bacterias por quimios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4720" y="198900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sub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4200" y="1216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280" y="11253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7200" y="206064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c-inhb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9:23:14Z</dcterms:created>
  <dc:creator>amronco</dc:creator>
  <dc:description/>
  <dc:language>en-US</dc:language>
  <cp:lastModifiedBy>amronco</cp:lastModifiedBy>
  <dcterms:modified xsi:type="dcterms:W3CDTF">2006-01-04T18:29:49Z</dcterms:modified>
  <cp:revision>10</cp:revision>
  <dc:subject/>
  <dc:title>Diapositiva 1</dc:title>
</cp:coreProperties>
</file>