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AD6-BCCC-4FF5-8ABF-DA97D49C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A0F-DA64-49F7-9E28-04117D7F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6B0-D3D5-45E4-9023-167D9493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D5D-A920-4C7D-B5C8-11293761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510-48A1-494A-8925-74D6695F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3D4-3431-4196-9FD6-70B10CD2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0D0-DE9A-4347-BD85-7A8C076D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A61-DCC1-4377-B501-2E07BC2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4FC-FA04-46CD-996C-A39E260B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7A8-9A6F-450E-98D0-7C4B643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1F7-0255-45D7-8CFB-7D7EFA7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0EF-3DC8-4518-AA80-FD0657F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67B1-A90F-44F0-B1C5-32A8AEA51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0320" y="2744640"/>
            <a:ext cx="801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oléculas Químicas en Biología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1150920"/>
            <a:ext cx="80643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lor de Vaporiz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tidad de calor que debe absorber una sustancia para cambiar 1 g de agua líquida en vap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V del agua: 586 cal para cambiar 1 g de agua líquida en vap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enfriamiento de los 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89000"/>
            <a:ext cx="7993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he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tracción entre moléculas polares: cuando la otra  molécula polar es agua se habla de cohe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tado líquido del agua a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as mode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nsión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la otra molécula polar es diferente: adhesión , forma enlaces de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el agua atrae sustancias con carga eléctrica: atracción electrostática, responsable de la capi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90720"/>
            <a:ext cx="8763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piedades del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derivadas de la ruptur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 sus enlaces coval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ONIZACIÓN :  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0                O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5146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124080"/>
            <a:ext cx="83055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= 1 x 10 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–7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mol/L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H =  - log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A &lt; pH &gt;Aci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concentración relativa de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en 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1360" y="573120"/>
            <a:ext cx="842148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Función del H</a:t>
            </a:r>
            <a:r>
              <a:rPr b="1" lang="es-E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O en la formación de TAMP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pH  sangre: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Uno de los mejores tampones de la sangre es H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0 + CO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 + 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        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+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lt; pH   equilibrio  hacia  la  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A &l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  pH  equilibrio  hacia  la 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9625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5007" t="34801" r="61732" b="26019"/>
          <a:stretch/>
        </p:blipFill>
        <p:spPr>
          <a:xfrm>
            <a:off x="7621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5920" y="457200"/>
            <a:ext cx="784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S ORGÁNICAS: POSE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R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UP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99840" y="990720"/>
            <a:ext cx="11430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066680"/>
            <a:ext cx="129528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31240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4419720"/>
            <a:ext cx="44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fine las características químicas de las 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67000" y="4724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0" y="44956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yor re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56386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grup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 enlaces C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933" t="34020" r="24989" b="34020"/>
          <a:stretch/>
        </p:blipFill>
        <p:spPr>
          <a:xfrm>
            <a:off x="0" y="1447920"/>
            <a:ext cx="8748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7480" y="762120"/>
            <a:ext cx="49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PO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1905120"/>
          <a:ext cx="6024600" cy="4495680"/>
        </p:xfrm>
        <a:graphic>
          <a:graphicData uri="http://schemas.openxmlformats.org/drawingml/2006/table">
            <a:tbl>
              <a:tblPr/>
              <a:tblGrid>
                <a:gridCol w="297648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IDR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=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ULFHIDR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SF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4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MEROS: MACROMOLÉCULAS DE CADENA LARGA 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UBUNIDADES O MONÓ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76212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 DE POLÍMEROS Y RUPTURA DE UN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VALENTE  ENTRE SUB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640" y="24382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SHID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124080"/>
            <a:ext cx="121932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+ 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3733920"/>
            <a:ext cx="990360" cy="3045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776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809880"/>
            <a:ext cx="0" cy="12193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5360" y="5334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3068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2240" y="30830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8320" y="1868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MACIÓ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933960" y="3581280"/>
            <a:ext cx="609480" cy="5335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1840" y="4114800"/>
            <a:ext cx="13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24240" y="5410080"/>
            <a:ext cx="32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2971800"/>
            <a:ext cx="68580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GANISMOS VIVOS FORMADOS POR C,H,O,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osición muy diferente a la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84" t="19341" r="34012" b="15309"/>
          <a:stretch/>
        </p:blipFill>
        <p:spPr>
          <a:xfrm>
            <a:off x="912960" y="1752480"/>
            <a:ext cx="5862600" cy="449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600" y="598320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undancia relativa de elementos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68440" y="2484360"/>
            <a:ext cx="396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r qué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bles en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enlaces co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4120" y="53172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ÍMEROS: MACROMOLÉCULAS DE CADENA L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DAS POR SUBUNIDADES O MONÓ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2336760"/>
          <a:ext cx="8305920" cy="3936960"/>
        </p:xfrm>
        <a:graphic>
          <a:graphicData uri="http://schemas.openxmlformats.org/drawingml/2006/table">
            <a:tbl>
              <a:tblPr/>
              <a:tblGrid>
                <a:gridCol w="2514600"/>
                <a:gridCol w="2133720"/>
                <a:gridCol w="1143000"/>
                <a:gridCol w="2514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HID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ZÚCAR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=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ÍP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CIDO GR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TEÍ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Á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TÁL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ÁCIDOS NUCLE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UCLEOT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RESIÓN GÉ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762120" y="1828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Macromolécula    Subunidad    G.Funcional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    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15920"/>
            <a:ext cx="84024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HIDRATOS DE CARBONO O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TIENEN C,H,O  (1:2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ÓRMULA EMPÍRICA: (C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UNCIÓN: ALMACENAN ENERGÍA: ENLACES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BOHIDRATOS MÁS SIMPLES: MONOSACÁRIDOS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ZÚCAR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L AZÚCAR MÁS SIMPLE: 3 ÁTOMOS 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QUE TIENEN UN ROL ENERGÉ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6 ÁTOMOS DE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nlace C-H: 3.9 Kcal /mol ap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71360"/>
            <a:ext cx="8353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funcional : Carbonilo: C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dehído: al extremo de la molécula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tona: al centro de la molécula        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4149720"/>
            <a:ext cx="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992" t="20664" r="28013" b="19341"/>
          <a:stretch/>
        </p:blipFill>
        <p:spPr>
          <a:xfrm>
            <a:off x="254160" y="152280"/>
            <a:ext cx="88135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36920" y="1859040"/>
            <a:ext cx="39906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órmula empí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32544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UC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UCT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ALAC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                                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      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H                                  C =O 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|                                          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 |                                            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                                            H                                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600200"/>
            <a:ext cx="1219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209680"/>
            <a:ext cx="9907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1600200"/>
            <a:ext cx="12956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040" y="5715000"/>
            <a:ext cx="77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FRUCTOSA: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GALACTOSA: ISÓMEROS ESPA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EREOISÓ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ANTIÓMEROS - ISÓMEROS ÓPTICOS: IMAGEN E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2514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—  C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219320"/>
            <a:ext cx="266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C*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— C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59436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-Glucos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297180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D-gliceraldehí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581280"/>
            <a:ext cx="4572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7880" y="64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*: centro qu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023" t="20664" r="43979" b="32697"/>
          <a:stretch/>
        </p:blipFill>
        <p:spPr>
          <a:xfrm>
            <a:off x="685800" y="1371600"/>
            <a:ext cx="7907400" cy="52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8200" y="52236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lace covalente: se comparten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340000" y="907920"/>
            <a:ext cx="5256360" cy="5834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04920" y="20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í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6916" t="33611" r="19751" b="39917"/>
          <a:stretch/>
        </p:blipFill>
        <p:spPr>
          <a:xfrm>
            <a:off x="0" y="1779480"/>
            <a:ext cx="9144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41080" y="1023840"/>
            <a:ext cx="7985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nantiómeros (actividad ópt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xtr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recha: 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zquierda: l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960" y="514656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y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90040" y="32464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hw.ac.uk/site/chemistry/activity5.asp?outlin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-168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1880" y="59832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rganismos vivos sólo metabolizan D-azúc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190512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ductos Dietét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-azúc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04320" y="1233360"/>
            <a:ext cx="52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ímeros de H de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isacá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2674" t="30358" r="27984" b="18611"/>
          <a:stretch/>
        </p:blipFill>
        <p:spPr>
          <a:xfrm>
            <a:off x="971640" y="115920"/>
            <a:ext cx="6840360" cy="475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814" t="51369" r="27314" b="25185"/>
          <a:stretch/>
        </p:blipFill>
        <p:spPr>
          <a:xfrm>
            <a:off x="324000" y="4724280"/>
            <a:ext cx="856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000" y="2133720"/>
            <a:ext cx="41040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EL AG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5999" t="50356" r="25981" b="18648"/>
          <a:stretch/>
        </p:blipFill>
        <p:spPr>
          <a:xfrm>
            <a:off x="457200" y="2997360"/>
            <a:ext cx="8172360" cy="279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9079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úcar de almacenamiento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5999" t="50022" r="65667" b="13986"/>
          <a:stretch/>
        </p:blipFill>
        <p:spPr>
          <a:xfrm>
            <a:off x="2879640" y="129708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1001" t="20003" r="29000" b="16002"/>
          <a:stretch/>
        </p:blipFill>
        <p:spPr>
          <a:xfrm>
            <a:off x="380880" y="76320"/>
            <a:ext cx="5334120" cy="3657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1001" t="44667" r="28003" b="38002"/>
          <a:stretch/>
        </p:blipFill>
        <p:spPr>
          <a:xfrm>
            <a:off x="380880" y="3657600"/>
            <a:ext cx="541044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35960" y="491796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1 disacáridos formados por 2 residuos de D-glucos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143000"/>
            <a:ext cx="230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447920"/>
            <a:ext cx="5331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838080"/>
            <a:ext cx="13716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85800"/>
            <a:ext cx="9907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133720"/>
            <a:ext cx="9907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286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447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280" y="1636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476280"/>
            <a:ext cx="464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structura-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n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hay electrones desapare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2960" y="46134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199680" y="99072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57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9440" y="955800"/>
            <a:ext cx="4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7160" y="4460760"/>
            <a:ext cx="275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876920"/>
            <a:ext cx="1371600" cy="380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5486400"/>
            <a:ext cx="1447920" cy="838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9600" y="50688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 | | | | | |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181480" y="49953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2920" y="60199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486400"/>
            <a:ext cx="1219320" cy="762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7120" y="57913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nte de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4840" y="43434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co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6800" y="4235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4800600"/>
            <a:ext cx="152640" cy="1371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14600" y="4572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4800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38280" y="47242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4340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3960" y="112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6880" y="1874880"/>
          <a:ext cx="8001000" cy="4508280"/>
        </p:xfrm>
        <a:graphic>
          <a:graphicData uri="http://schemas.openxmlformats.org/drawingml/2006/table">
            <a:tbl>
              <a:tblPr/>
              <a:tblGrid>
                <a:gridCol w="2438640"/>
                <a:gridCol w="3109680"/>
                <a:gridCol w="245268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a pola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trae iones y compuestos pol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olu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bsorbe y libera c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abiliza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V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 rompen muchos enlaces de 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ap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isminución tº cuer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h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laces de H mantienen moléculas unidas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ermi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nor densidad de hi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léculas de agua están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pa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ita congela miento de lagos y m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72320" y="398520"/>
            <a:ext cx="53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IEDADES D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00" y="143352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MBR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PROPIEDAD QUÍMICA   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197000"/>
            <a:ext cx="7704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olaridad: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istribución desigual de las cargas de los átomos que componen la moléc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: permite solubilizar compuestos polares y i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j: azúcar (polar) y sal (NaCl: iónico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981000"/>
            <a:ext cx="88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lor específico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ntidad de energía calórica que debe ser absorbida o liberada por un g de sustancia para cambiar su tº en 1ºC. Mide cuanto resiste una sustancia al cambiar su tº cuando absorbe o pierde c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E del agua: 1 cal/g/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 de esta propiedad: el calor que absorbe el agua se usa para romper los enlaces de H entre las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6:53:35Z</dcterms:created>
  <dc:creator>Ana Maria Ronco</dc:creator>
  <dc:description/>
  <dc:language>en-US</dc:language>
  <cp:lastModifiedBy>amronco</cp:lastModifiedBy>
  <dcterms:modified xsi:type="dcterms:W3CDTF">2006-01-04T18:02:09Z</dcterms:modified>
  <cp:revision>12</cp:revision>
  <dc:subject/>
  <dc:title>Diapositiva 1</dc:title>
</cp:coreProperties>
</file>