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557-3AC1-43E0-9619-AF5A966C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2A-FA84-456C-AC26-E0E3A35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55F-2043-47C0-947A-F6F1F98D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615-15DA-4F08-8A73-DF5FF30B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B25-EBF5-431F-A205-32B71E4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574-1A6A-4BEE-B157-9E0EE1C9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0C9-6678-45FF-8A56-3D4D752C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A34-9E77-4AD2-9B39-B5D1676C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115-CBFF-4EB9-8448-E29FA4E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AEB-F7B5-4285-838F-B1B8202C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097-98CB-405E-B70C-CAC204A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08F-E2C7-46AC-97F9-3611806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4FC5-12EF-4333-AA27-2075B688E6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3246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legacy/college/boyer/0470003790/animations/cell_structure/cell_struct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63480"/>
            <a:ext cx="806436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 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 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mronco</cp:lastModifiedBy>
  <dcterms:modified xsi:type="dcterms:W3CDTF">2006-01-02T19:01:07Z</dcterms:modified>
  <cp:revision>7</cp:revision>
  <dc:subject/>
  <dc:title>Diapositiva 1</dc:title>
</cp:coreProperties>
</file>