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419-E14D-468F-9FCD-C385E5E6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F704-506B-4AD4-8B5B-5CA54A0C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E6DE-9EF7-4EC3-8BA5-86FC7593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0AD7-B3BB-4D8A-BCE1-19F69BAC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C78B-B7EB-4C69-AF36-CD4F3A18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DA82-7C13-40ED-8FFC-1B892451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F208-3B69-4311-BD86-60FA7B47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E84F-7037-4618-9214-AF2BADC2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E21A-5882-4137-8539-7EBE8CA3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0F3D-1670-4A66-8BB0-2D116789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D0C-8C38-4C0F-B52D-AC9DCDED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831E-A963-42C4-9CAA-6AA9FF24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0850-8359-4C04-922E-106B2178217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4000" y="533520"/>
            <a:ext cx="79560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BIOLOGIA= CIENCIA DE LA V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sarrollo basado en el METODO CIENTI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- HIPO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2. DEMOSTR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05320" y="3429000"/>
            <a:ext cx="690480" cy="1460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5600" y="3429000"/>
            <a:ext cx="31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EXPERIM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8400" y="5907240"/>
            <a:ext cx="78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LOGIA APLICADA: BIOTECNOLOGIA, MEDICIN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I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47840" y="395280"/>
            <a:ext cx="57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Formación de los fosfolípido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membr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992" t="19971" r="70008" b="34650"/>
          <a:stretch/>
        </p:blipFill>
        <p:spPr>
          <a:xfrm>
            <a:off x="1015920" y="1241280"/>
            <a:ext cx="718020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62720" y="777960"/>
            <a:ext cx="6384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LEMENTOS BASICO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A CÉL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MBRANA CE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GIÓN NU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TRIZ SEMIFLUÍD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ITO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209520" y="1185840"/>
            <a:ext cx="9353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ASIFICACIÓN DE LOS ORGANISMOS VIVOS SEGÚN COMPLEJ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1.-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PROCARIO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2.- 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EUCARIO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22860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IFERENCIAS ENTRE PRO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Y EU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1650960"/>
          <a:ext cx="8382240" cy="469728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304812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PROCARIO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EUCARIO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AM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-10 MICR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-100 MICR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º CÉLUL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 Ó M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RGANIZACIÓN INTRACITOPLASMAT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RGANEL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EMBRANO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GION NU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REGIÓN NU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ÚCLEO VERDAD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26920" y="32464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wiley.com/legacy/college/boyer/0470003790/animations/cell_structure/cell_structur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992" t="16695" r="28013" b="11340"/>
          <a:stretch/>
        </p:blipFill>
        <p:spPr>
          <a:xfrm>
            <a:off x="201600" y="1357200"/>
            <a:ext cx="8331120" cy="4454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15680" y="380880"/>
            <a:ext cx="55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inaje de los Reinos B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5943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3 reinos están interrelacionados a través de secuencias  de rRNA comunes y muestra como la vida se originó de un progenitor comú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0"/>
            <a:ext cx="1240308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CARACTERISTICAS Y PROPIEDADE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LOS  SERES V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RGANIZACIÓ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mpleja: diferentes niveles, gr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er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CRECIMIENTO Y METABOLISMO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ra crecer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rrollarse se necesita ENE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REPRODUC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bbe0e3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HERENCI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formación 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66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OTR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movimiento, capacidad de respues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ostasis, adaptación, 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53352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TEORIA CE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DOS LOS SISTEMAS VIVOS EST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UESTO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R UNA O MAS CÉ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 CÉLULA ES LA UNIDAD MÁS PEQUE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 LOS ORGANISMOS V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DA CÉLULA PROVIENE DE UNA CÉL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EEXISTENTE POR UN PROCESO DE DIVISIÓ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663480"/>
            <a:ext cx="8064360" cy="55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Origen de la 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9933"/>
                </a:solidFill>
                <a:latin typeface="Arial"/>
              </a:rPr>
              <a:t>Teo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parin: 1922: vida proviene  de   evolución química, surgida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forma espontánea bajo condiciones ambientales pre-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Miller: 1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xperimento para probar teoría  Opa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1.     Poco O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li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(no unido a otros elemen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2.     C,H,O,N en abund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3983" t="27342" r="15022" b="45990"/>
          <a:stretch/>
        </p:blipFill>
        <p:spPr>
          <a:xfrm>
            <a:off x="914400" y="380880"/>
            <a:ext cx="6942240" cy="195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992" t="26649" r="16014" b="14679"/>
          <a:stretch/>
        </p:blipFill>
        <p:spPr>
          <a:xfrm>
            <a:off x="1371600" y="2362320"/>
            <a:ext cx="6799320" cy="3605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1400" y="5985000"/>
            <a:ext cx="438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xperimento de Mille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19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14002" t="23335" r="17001" b="27336"/>
          <a:stretch/>
        </p:blipFill>
        <p:spPr>
          <a:xfrm>
            <a:off x="1015920" y="3200400"/>
            <a:ext cx="731520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11002" t="16670" r="13000" b="40005"/>
          <a:stretch/>
        </p:blipFill>
        <p:spPr>
          <a:xfrm>
            <a:off x="711360" y="419040"/>
            <a:ext cx="78231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984" t="28665" r="29453" b="30555"/>
          <a:stretch/>
        </p:blipFill>
        <p:spPr>
          <a:xfrm>
            <a:off x="76320" y="1143000"/>
            <a:ext cx="8991360" cy="4010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3960" y="399960"/>
            <a:ext cx="499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rmación de nucleótidos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olipép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5372280"/>
            <a:ext cx="88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Nucleótidos (A,U,G,C) sufren polimerización espontá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olinucleótidos al az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A polimerizan             polipép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07440" y="558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67080" y="6165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984" t="20664" r="67169" b="50022"/>
          <a:stretch/>
        </p:blipFill>
        <p:spPr>
          <a:xfrm>
            <a:off x="304920" y="1620720"/>
            <a:ext cx="3962160" cy="2822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4572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tapas en la evolución de un sistema autoreplicativo de moléculas de RNA capaces de dirigir la síntesis de 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34012" t="19341" r="29005" b="31311"/>
          <a:stretch/>
        </p:blipFill>
        <p:spPr>
          <a:xfrm>
            <a:off x="4572000" y="1523880"/>
            <a:ext cx="43624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1984" t="20664" r="36988" b="15309"/>
          <a:stretch/>
        </p:blipFill>
        <p:spPr>
          <a:xfrm>
            <a:off x="406440" y="1290600"/>
            <a:ext cx="8737560" cy="5567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1280" y="45720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tapas en la evolución de simple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utoreplicativos de RNA hasta la época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5:05:21Z</dcterms:created>
  <dc:creator>Ana Maria Ronco</dc:creator>
  <dc:description/>
  <dc:language>en-US</dc:language>
  <cp:lastModifiedBy>amronco</cp:lastModifiedBy>
  <dcterms:modified xsi:type="dcterms:W3CDTF">2006-01-02T19:01:07Z</dcterms:modified>
  <cp:revision>7</cp:revision>
  <dc:subject/>
  <dc:title>Diapositiva 1</dc:title>
</cp:coreProperties>
</file>