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B19-D70A-4D42-BA81-811CE6FB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AE8-392A-4879-9EAE-F5288B71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1FA-2C9B-4030-A245-7D6A146B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332-7E50-4588-B2C4-EF458492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A66-BE87-4D0C-9D10-8C89AB47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2A5-4F1D-4748-A0F7-322A109A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9D5-CFEF-478F-A896-B415A7A2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CFA-8321-4DE0-8E55-4C37963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5ED-2A49-4231-A7BD-DAD6D32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B3E-237E-41D8-ADC1-5EB8A028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8B2-6245-49C9-8F5A-79E1FD29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724-0037-4084-8711-0CF99C9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CF55-6FDA-4925-8AAE-29C30D67C0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47840" y="39528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992" t="19971" r="70008" b="34650"/>
          <a:stretch/>
        </p:blipFill>
        <p:spPr>
          <a:xfrm>
            <a:off x="1015920" y="1241280"/>
            <a:ext cx="71802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272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3246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wiley.com/legacy/college/boyer/0470003790/animations/cell_structure/cell_structur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201600" y="1357200"/>
            <a:ext cx="8331120" cy="445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1568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RECIMIENTO Y METABOLISM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66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R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63480"/>
            <a:ext cx="806436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 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 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983" t="27342" r="15022" b="45990"/>
          <a:stretch/>
        </p:blipFill>
        <p:spPr>
          <a:xfrm>
            <a:off x="91440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400" y="5985000"/>
            <a:ext cx="43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002" t="23335" r="17001" b="27336"/>
          <a:stretch/>
        </p:blipFill>
        <p:spPr>
          <a:xfrm>
            <a:off x="1015920" y="3200400"/>
            <a:ext cx="73152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1002" t="16670" r="13000" b="40005"/>
          <a:stretch/>
        </p:blipFill>
        <p:spPr>
          <a:xfrm>
            <a:off x="711360" y="419040"/>
            <a:ext cx="7823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3960" y="39996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4012" t="19341" r="29005" b="31311"/>
          <a:stretch/>
        </p:blipFill>
        <p:spPr>
          <a:xfrm>
            <a:off x="4572000" y="1523880"/>
            <a:ext cx="4362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984" t="20664" r="36988" b="15309"/>
          <a:stretch/>
        </p:blipFill>
        <p:spPr>
          <a:xfrm>
            <a:off x="406440" y="1290600"/>
            <a:ext cx="8737560" cy="556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05:21Z</dcterms:created>
  <dc:creator>Ana Maria Ronco</dc:creator>
  <dc:description/>
  <dc:language>en-US</dc:language>
  <cp:lastModifiedBy>amronco</cp:lastModifiedBy>
  <dcterms:modified xsi:type="dcterms:W3CDTF">2006-01-02T19:01:07Z</dcterms:modified>
  <cp:revision>7</cp:revision>
  <dc:subject/>
  <dc:title>Diapositiva 1</dc:title>
</cp:coreProperties>
</file>