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A60-93B7-4624-A656-0F3A868C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A46-B09F-43C9-BF25-6B1D7097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74AE-FEDE-4338-81D0-78C107F4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7C1-22BF-4B8A-9629-FCBA65F9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5C8-42D4-437C-A630-392B8DA9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4B7-8A14-440E-8620-1EBE68AB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5DB-435E-4DFA-82C6-4790B64F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8EF4-0C11-435A-AB78-D87C4C8F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C03-31BC-4D13-A3F7-98778B63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810-D300-4333-9DBE-DE549709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F01-9B23-4AB8-9419-1FD7D90E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04A-C509-4496-8FFF-815DE971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47C3-7C36-4E55-AAA0-0BB51109A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3182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Vibración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773360"/>
            <a:ext cx="712764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n un aerófono como la trompeta, la vibración de la columna de aire la producen los labios del músico. Debido a la enorme flexibilidad y control que el ejecutante tiene sobre sus propios labios, puede forzar fácilmente a que la vibración de los labios “le gane” a la de la columna de aire del instrumento. Esto le permitiría tocar, sólo con los labios, casi cualquier no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Sin embargo, hay notas que son “privilegiadas” por el instru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Veamos a continuación cuale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Vibración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1773360"/>
            <a:ext cx="71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La columna de aire de la trompeta va a “preferir” frecuencias de oscilación que tienen relación con la longitud de ella. Pero además, es proclive a oscilar a submúltiplos enteros de los distintos modos de vibración. De esta forma por ejemplo, para una trompeta de fundamental 100Hz se tien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050920" y="3645000"/>
            <a:ext cx="3745080" cy="2014560"/>
            <a:chOff x="2050920" y="3645000"/>
            <a:chExt cx="3745080" cy="2014560"/>
          </a:xfrm>
        </p:grpSpPr>
        <p:sp>
          <p:nvSpPr>
            <p:cNvPr id="52" name=""/>
            <p:cNvSpPr/>
            <p:nvPr/>
          </p:nvSpPr>
          <p:spPr>
            <a:xfrm>
              <a:off x="2050920" y="3645000"/>
              <a:ext cx="86544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10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2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300/3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500/5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30920" y="3645000"/>
              <a:ext cx="865080" cy="18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20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600/3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8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51280" y="3645000"/>
              <a:ext cx="8650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15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3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6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43280" y="3645000"/>
              <a:ext cx="86508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3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116000" y="5013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e puede observar que algunas frecuencias son “privilegiadas” muchas veces. Si bien el músico siempre tiene control sobre la nota que ejecuta, esto hace que algunas notas “caigan” más fácilmente a estas frecuencias privilegi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773360"/>
            <a:ext cx="7127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La columna de aire de la trompeta, por sí sola, tiene una determinada “receta” de frecuencias que es distinta a la percibida por los oyentes. La diferencia entre estas dos recetas la provoca la camp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n un tubo, el “volumen” de cada frecuencia es determinada por el área de contacto entre la columna que oscila y el aire de la sal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501336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508720" y="5229360"/>
            <a:ext cx="503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580536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773360"/>
            <a:ext cx="712764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Al agregar una campana, esta superficie se ve aumentada. Pero esto no es igual para todas las frecuencias que componen la oscilación de la columna de aire en el instru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Si la longitud de onda de la frecuencia de la columna es muy grande comparado con la tasa de ensanchamiento de la campana, para esta frecuencia será similar a que el tubo terminara abruptamente. Es decir: no “ve” la campana, y por lo tanto no aumenta la superficie de contacto (permanece a la misma intensidad para dicha baja frecuen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501336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508720" y="5229000"/>
            <a:ext cx="1511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566100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58920" y="5000760"/>
            <a:ext cx="6357960" cy="444240"/>
          </a:xfrm>
          <a:custGeom>
            <a:avLst/>
            <a:gdLst/>
            <a:ahLst/>
            <a:rect l="l" t="t" r="r" b="b"/>
            <a:pathLst>
              <a:path w="4005" h="280">
                <a:moveTo>
                  <a:pt x="0" y="280"/>
                </a:moveTo>
                <a:cubicBezTo>
                  <a:pt x="193" y="144"/>
                  <a:pt x="386" y="8"/>
                  <a:pt x="590" y="8"/>
                </a:cubicBezTo>
                <a:cubicBezTo>
                  <a:pt x="794" y="8"/>
                  <a:pt x="1006" y="280"/>
                  <a:pt x="1225" y="280"/>
                </a:cubicBezTo>
                <a:cubicBezTo>
                  <a:pt x="1444" y="280"/>
                  <a:pt x="1687" y="8"/>
                  <a:pt x="1906" y="8"/>
                </a:cubicBezTo>
                <a:cubicBezTo>
                  <a:pt x="2125" y="8"/>
                  <a:pt x="2329" y="280"/>
                  <a:pt x="2541" y="280"/>
                </a:cubicBezTo>
                <a:cubicBezTo>
                  <a:pt x="2753" y="280"/>
                  <a:pt x="2972" y="16"/>
                  <a:pt x="3176" y="8"/>
                </a:cubicBezTo>
                <a:cubicBezTo>
                  <a:pt x="3380" y="0"/>
                  <a:pt x="3627" y="207"/>
                  <a:pt x="3765" y="235"/>
                </a:cubicBezTo>
                <a:cubicBezTo>
                  <a:pt x="3903" y="263"/>
                  <a:pt x="3955" y="189"/>
                  <a:pt x="4005" y="177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436572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435640" y="5445000"/>
            <a:ext cx="1008000" cy="64800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1773360"/>
            <a:ext cx="712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En cambio, para aquellas Si la longitud de onda de la frecuencia de la columna es muy grande comparado con la tasa de ensanchamiento de la campana, para esta frecuencia será similar a que el tubo terminara abruptamente. Es decir: no “ve” la campana, y por lo tanto no aumenta la superficie de contacto (permanece a la misma intensidad para dicha baja frecuen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00720" y="4365720"/>
            <a:ext cx="28908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436572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435640" y="5445000"/>
            <a:ext cx="1008000" cy="64800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4365720"/>
            <a:ext cx="5904000" cy="1811160"/>
          </a:xfrm>
          <a:custGeom>
            <a:avLst/>
            <a:gdLst/>
            <a:ahLst/>
            <a:rect l="l" t="t" r="r" b="b"/>
            <a:pathLst>
              <a:path w="3719" h="1141">
                <a:moveTo>
                  <a:pt x="0" y="680"/>
                </a:moveTo>
                <a:cubicBezTo>
                  <a:pt x="30" y="544"/>
                  <a:pt x="61" y="408"/>
                  <a:pt x="91" y="408"/>
                </a:cubicBezTo>
                <a:cubicBezTo>
                  <a:pt x="121" y="408"/>
                  <a:pt x="151" y="680"/>
                  <a:pt x="181" y="680"/>
                </a:cubicBezTo>
                <a:cubicBezTo>
                  <a:pt x="211" y="680"/>
                  <a:pt x="242" y="408"/>
                  <a:pt x="272" y="408"/>
                </a:cubicBezTo>
                <a:cubicBezTo>
                  <a:pt x="302" y="408"/>
                  <a:pt x="333" y="673"/>
                  <a:pt x="363" y="680"/>
                </a:cubicBezTo>
                <a:cubicBezTo>
                  <a:pt x="393" y="687"/>
                  <a:pt x="430" y="498"/>
                  <a:pt x="453" y="453"/>
                </a:cubicBezTo>
                <a:cubicBezTo>
                  <a:pt x="476" y="408"/>
                  <a:pt x="484" y="370"/>
                  <a:pt x="499" y="408"/>
                </a:cubicBezTo>
                <a:cubicBezTo>
                  <a:pt x="514" y="446"/>
                  <a:pt x="521" y="680"/>
                  <a:pt x="544" y="680"/>
                </a:cubicBezTo>
                <a:cubicBezTo>
                  <a:pt x="567" y="680"/>
                  <a:pt x="605" y="408"/>
                  <a:pt x="635" y="408"/>
                </a:cubicBezTo>
                <a:cubicBezTo>
                  <a:pt x="665" y="408"/>
                  <a:pt x="696" y="680"/>
                  <a:pt x="726" y="680"/>
                </a:cubicBezTo>
                <a:cubicBezTo>
                  <a:pt x="756" y="680"/>
                  <a:pt x="786" y="408"/>
                  <a:pt x="816" y="408"/>
                </a:cubicBezTo>
                <a:cubicBezTo>
                  <a:pt x="846" y="408"/>
                  <a:pt x="877" y="680"/>
                  <a:pt x="907" y="680"/>
                </a:cubicBezTo>
                <a:cubicBezTo>
                  <a:pt x="937" y="680"/>
                  <a:pt x="968" y="408"/>
                  <a:pt x="998" y="408"/>
                </a:cubicBezTo>
                <a:cubicBezTo>
                  <a:pt x="1028" y="408"/>
                  <a:pt x="1050" y="680"/>
                  <a:pt x="1088" y="680"/>
                </a:cubicBezTo>
                <a:cubicBezTo>
                  <a:pt x="1126" y="680"/>
                  <a:pt x="1187" y="408"/>
                  <a:pt x="1225" y="408"/>
                </a:cubicBezTo>
                <a:cubicBezTo>
                  <a:pt x="1263" y="408"/>
                  <a:pt x="1285" y="680"/>
                  <a:pt x="1315" y="680"/>
                </a:cubicBezTo>
                <a:cubicBezTo>
                  <a:pt x="1345" y="680"/>
                  <a:pt x="1376" y="408"/>
                  <a:pt x="1406" y="408"/>
                </a:cubicBezTo>
                <a:cubicBezTo>
                  <a:pt x="1436" y="408"/>
                  <a:pt x="1467" y="680"/>
                  <a:pt x="1497" y="680"/>
                </a:cubicBezTo>
                <a:cubicBezTo>
                  <a:pt x="1527" y="680"/>
                  <a:pt x="1557" y="408"/>
                  <a:pt x="1587" y="408"/>
                </a:cubicBezTo>
                <a:cubicBezTo>
                  <a:pt x="1617" y="408"/>
                  <a:pt x="1648" y="680"/>
                  <a:pt x="1678" y="680"/>
                </a:cubicBezTo>
                <a:cubicBezTo>
                  <a:pt x="1708" y="680"/>
                  <a:pt x="1739" y="408"/>
                  <a:pt x="1769" y="408"/>
                </a:cubicBezTo>
                <a:cubicBezTo>
                  <a:pt x="1799" y="408"/>
                  <a:pt x="1830" y="680"/>
                  <a:pt x="1860" y="680"/>
                </a:cubicBezTo>
                <a:cubicBezTo>
                  <a:pt x="1890" y="680"/>
                  <a:pt x="1920" y="408"/>
                  <a:pt x="1950" y="408"/>
                </a:cubicBezTo>
                <a:cubicBezTo>
                  <a:pt x="1980" y="408"/>
                  <a:pt x="2011" y="680"/>
                  <a:pt x="2041" y="680"/>
                </a:cubicBezTo>
                <a:cubicBezTo>
                  <a:pt x="2071" y="680"/>
                  <a:pt x="2102" y="408"/>
                  <a:pt x="2132" y="408"/>
                </a:cubicBezTo>
                <a:cubicBezTo>
                  <a:pt x="2162" y="408"/>
                  <a:pt x="2192" y="680"/>
                  <a:pt x="2222" y="680"/>
                </a:cubicBezTo>
                <a:cubicBezTo>
                  <a:pt x="2252" y="680"/>
                  <a:pt x="2283" y="408"/>
                  <a:pt x="2313" y="408"/>
                </a:cubicBezTo>
                <a:cubicBezTo>
                  <a:pt x="2343" y="408"/>
                  <a:pt x="2374" y="680"/>
                  <a:pt x="2404" y="680"/>
                </a:cubicBezTo>
                <a:cubicBezTo>
                  <a:pt x="2434" y="680"/>
                  <a:pt x="2465" y="408"/>
                  <a:pt x="2495" y="408"/>
                </a:cubicBezTo>
                <a:cubicBezTo>
                  <a:pt x="2525" y="408"/>
                  <a:pt x="2555" y="687"/>
                  <a:pt x="2585" y="680"/>
                </a:cubicBezTo>
                <a:cubicBezTo>
                  <a:pt x="2615" y="673"/>
                  <a:pt x="2646" y="356"/>
                  <a:pt x="2676" y="363"/>
                </a:cubicBezTo>
                <a:cubicBezTo>
                  <a:pt x="2706" y="370"/>
                  <a:pt x="2737" y="733"/>
                  <a:pt x="2767" y="725"/>
                </a:cubicBezTo>
                <a:cubicBezTo>
                  <a:pt x="2797" y="717"/>
                  <a:pt x="2819" y="302"/>
                  <a:pt x="2857" y="317"/>
                </a:cubicBezTo>
                <a:cubicBezTo>
                  <a:pt x="2895" y="332"/>
                  <a:pt x="2956" y="839"/>
                  <a:pt x="2994" y="816"/>
                </a:cubicBezTo>
                <a:cubicBezTo>
                  <a:pt x="3032" y="793"/>
                  <a:pt x="3054" y="151"/>
                  <a:pt x="3084" y="181"/>
                </a:cubicBezTo>
                <a:cubicBezTo>
                  <a:pt x="3114" y="211"/>
                  <a:pt x="3152" y="1021"/>
                  <a:pt x="3175" y="998"/>
                </a:cubicBezTo>
                <a:cubicBezTo>
                  <a:pt x="3198" y="975"/>
                  <a:pt x="3197" y="22"/>
                  <a:pt x="3220" y="45"/>
                </a:cubicBezTo>
                <a:cubicBezTo>
                  <a:pt x="3243" y="68"/>
                  <a:pt x="3288" y="1134"/>
                  <a:pt x="3311" y="1134"/>
                </a:cubicBezTo>
                <a:cubicBezTo>
                  <a:pt x="3334" y="1134"/>
                  <a:pt x="3333" y="45"/>
                  <a:pt x="3356" y="45"/>
                </a:cubicBezTo>
                <a:cubicBezTo>
                  <a:pt x="3379" y="45"/>
                  <a:pt x="3424" y="1141"/>
                  <a:pt x="3447" y="1134"/>
                </a:cubicBezTo>
                <a:cubicBezTo>
                  <a:pt x="3470" y="1127"/>
                  <a:pt x="3470" y="0"/>
                  <a:pt x="3493" y="0"/>
                </a:cubicBezTo>
                <a:cubicBezTo>
                  <a:pt x="3516" y="0"/>
                  <a:pt x="3560" y="1134"/>
                  <a:pt x="3583" y="1134"/>
                </a:cubicBezTo>
                <a:cubicBezTo>
                  <a:pt x="3606" y="1134"/>
                  <a:pt x="3606" y="0"/>
                  <a:pt x="3629" y="0"/>
                </a:cubicBezTo>
                <a:cubicBezTo>
                  <a:pt x="3652" y="0"/>
                  <a:pt x="3685" y="567"/>
                  <a:pt x="3719" y="1134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443280" y="522900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48360" y="573408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1773360"/>
            <a:ext cx="71276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De esta forma, debido a esta relación entre tasa de crecimiento de la campana y longitud de onda de la frecuencia en el instrumento, se observa que para las bajas frecuencias la campana no existe y se mantiene el área de la columna, y en cambio para las altas frecuencias la campana sí aumenta la superficie de contac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Este cambio en la receta, introducido por la presencia de la campana, es el que da el timbre característico de los instrumentos de bronce como la trompeta, trombón, corn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5897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68360" y="4724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84360" y="494172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900000" y="5013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11600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332000" y="522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547640" y="5300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765440" y="5373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98108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12400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5805360"/>
            <a:ext cx="143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eta de frecuencias en la columna del instr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720" y="4653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2720" y="4869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8720" y="494172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4720" y="5084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60360" y="5157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5300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373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2720" y="5373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56000" y="5229360"/>
            <a:ext cx="433080" cy="431640"/>
            <a:chOff x="2556000" y="5229360"/>
            <a:chExt cx="433080" cy="431640"/>
          </a:xfrm>
        </p:grpSpPr>
        <p:sp>
          <p:nvSpPr>
            <p:cNvPr id="111" name=""/>
            <p:cNvSpPr/>
            <p:nvPr/>
          </p:nvSpPr>
          <p:spPr>
            <a:xfrm>
              <a:off x="2773440" y="522936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0" y="5445000"/>
              <a:ext cx="43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203640" y="56023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5084640"/>
            <a:ext cx="1295280" cy="517680"/>
          </a:xfrm>
          <a:custGeom>
            <a:avLst/>
            <a:gdLst/>
            <a:ahLst/>
            <a:rect l="l" t="t" r="r" b="b"/>
            <a:pathLst>
              <a:path w="816" h="326">
                <a:moveTo>
                  <a:pt x="0" y="326"/>
                </a:moveTo>
                <a:cubicBezTo>
                  <a:pt x="26" y="216"/>
                  <a:pt x="53" y="107"/>
                  <a:pt x="91" y="54"/>
                </a:cubicBezTo>
                <a:cubicBezTo>
                  <a:pt x="129" y="1"/>
                  <a:pt x="106" y="16"/>
                  <a:pt x="227" y="8"/>
                </a:cubicBezTo>
                <a:cubicBezTo>
                  <a:pt x="348" y="0"/>
                  <a:pt x="582" y="4"/>
                  <a:pt x="81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58183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spuesta de frecuencia de la campa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5229360"/>
            <a:ext cx="649440" cy="287280"/>
          </a:xfrm>
          <a:prstGeom prst="rightArrow">
            <a:avLst>
              <a:gd name="adj1" fmla="val 50000"/>
              <a:gd name="adj2" fmla="val 565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55897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04000" y="5300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02000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236000" y="508428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5164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85080" y="5373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10108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8251920" y="5427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04000" y="580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eta de frecuencias en la sa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3272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5013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5013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5084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12000" y="5229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72360" y="5373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28000" y="5300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67640" y="522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96360" y="5157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9446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6-01-24T22:16:47Z</dcterms:modified>
  <cp:revision>49</cp:revision>
  <dc:subject/>
  <dc:title>Taller de Ciencias en la Música </dc:title>
</cp:coreProperties>
</file>