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66E3-0C99-4C5A-A348-12697F581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81A1-8AFB-493B-A2AD-2569AC936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19C0-B4C9-4C95-8080-D4D9E75ED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B3A0-490E-4CA6-BE7C-0C3FC6A3F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AA41-A15C-41E5-BDAD-EF791B1B9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9065-B91B-453A-B3DB-C6C40A361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9359-3648-49C9-8F11-EDC4BF37D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D24D-B584-45B9-8BBC-9A93D0264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A35B-4572-4D22-A7B6-02C3D7947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9AC8-9771-441E-AB8C-CCA0E2B05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4392-786B-4776-8D9F-84C8521EB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DD72-C3DC-4926-9426-8DEC2D510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44CC6-0C0A-440F-A19B-F02BA09C54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79280" y="1484280"/>
            <a:ext cx="87138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8854920" y="1447920"/>
            <a:ext cx="73080" cy="730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Taller de Música en la Ciencia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563640" y="6093000"/>
            <a:ext cx="536076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Enero dos mil sei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835280" y="1989000"/>
            <a:ext cx="31827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Unidad II </a:t>
            </a:r>
            <a:br>
              <a:rPr sz="4000"/>
            </a:b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Vibración en Aerófono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71640" y="1773360"/>
            <a:ext cx="7127640" cy="43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Arial"/>
              </a:rPr>
              <a:t>En un aerófono como la trompeta, la vibración de la columna de aire la producen los labios del músico. Debido a la enorme flexibilidad y control que el ejecutante tiene sobre sus propios labios, puede forzar fácilmente a que la vibración de los labios “le gane” a la de la columna de aire del instrumento. Esto le permitiría tocar, sólo con los labios, casi cualquier not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Arial"/>
              </a:rPr>
              <a:t>Sin embargo, hay notas que son “privilegiadas” por el instrument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Arial"/>
              </a:rPr>
              <a:t>Veamos a continuación cuales s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656480" y="189000"/>
            <a:ext cx="1006560" cy="120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Unidad II </a:t>
            </a:r>
            <a:br>
              <a:rPr sz="4000"/>
            </a:b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Vibración en Aerófono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71640" y="1773360"/>
            <a:ext cx="7127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Arial"/>
              </a:rPr>
              <a:t>La columna de aire de la trompeta va a “preferir” frecuencias de oscilación que tienen relación con la longitud de ella. Pero además, es proclive a oscilar a submúltiplos enteros de los distintos modos de vibración. De esta forma por ejemplo, para una trompeta de fundamental 100Hz se tiene qu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2050920" y="3645000"/>
            <a:ext cx="3745080" cy="2014560"/>
            <a:chOff x="2050920" y="3645000"/>
            <a:chExt cx="3745080" cy="2014560"/>
          </a:xfrm>
        </p:grpSpPr>
        <p:sp>
          <p:nvSpPr>
            <p:cNvPr id="52" name=""/>
            <p:cNvSpPr/>
            <p:nvPr/>
          </p:nvSpPr>
          <p:spPr>
            <a:xfrm>
              <a:off x="2050920" y="3645000"/>
              <a:ext cx="865440" cy="20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cc"/>
                  </a:solidFill>
                  <a:latin typeface="Arial"/>
                </a:rPr>
                <a:t>100 Hz 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cc"/>
                  </a:solidFill>
                  <a:latin typeface="Arial"/>
                </a:rPr>
                <a:t>200/2Hz             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cc"/>
                  </a:solidFill>
                  <a:latin typeface="Arial"/>
                </a:rPr>
                <a:t>300/3H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cc"/>
                  </a:solidFill>
                  <a:latin typeface="Arial"/>
                </a:rPr>
                <a:t>400/4H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cc"/>
                  </a:solidFill>
                  <a:latin typeface="Arial"/>
                </a:rPr>
                <a:t>500/5H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cc"/>
                  </a:solidFill>
                  <a:latin typeface="Arial"/>
                </a:rPr>
                <a:t>…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930920" y="3645000"/>
              <a:ext cx="865080" cy="183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cc"/>
                  </a:solidFill>
                  <a:latin typeface="Arial"/>
                </a:rPr>
                <a:t>200 Hz 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cc"/>
                  </a:solidFill>
                  <a:latin typeface="Arial"/>
                </a:rPr>
                <a:t>400/2Hz             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cc"/>
                  </a:solidFill>
                  <a:latin typeface="Arial"/>
                </a:rPr>
                <a:t>600/3H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cc"/>
                  </a:solidFill>
                  <a:latin typeface="Arial"/>
                </a:rPr>
                <a:t>800/4H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cc"/>
                  </a:solidFill>
                  <a:latin typeface="Arial"/>
                </a:rPr>
                <a:t>…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851280" y="3645000"/>
              <a:ext cx="86508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cc"/>
                  </a:solidFill>
                  <a:latin typeface="Arial"/>
                </a:rPr>
                <a:t>150 Hz 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cc"/>
                  </a:solidFill>
                  <a:latin typeface="Arial"/>
                </a:rPr>
                <a:t>300/2Hz             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cc"/>
                  </a:solidFill>
                  <a:latin typeface="Arial"/>
                </a:rPr>
                <a:t>600/4H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ffffff"/>
                  </a:solidFill>
                  <a:latin typeface="Arial"/>
                </a:rPr>
                <a:t>…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843280" y="3645000"/>
              <a:ext cx="86508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cc"/>
                  </a:solidFill>
                  <a:latin typeface="Arial"/>
                </a:rPr>
                <a:t>400/3Hz             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cc"/>
                  </a:solidFill>
                  <a:latin typeface="Arial"/>
                </a:rPr>
                <a:t>…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1116000" y="5013360"/>
            <a:ext cx="69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Se puede observar que algunas frecuencias son “privilegiadas” muchas veces. Si bien el músico siempre tiene control sobre la nota que ejecuta, esto hace que algunas notas “caigan” más fácilmente a estas frecuencias privilegiad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7656480" y="189000"/>
            <a:ext cx="1006560" cy="120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Unidad II </a:t>
            </a:r>
            <a:br>
              <a:rPr sz="4000"/>
            </a:b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Campana en Aerófono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71640" y="1773360"/>
            <a:ext cx="7127640" cy="28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Arial"/>
              </a:rPr>
              <a:t>La columna de aire de la trompeta, por sí sola, tiene una determinada “receta” de frecuencias que es distinta a la percibida por los oyentes. La diferencia entre estas dos recetas la provoca la campa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Arial"/>
              </a:rPr>
              <a:t>En un tubo, el “volumen” de cada frecuencia es determinada por el área de contacto entre la columna que oscila y el aire de la sala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258920" y="5013360"/>
            <a:ext cx="4176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258920" y="5445000"/>
            <a:ext cx="4176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292720" y="5013360"/>
            <a:ext cx="28908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 flipV="1">
            <a:off x="5508720" y="5229360"/>
            <a:ext cx="503280" cy="57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084720" y="5805360"/>
            <a:ext cx="201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Superficie de contac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7656480" y="189000"/>
            <a:ext cx="1006560" cy="120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Unidad II </a:t>
            </a:r>
            <a:br>
              <a:rPr sz="4000"/>
            </a:b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Campana en Aerófono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971640" y="1773360"/>
            <a:ext cx="712764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cc"/>
                </a:solidFill>
                <a:latin typeface="Arial"/>
              </a:rPr>
              <a:t>Al agregar una campana, esta superficie se ve aumentada. Pero esto no es igual para todas las frecuencias que componen la oscilación de la columna de aire en el instrument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cc"/>
                </a:solidFill>
                <a:latin typeface="Arial"/>
              </a:rPr>
              <a:t>Si la longitud de onda de la frecuencia de la columna es muy grande comparado con la tasa de ensanchamiento de la campana, para esta frecuencia será similar a que el tubo terminara abruptamente. Es decir: no “ve” la campana, y por lo tanto no aumenta la superficie de contacto (permanece a la misma intensidad para dicha baja frecuenci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258920" y="5013360"/>
            <a:ext cx="4176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58920" y="5445000"/>
            <a:ext cx="4176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292720" y="5013360"/>
            <a:ext cx="28908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 flipV="1">
            <a:off x="5508720" y="5229000"/>
            <a:ext cx="151128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443640" y="566100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Superficie de contac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258920" y="5000760"/>
            <a:ext cx="6357960" cy="444240"/>
          </a:xfrm>
          <a:custGeom>
            <a:avLst/>
            <a:gdLst/>
            <a:ahLst/>
            <a:rect l="l" t="t" r="r" b="b"/>
            <a:pathLst>
              <a:path w="4005" h="280">
                <a:moveTo>
                  <a:pt x="0" y="280"/>
                </a:moveTo>
                <a:cubicBezTo>
                  <a:pt x="193" y="144"/>
                  <a:pt x="386" y="8"/>
                  <a:pt x="590" y="8"/>
                </a:cubicBezTo>
                <a:cubicBezTo>
                  <a:pt x="794" y="8"/>
                  <a:pt x="1006" y="280"/>
                  <a:pt x="1225" y="280"/>
                </a:cubicBezTo>
                <a:cubicBezTo>
                  <a:pt x="1444" y="280"/>
                  <a:pt x="1687" y="8"/>
                  <a:pt x="1906" y="8"/>
                </a:cubicBezTo>
                <a:cubicBezTo>
                  <a:pt x="2125" y="8"/>
                  <a:pt x="2329" y="280"/>
                  <a:pt x="2541" y="280"/>
                </a:cubicBezTo>
                <a:cubicBezTo>
                  <a:pt x="2753" y="280"/>
                  <a:pt x="2972" y="16"/>
                  <a:pt x="3176" y="8"/>
                </a:cubicBezTo>
                <a:cubicBezTo>
                  <a:pt x="3380" y="0"/>
                  <a:pt x="3627" y="207"/>
                  <a:pt x="3765" y="235"/>
                </a:cubicBezTo>
                <a:cubicBezTo>
                  <a:pt x="3903" y="263"/>
                  <a:pt x="3955" y="189"/>
                  <a:pt x="4005" y="177"/>
                </a:cubicBezTo>
              </a:path>
            </a:pathLst>
          </a:custGeom>
          <a:noFill/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35640" y="4365720"/>
            <a:ext cx="1008000" cy="647640"/>
          </a:xfrm>
          <a:custGeom>
            <a:avLst/>
            <a:gdLst/>
            <a:ahLst/>
            <a:rect l="l" t="t" r="r" b="b"/>
            <a:pathLst>
              <a:path w="635" h="408">
                <a:moveTo>
                  <a:pt x="0" y="408"/>
                </a:moveTo>
                <a:cubicBezTo>
                  <a:pt x="174" y="351"/>
                  <a:pt x="348" y="294"/>
                  <a:pt x="454" y="226"/>
                </a:cubicBezTo>
                <a:cubicBezTo>
                  <a:pt x="560" y="158"/>
                  <a:pt x="597" y="79"/>
                  <a:pt x="635" y="0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5435640" y="5445000"/>
            <a:ext cx="1008000" cy="648000"/>
          </a:xfrm>
          <a:custGeom>
            <a:avLst/>
            <a:gdLst/>
            <a:ahLst/>
            <a:rect l="l" t="t" r="r" b="b"/>
            <a:pathLst>
              <a:path w="635" h="408">
                <a:moveTo>
                  <a:pt x="0" y="408"/>
                </a:moveTo>
                <a:cubicBezTo>
                  <a:pt x="174" y="351"/>
                  <a:pt x="348" y="294"/>
                  <a:pt x="454" y="226"/>
                </a:cubicBezTo>
                <a:cubicBezTo>
                  <a:pt x="560" y="158"/>
                  <a:pt x="597" y="79"/>
                  <a:pt x="635" y="0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7656480" y="189000"/>
            <a:ext cx="1006560" cy="120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Unidad II </a:t>
            </a:r>
            <a:br>
              <a:rPr sz="4000"/>
            </a:b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Campana en Aerófono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971640" y="1773360"/>
            <a:ext cx="71276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cc"/>
                </a:solidFill>
                <a:latin typeface="Arial"/>
              </a:rPr>
              <a:t>En cambio, para aquellas Si la longitud de onda de la frecuencia de la columna es muy grande comparado con la tasa de ensanchamiento de la campana, para esta frecuencia será similar a que el tubo terminara abruptamente. Es decir: no “ve” la campana, y por lo tanto no aumenta la superficie de contacto (permanece a la misma intensidad para dicha baja frecuenci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258920" y="5013360"/>
            <a:ext cx="4176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258920" y="5445000"/>
            <a:ext cx="4176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300720" y="4365720"/>
            <a:ext cx="289080" cy="1727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435640" y="4365720"/>
            <a:ext cx="1008000" cy="647640"/>
          </a:xfrm>
          <a:custGeom>
            <a:avLst/>
            <a:gdLst/>
            <a:ahLst/>
            <a:rect l="l" t="t" r="r" b="b"/>
            <a:pathLst>
              <a:path w="635" h="408">
                <a:moveTo>
                  <a:pt x="0" y="408"/>
                </a:moveTo>
                <a:cubicBezTo>
                  <a:pt x="174" y="351"/>
                  <a:pt x="348" y="294"/>
                  <a:pt x="454" y="226"/>
                </a:cubicBezTo>
                <a:cubicBezTo>
                  <a:pt x="560" y="158"/>
                  <a:pt x="597" y="79"/>
                  <a:pt x="635" y="0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5435640" y="5445000"/>
            <a:ext cx="1008000" cy="648000"/>
          </a:xfrm>
          <a:custGeom>
            <a:avLst/>
            <a:gdLst/>
            <a:ahLst/>
            <a:rect l="l" t="t" r="r" b="b"/>
            <a:pathLst>
              <a:path w="635" h="408">
                <a:moveTo>
                  <a:pt x="0" y="408"/>
                </a:moveTo>
                <a:cubicBezTo>
                  <a:pt x="174" y="351"/>
                  <a:pt x="348" y="294"/>
                  <a:pt x="454" y="226"/>
                </a:cubicBezTo>
                <a:cubicBezTo>
                  <a:pt x="560" y="158"/>
                  <a:pt x="597" y="79"/>
                  <a:pt x="635" y="0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332000" y="4365720"/>
            <a:ext cx="5904000" cy="1811160"/>
          </a:xfrm>
          <a:custGeom>
            <a:avLst/>
            <a:gdLst/>
            <a:ahLst/>
            <a:rect l="l" t="t" r="r" b="b"/>
            <a:pathLst>
              <a:path w="3719" h="1141">
                <a:moveTo>
                  <a:pt x="0" y="680"/>
                </a:moveTo>
                <a:cubicBezTo>
                  <a:pt x="30" y="544"/>
                  <a:pt x="61" y="408"/>
                  <a:pt x="91" y="408"/>
                </a:cubicBezTo>
                <a:cubicBezTo>
                  <a:pt x="121" y="408"/>
                  <a:pt x="151" y="680"/>
                  <a:pt x="181" y="680"/>
                </a:cubicBezTo>
                <a:cubicBezTo>
                  <a:pt x="211" y="680"/>
                  <a:pt x="242" y="408"/>
                  <a:pt x="272" y="408"/>
                </a:cubicBezTo>
                <a:cubicBezTo>
                  <a:pt x="302" y="408"/>
                  <a:pt x="333" y="673"/>
                  <a:pt x="363" y="680"/>
                </a:cubicBezTo>
                <a:cubicBezTo>
                  <a:pt x="393" y="687"/>
                  <a:pt x="430" y="498"/>
                  <a:pt x="453" y="453"/>
                </a:cubicBezTo>
                <a:cubicBezTo>
                  <a:pt x="476" y="408"/>
                  <a:pt x="484" y="370"/>
                  <a:pt x="499" y="408"/>
                </a:cubicBezTo>
                <a:cubicBezTo>
                  <a:pt x="514" y="446"/>
                  <a:pt x="521" y="680"/>
                  <a:pt x="544" y="680"/>
                </a:cubicBezTo>
                <a:cubicBezTo>
                  <a:pt x="567" y="680"/>
                  <a:pt x="605" y="408"/>
                  <a:pt x="635" y="408"/>
                </a:cubicBezTo>
                <a:cubicBezTo>
                  <a:pt x="665" y="408"/>
                  <a:pt x="696" y="680"/>
                  <a:pt x="726" y="680"/>
                </a:cubicBezTo>
                <a:cubicBezTo>
                  <a:pt x="756" y="680"/>
                  <a:pt x="786" y="408"/>
                  <a:pt x="816" y="408"/>
                </a:cubicBezTo>
                <a:cubicBezTo>
                  <a:pt x="846" y="408"/>
                  <a:pt x="877" y="680"/>
                  <a:pt x="907" y="680"/>
                </a:cubicBezTo>
                <a:cubicBezTo>
                  <a:pt x="937" y="680"/>
                  <a:pt x="968" y="408"/>
                  <a:pt x="998" y="408"/>
                </a:cubicBezTo>
                <a:cubicBezTo>
                  <a:pt x="1028" y="408"/>
                  <a:pt x="1050" y="680"/>
                  <a:pt x="1088" y="680"/>
                </a:cubicBezTo>
                <a:cubicBezTo>
                  <a:pt x="1126" y="680"/>
                  <a:pt x="1187" y="408"/>
                  <a:pt x="1225" y="408"/>
                </a:cubicBezTo>
                <a:cubicBezTo>
                  <a:pt x="1263" y="408"/>
                  <a:pt x="1285" y="680"/>
                  <a:pt x="1315" y="680"/>
                </a:cubicBezTo>
                <a:cubicBezTo>
                  <a:pt x="1345" y="680"/>
                  <a:pt x="1376" y="408"/>
                  <a:pt x="1406" y="408"/>
                </a:cubicBezTo>
                <a:cubicBezTo>
                  <a:pt x="1436" y="408"/>
                  <a:pt x="1467" y="680"/>
                  <a:pt x="1497" y="680"/>
                </a:cubicBezTo>
                <a:cubicBezTo>
                  <a:pt x="1527" y="680"/>
                  <a:pt x="1557" y="408"/>
                  <a:pt x="1587" y="408"/>
                </a:cubicBezTo>
                <a:cubicBezTo>
                  <a:pt x="1617" y="408"/>
                  <a:pt x="1648" y="680"/>
                  <a:pt x="1678" y="680"/>
                </a:cubicBezTo>
                <a:cubicBezTo>
                  <a:pt x="1708" y="680"/>
                  <a:pt x="1739" y="408"/>
                  <a:pt x="1769" y="408"/>
                </a:cubicBezTo>
                <a:cubicBezTo>
                  <a:pt x="1799" y="408"/>
                  <a:pt x="1830" y="680"/>
                  <a:pt x="1860" y="680"/>
                </a:cubicBezTo>
                <a:cubicBezTo>
                  <a:pt x="1890" y="680"/>
                  <a:pt x="1920" y="408"/>
                  <a:pt x="1950" y="408"/>
                </a:cubicBezTo>
                <a:cubicBezTo>
                  <a:pt x="1980" y="408"/>
                  <a:pt x="2011" y="680"/>
                  <a:pt x="2041" y="680"/>
                </a:cubicBezTo>
                <a:cubicBezTo>
                  <a:pt x="2071" y="680"/>
                  <a:pt x="2102" y="408"/>
                  <a:pt x="2132" y="408"/>
                </a:cubicBezTo>
                <a:cubicBezTo>
                  <a:pt x="2162" y="408"/>
                  <a:pt x="2192" y="680"/>
                  <a:pt x="2222" y="680"/>
                </a:cubicBezTo>
                <a:cubicBezTo>
                  <a:pt x="2252" y="680"/>
                  <a:pt x="2283" y="408"/>
                  <a:pt x="2313" y="408"/>
                </a:cubicBezTo>
                <a:cubicBezTo>
                  <a:pt x="2343" y="408"/>
                  <a:pt x="2374" y="680"/>
                  <a:pt x="2404" y="680"/>
                </a:cubicBezTo>
                <a:cubicBezTo>
                  <a:pt x="2434" y="680"/>
                  <a:pt x="2465" y="408"/>
                  <a:pt x="2495" y="408"/>
                </a:cubicBezTo>
                <a:cubicBezTo>
                  <a:pt x="2525" y="408"/>
                  <a:pt x="2555" y="687"/>
                  <a:pt x="2585" y="680"/>
                </a:cubicBezTo>
                <a:cubicBezTo>
                  <a:pt x="2615" y="673"/>
                  <a:pt x="2646" y="356"/>
                  <a:pt x="2676" y="363"/>
                </a:cubicBezTo>
                <a:cubicBezTo>
                  <a:pt x="2706" y="370"/>
                  <a:pt x="2737" y="733"/>
                  <a:pt x="2767" y="725"/>
                </a:cubicBezTo>
                <a:cubicBezTo>
                  <a:pt x="2797" y="717"/>
                  <a:pt x="2819" y="302"/>
                  <a:pt x="2857" y="317"/>
                </a:cubicBezTo>
                <a:cubicBezTo>
                  <a:pt x="2895" y="332"/>
                  <a:pt x="2956" y="839"/>
                  <a:pt x="2994" y="816"/>
                </a:cubicBezTo>
                <a:cubicBezTo>
                  <a:pt x="3032" y="793"/>
                  <a:pt x="3054" y="151"/>
                  <a:pt x="3084" y="181"/>
                </a:cubicBezTo>
                <a:cubicBezTo>
                  <a:pt x="3114" y="211"/>
                  <a:pt x="3152" y="1021"/>
                  <a:pt x="3175" y="998"/>
                </a:cubicBezTo>
                <a:cubicBezTo>
                  <a:pt x="3198" y="975"/>
                  <a:pt x="3197" y="22"/>
                  <a:pt x="3220" y="45"/>
                </a:cubicBezTo>
                <a:cubicBezTo>
                  <a:pt x="3243" y="68"/>
                  <a:pt x="3288" y="1134"/>
                  <a:pt x="3311" y="1134"/>
                </a:cubicBezTo>
                <a:cubicBezTo>
                  <a:pt x="3334" y="1134"/>
                  <a:pt x="3333" y="45"/>
                  <a:pt x="3356" y="45"/>
                </a:cubicBezTo>
                <a:cubicBezTo>
                  <a:pt x="3379" y="45"/>
                  <a:pt x="3424" y="1141"/>
                  <a:pt x="3447" y="1134"/>
                </a:cubicBezTo>
                <a:cubicBezTo>
                  <a:pt x="3470" y="1127"/>
                  <a:pt x="3470" y="0"/>
                  <a:pt x="3493" y="0"/>
                </a:cubicBezTo>
                <a:cubicBezTo>
                  <a:pt x="3516" y="0"/>
                  <a:pt x="3560" y="1134"/>
                  <a:pt x="3583" y="1134"/>
                </a:cubicBezTo>
                <a:cubicBezTo>
                  <a:pt x="3606" y="1134"/>
                  <a:pt x="3606" y="0"/>
                  <a:pt x="3629" y="0"/>
                </a:cubicBezTo>
                <a:cubicBezTo>
                  <a:pt x="3652" y="0"/>
                  <a:pt x="3685" y="567"/>
                  <a:pt x="3719" y="1134"/>
                </a:cubicBezTo>
              </a:path>
            </a:pathLst>
          </a:custGeom>
          <a:noFill/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 flipV="1">
            <a:off x="6443280" y="5229000"/>
            <a:ext cx="57636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948360" y="5734080"/>
            <a:ext cx="201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Superficie de contac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7656480" y="189000"/>
            <a:ext cx="1006560" cy="120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Unidad II </a:t>
            </a:r>
            <a:br>
              <a:rPr sz="4000"/>
            </a:b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Campana en Aerófono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71640" y="1773360"/>
            <a:ext cx="7127640" cy="21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cc"/>
                </a:solidFill>
                <a:latin typeface="Arial"/>
              </a:rPr>
              <a:t>De esta forma, debido a esta relación entre tasa de crecimiento de la campana y longitud de onda de la frecuencia en el instrumento, se observa que para las bajas frecuencias la campana no existe y se mantiene el área de la columna, y en cambio para las altas frecuencias la campana sí aumenta la superficie de contact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cc"/>
                </a:solidFill>
                <a:latin typeface="Arial"/>
              </a:rPr>
              <a:t>Este cambio en la receta, introducido por la presencia de la campana, es el que da el timbre característico de los instrumentos de bronce como la trompeta, trombón, corno, 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589720"/>
            <a:ext cx="1800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468360" y="4724280"/>
            <a:ext cx="0" cy="865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684360" y="4941720"/>
            <a:ext cx="0" cy="648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900000" y="5013000"/>
            <a:ext cx="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1116000" y="5157720"/>
            <a:ext cx="0" cy="43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1332000" y="522900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1547640" y="5300280"/>
            <a:ext cx="0" cy="289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1765440" y="537372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1981080" y="5445000"/>
            <a:ext cx="0" cy="14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2124000" y="5445000"/>
            <a:ext cx="0" cy="14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84360" y="5805360"/>
            <a:ext cx="143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900" spc="-1" strike="noStrike">
                <a:solidFill>
                  <a:srgbClr val="ffffff"/>
                </a:solidFill>
                <a:latin typeface="Arial"/>
              </a:rPr>
              <a:t>Receta de frecuencias en la columna del instrumen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96720" y="4653000"/>
            <a:ext cx="14472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12720" y="486900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28720" y="4941720"/>
            <a:ext cx="14436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44720" y="5084640"/>
            <a:ext cx="14436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260360" y="5157720"/>
            <a:ext cx="14472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76360" y="522936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92360" y="530064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908000" y="5373720"/>
            <a:ext cx="14472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052720" y="537372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2556000" y="5229360"/>
            <a:ext cx="433080" cy="431640"/>
            <a:chOff x="2556000" y="5229360"/>
            <a:chExt cx="433080" cy="431640"/>
          </a:xfrm>
        </p:grpSpPr>
        <p:sp>
          <p:nvSpPr>
            <p:cNvPr id="111" name=""/>
            <p:cNvSpPr/>
            <p:nvPr/>
          </p:nvSpPr>
          <p:spPr>
            <a:xfrm>
              <a:off x="2773440" y="5229360"/>
              <a:ext cx="0" cy="431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556000" y="5445000"/>
              <a:ext cx="433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3203640" y="5602320"/>
            <a:ext cx="1800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780000" y="5084640"/>
            <a:ext cx="1295280" cy="517680"/>
          </a:xfrm>
          <a:custGeom>
            <a:avLst/>
            <a:gdLst/>
            <a:ahLst/>
            <a:rect l="l" t="t" r="r" b="b"/>
            <a:pathLst>
              <a:path w="816" h="326">
                <a:moveTo>
                  <a:pt x="0" y="326"/>
                </a:moveTo>
                <a:cubicBezTo>
                  <a:pt x="26" y="216"/>
                  <a:pt x="53" y="107"/>
                  <a:pt x="91" y="54"/>
                </a:cubicBezTo>
                <a:cubicBezTo>
                  <a:pt x="129" y="1"/>
                  <a:pt x="106" y="16"/>
                  <a:pt x="227" y="8"/>
                </a:cubicBezTo>
                <a:cubicBezTo>
                  <a:pt x="348" y="0"/>
                  <a:pt x="582" y="4"/>
                  <a:pt x="816" y="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564000" y="581832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900" spc="-1" strike="noStrike">
                <a:solidFill>
                  <a:srgbClr val="ffffff"/>
                </a:solidFill>
                <a:latin typeface="Arial"/>
              </a:rPr>
              <a:t>Respuesta de frecuencia de la campan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80000" y="5229360"/>
            <a:ext cx="649440" cy="287280"/>
          </a:xfrm>
          <a:prstGeom prst="rightArrow">
            <a:avLst>
              <a:gd name="adj1" fmla="val 50000"/>
              <a:gd name="adj2" fmla="val 5651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588000" y="5589720"/>
            <a:ext cx="180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804000" y="5300280"/>
            <a:ext cx="0" cy="289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7020000" y="5157720"/>
            <a:ext cx="0" cy="43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7236000" y="5084280"/>
            <a:ext cx="0" cy="50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7451640" y="5157720"/>
            <a:ext cx="0" cy="43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7885080" y="537372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8101080" y="5445000"/>
            <a:ext cx="0" cy="14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8251920" y="5427360"/>
            <a:ext cx="0" cy="14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804000" y="580536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900" spc="-1" strike="noStrike">
                <a:solidFill>
                  <a:srgbClr val="ffffff"/>
                </a:solidFill>
                <a:latin typeface="Arial"/>
              </a:rPr>
              <a:t>Receta de frecuencias en la sal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732720" y="522936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948360" y="5013360"/>
            <a:ext cx="14472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164360" y="501336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380360" y="5084640"/>
            <a:ext cx="14436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812000" y="5229360"/>
            <a:ext cx="14472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172360" y="5373720"/>
            <a:ext cx="14472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028000" y="530064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7667640" y="522900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596360" y="515772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7667640" y="189000"/>
            <a:ext cx="944640" cy="113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6T16:27:35Z</dcterms:created>
  <dc:creator>Mecesup</dc:creator>
  <dc:description/>
  <dc:language>en-US</dc:language>
  <cp:lastModifiedBy>CMM</cp:lastModifiedBy>
  <dcterms:modified xsi:type="dcterms:W3CDTF">2006-01-24T22:16:47Z</dcterms:modified>
  <cp:revision>49</cp:revision>
  <dc:subject/>
  <dc:title>Taller de Ciencias en la Música </dc:title>
</cp:coreProperties>
</file>