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58D4-BB4E-49E5-A552-3124319A9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23B-5384-4150-86B0-F5E545241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9F8C-53EA-4D59-8F45-2336A40B02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B38E-5EB5-49A1-8EE3-9600D3C4E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1832-0126-4E5A-A738-58F88A118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E15D-F4FA-49D9-8FB2-9CC60199C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036B-F1C2-4F1C-93BD-EB64469B8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79A6-FCD2-424C-B705-692AF2A4A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58DEC-2E24-4285-9CA2-A7E79EAA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2B9-93A7-421D-8F59-7EEE9D6D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A1FF-8E65-4B44-9AB9-EC9F40A83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21A1-CA5A-4375-8FB3-085B72BF1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9E216-709E-4C05-81D3-295D24E6CA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AUDIO DIGITAL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sei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qué consiste el audio digital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En representar en forma de números la curva de variación de presión del son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8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umerización de una onda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OJO: las muestras (o “samples”) se toman a intervalo regular de tiempo, es decir a una determinada frecuenc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Ésta se llam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recuencia de muestreo</a:t>
            </a: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 y se representa por </a:t>
            </a:r>
            <a:r>
              <a:rPr b="0" i="1" lang="es-CL" sz="2400" spc="-1" strike="noStrike">
                <a:solidFill>
                  <a:srgbClr val="ffffcc"/>
                </a:solidFill>
                <a:latin typeface="Arial"/>
              </a:rPr>
              <a:t>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042920" y="3573360"/>
            <a:ext cx="21600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965160" y="50641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44640" y="4711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60480" y="434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65160" y="39895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160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5092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48436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6108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21964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653080" y="5805360"/>
            <a:ext cx="289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cc"/>
                </a:solidFill>
                <a:latin typeface="Arial"/>
              </a:rPr>
              <a:t>Si se quiere tener mayor resolución (o, en la regla del dibujo, más decimales), es posible cambiar la regla por una con más númer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971640" y="3573360"/>
            <a:ext cx="290520" cy="2016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8320" y="51004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187280" y="5157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71640" y="515772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944640" y="50166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966960" y="535464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223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33200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69236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05092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48436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91636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27672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63528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995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500720" y="5805360"/>
            <a:ext cx="28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861080" y="5805360"/>
            <a:ext cx="358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21964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653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12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445080" y="5805360"/>
            <a:ext cx="3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804000" y="5805360"/>
            <a:ext cx="3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ffffff"/>
                </a:solidFill>
                <a:latin typeface="Arial"/>
              </a:rPr>
              <a:t>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187280" y="54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184400" y="533880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46240" y="526248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90520" y="5195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193760" y="5126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190520" y="5027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90520" y="4954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90520" y="48830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141560" y="47545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90520" y="48117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990720" y="498780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949320" y="48117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947880" y="46702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190520" y="50626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1187280" y="49928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149480" y="49165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193760" y="48499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197000" y="47800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1190520" y="4691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190520" y="4618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90520" y="45464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41560" y="441792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90520" y="44751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38120" y="5330880"/>
            <a:ext cx="184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944640" y="44830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947880" y="43340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190520" y="4726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187280" y="46562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149480" y="45799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193760" y="45133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197000" y="44434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187280" y="4357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187280" y="4284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187280" y="42130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138320" y="408456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187280" y="41418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955800" y="414180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944640" y="400068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187280" y="4392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84400" y="432288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146240" y="424656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90520" y="4179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93760" y="411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4017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187280" y="3944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187280" y="38736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38320" y="3745080"/>
            <a:ext cx="120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187280" y="38019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49320" y="380196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944640" y="3660840"/>
            <a:ext cx="309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187280" y="40528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184400" y="3983040"/>
            <a:ext cx="71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146240" y="3906720"/>
            <a:ext cx="115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190520" y="38401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1193760" y="3770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042920" y="155736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La resolución, o cantidad de números de la regla, es definida por la 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cantidad de bit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l audio digital, cada número es representado en base 2, es decir con sólo dos dígitos: “0” y “1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sto se hace de la siguiente for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……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3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1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            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2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n     </a:t>
            </a: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….      </a:t>
            </a:r>
            <a:r>
              <a:rPr b="0" lang="es-CL" sz="2800" spc="-1" strike="noStrike" baseline="30000">
                <a:solidFill>
                  <a:srgbClr val="009999"/>
                </a:solidFill>
                <a:latin typeface="Arial"/>
              </a:rPr>
              <a:t>8       4         2       1</a:t>
            </a:r>
            <a:r>
              <a:rPr b="0" lang="es-CL" sz="2800" spc="-1" strike="noStrike" baseline="30000">
                <a:solidFill>
                  <a:srgbClr val="ffffcc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6 = 2+4 =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8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4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2 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+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</a:t>
            </a:r>
            <a:r>
              <a:rPr b="0" lang="es-CL" sz="900" spc="-1" strike="noStrike" baseline="30000">
                <a:solidFill>
                  <a:srgbClr val="ffffcc"/>
                </a:solidFill>
                <a:latin typeface="Arial"/>
              </a:rPr>
              <a:t>x</a:t>
            </a:r>
            <a:r>
              <a:rPr b="0" lang="es-CL" sz="1800" spc="-1" strike="noStrike">
                <a:solidFill>
                  <a:srgbClr val="009999"/>
                </a:solidFill>
                <a:latin typeface="Arial"/>
              </a:rPr>
              <a:t>1</a:t>
            </a:r>
            <a:r>
              <a:rPr b="0" lang="es-CL" sz="1800" spc="-1" strike="noStrike">
                <a:solidFill>
                  <a:srgbClr val="ffffcc"/>
                </a:solidFill>
                <a:latin typeface="Arial"/>
              </a:rPr>
              <a:t>                     </a:t>
            </a:r>
            <a:r>
              <a:rPr b="0" lang="es-CL" sz="1800" spc="-1" strike="noStrike">
                <a:solidFill>
                  <a:srgbClr val="ffff00"/>
                </a:solidFill>
                <a:latin typeface="Arial"/>
              </a:rPr>
              <a:t>0        1        1 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este caso, n es la cantidad de bits. Para representar números mayores, se requiere un número de bits mayor. De esta forma, se puede representar cualquier número como una serie de “1” y “0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108000" y="1916280"/>
            <a:ext cx="552240" cy="3673440"/>
            <a:chOff x="108000" y="1916280"/>
            <a:chExt cx="552240" cy="3673440"/>
          </a:xfrm>
        </p:grpSpPr>
        <p:sp>
          <p:nvSpPr>
            <p:cNvPr id="328" name=""/>
            <p:cNvSpPr/>
            <p:nvPr/>
          </p:nvSpPr>
          <p:spPr>
            <a:xfrm>
              <a:off x="438120" y="5330880"/>
              <a:ext cx="18432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2280" y="1916280"/>
              <a:ext cx="476280" cy="367344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06520" y="5195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06520" y="50626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06520" y="493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25520" y="469908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520" y="480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8800" y="5326200"/>
              <a:ext cx="23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79280" y="5229360"/>
              <a:ext cx="30348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52280" y="480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08000" y="454500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6520" y="525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501480" y="513252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38120" y="49942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11200" y="487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7680" y="4745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11200" y="4565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1200" y="4432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511200" y="43020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431640" y="406872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511200" y="417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115920" y="4172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1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680" y="39146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11200" y="4629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506520" y="4502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44600" y="436248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7680" y="42418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22360" y="4114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11200" y="39528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511200" y="381960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11200" y="36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31640" y="3454560"/>
              <a:ext cx="196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1200" y="35593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08000" y="357336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2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12680" y="330192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11200" y="40165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506520" y="38894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4600" y="37497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17680" y="36291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22360" y="3500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6520" y="33447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06520" y="3211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06520" y="30812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25520" y="28479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06520" y="2951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125280" y="2951280"/>
              <a:ext cx="5097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3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08000" y="26938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06520" y="34084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01480" y="32814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38120" y="31431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11200" y="30211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17680" y="2894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506520" y="27255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06520" y="25923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06520" y="24620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5520" y="2228760"/>
              <a:ext cx="198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06520" y="23320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15920" y="233208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45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08000" y="2075040"/>
              <a:ext cx="50796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6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06520" y="278928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01480" y="266220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38120" y="2523960"/>
              <a:ext cx="19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11200" y="240192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17680" y="227484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5148360" y="4508640"/>
            <a:ext cx="2511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42920" y="3284640"/>
            <a:ext cx="7345440" cy="1942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Número de Bit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En la música grabada en un CD, la frecuencia de muestreo (</a:t>
            </a:r>
            <a:r>
              <a:rPr b="0" i="1" lang="es-CL" sz="2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i="1" lang="es-CL" sz="2000" spc="-1" strike="noStrike" baseline="-25000">
                <a:solidFill>
                  <a:srgbClr val="ffffcc"/>
                </a:solidFill>
                <a:latin typeface="Arial"/>
              </a:rPr>
              <a:t>s</a:t>
            </a: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) es 44.1 KHz  y el número de bits es 16. Esto quiere decir que “la regla” en un CD tiene 65536 valores posibles, y se toman muestras 44.100 veces por segundo, es decir, cada 0.00002 segun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539640" y="3716280"/>
            <a:ext cx="719280" cy="20178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87280" y="537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87280" y="530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7280" y="522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16000" y="5157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187280" y="5084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187280" y="5013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187280" y="4941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187280" y="4869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1135080" y="4797000"/>
            <a:ext cx="123840" cy="4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87280" y="472428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187280" y="4653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87280" y="4581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187280" y="4508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1152360" y="4437000"/>
            <a:ext cx="1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187280" y="4365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187280" y="4292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87280" y="422100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4149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47680" y="4076640"/>
            <a:ext cx="111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187280" y="4005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187280" y="393372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187280" y="386064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187280" y="3789360"/>
            <a:ext cx="7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116000" y="544500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987480" y="5334120"/>
            <a:ext cx="1839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11280" y="4581360"/>
            <a:ext cx="431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32.768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3716280"/>
            <a:ext cx="5256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65.53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84360" y="5373720"/>
            <a:ext cx="3092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6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3280" y="5373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12400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1494000" y="3681360"/>
            <a:ext cx="5473440" cy="1944720"/>
            <a:chOff x="1494000" y="3681360"/>
            <a:chExt cx="5473440" cy="1944720"/>
          </a:xfrm>
        </p:grpSpPr>
        <p:sp>
          <p:nvSpPr>
            <p:cNvPr id="428" name=""/>
            <p:cNvSpPr/>
            <p:nvPr/>
          </p:nvSpPr>
          <p:spPr>
            <a:xfrm>
              <a:off x="149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8525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212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2644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078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43692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795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1562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5878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50212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38308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742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10236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400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967440" y="3681360"/>
              <a:ext cx="0" cy="1944720"/>
            </a:xfrm>
            <a:prstGeom prst="line">
              <a:avLst/>
            </a:prstGeom>
            <a:ln cap="rnd" w="9360">
              <a:solidFill>
                <a:srgbClr val="80808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5651640" y="494172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5600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987640" y="472428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348000" y="450864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70836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4067280" y="4941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500720" y="5229360"/>
            <a:ext cx="14256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32360" y="501336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292720" y="4869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012000" y="4724280"/>
            <a:ext cx="14256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443640" y="443700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77080" y="3933720"/>
            <a:ext cx="142920" cy="14472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490760" y="4003560"/>
            <a:ext cx="5611680" cy="1428840"/>
          </a:xfrm>
          <a:custGeom>
            <a:avLst/>
            <a:gdLst/>
            <a:ahLst/>
            <a:rect l="l" t="t" r="r" b="b"/>
            <a:pathLst>
              <a:path w="3535" h="900">
                <a:moveTo>
                  <a:pt x="0" y="900"/>
                </a:moveTo>
                <a:cubicBezTo>
                  <a:pt x="17" y="895"/>
                  <a:pt x="34" y="889"/>
                  <a:pt x="51" y="884"/>
                </a:cubicBezTo>
                <a:cubicBezTo>
                  <a:pt x="71" y="853"/>
                  <a:pt x="127" y="841"/>
                  <a:pt x="163" y="833"/>
                </a:cubicBezTo>
                <a:cubicBezTo>
                  <a:pt x="184" y="819"/>
                  <a:pt x="196" y="796"/>
                  <a:pt x="219" y="789"/>
                </a:cubicBezTo>
                <a:cubicBezTo>
                  <a:pt x="232" y="769"/>
                  <a:pt x="241" y="763"/>
                  <a:pt x="263" y="755"/>
                </a:cubicBezTo>
                <a:cubicBezTo>
                  <a:pt x="277" y="736"/>
                  <a:pt x="285" y="723"/>
                  <a:pt x="308" y="716"/>
                </a:cubicBezTo>
                <a:cubicBezTo>
                  <a:pt x="329" y="703"/>
                  <a:pt x="340" y="684"/>
                  <a:pt x="364" y="677"/>
                </a:cubicBezTo>
                <a:cubicBezTo>
                  <a:pt x="383" y="647"/>
                  <a:pt x="435" y="634"/>
                  <a:pt x="470" y="626"/>
                </a:cubicBezTo>
                <a:cubicBezTo>
                  <a:pt x="515" y="628"/>
                  <a:pt x="559" y="628"/>
                  <a:pt x="604" y="632"/>
                </a:cubicBezTo>
                <a:cubicBezTo>
                  <a:pt x="629" y="634"/>
                  <a:pt x="619" y="644"/>
                  <a:pt x="638" y="660"/>
                </a:cubicBezTo>
                <a:cubicBezTo>
                  <a:pt x="649" y="669"/>
                  <a:pt x="674" y="678"/>
                  <a:pt x="688" y="682"/>
                </a:cubicBezTo>
                <a:cubicBezTo>
                  <a:pt x="771" y="678"/>
                  <a:pt x="818" y="689"/>
                  <a:pt x="862" y="621"/>
                </a:cubicBezTo>
                <a:cubicBezTo>
                  <a:pt x="864" y="615"/>
                  <a:pt x="863" y="608"/>
                  <a:pt x="867" y="604"/>
                </a:cubicBezTo>
                <a:cubicBezTo>
                  <a:pt x="871" y="600"/>
                  <a:pt x="879" y="601"/>
                  <a:pt x="884" y="598"/>
                </a:cubicBezTo>
                <a:cubicBezTo>
                  <a:pt x="903" y="588"/>
                  <a:pt x="914" y="573"/>
                  <a:pt x="934" y="565"/>
                </a:cubicBezTo>
                <a:cubicBezTo>
                  <a:pt x="948" y="544"/>
                  <a:pt x="959" y="517"/>
                  <a:pt x="979" y="503"/>
                </a:cubicBezTo>
                <a:cubicBezTo>
                  <a:pt x="1006" y="464"/>
                  <a:pt x="1041" y="441"/>
                  <a:pt x="1085" y="425"/>
                </a:cubicBezTo>
                <a:cubicBezTo>
                  <a:pt x="1087" y="419"/>
                  <a:pt x="1086" y="412"/>
                  <a:pt x="1091" y="408"/>
                </a:cubicBezTo>
                <a:cubicBezTo>
                  <a:pt x="1104" y="398"/>
                  <a:pt x="1163" y="392"/>
                  <a:pt x="1180" y="380"/>
                </a:cubicBezTo>
                <a:cubicBezTo>
                  <a:pt x="1198" y="367"/>
                  <a:pt x="1212" y="353"/>
                  <a:pt x="1231" y="341"/>
                </a:cubicBezTo>
                <a:cubicBezTo>
                  <a:pt x="1237" y="316"/>
                  <a:pt x="1243" y="314"/>
                  <a:pt x="1259" y="296"/>
                </a:cubicBezTo>
                <a:cubicBezTo>
                  <a:pt x="1266" y="263"/>
                  <a:pt x="1293" y="243"/>
                  <a:pt x="1309" y="213"/>
                </a:cubicBezTo>
                <a:cubicBezTo>
                  <a:pt x="1316" y="200"/>
                  <a:pt x="1320" y="186"/>
                  <a:pt x="1326" y="173"/>
                </a:cubicBezTo>
                <a:cubicBezTo>
                  <a:pt x="1333" y="133"/>
                  <a:pt x="1328" y="154"/>
                  <a:pt x="1343" y="112"/>
                </a:cubicBezTo>
                <a:cubicBezTo>
                  <a:pt x="1360" y="66"/>
                  <a:pt x="1351" y="30"/>
                  <a:pt x="1404" y="11"/>
                </a:cubicBezTo>
                <a:cubicBezTo>
                  <a:pt x="1425" y="13"/>
                  <a:pt x="1447" y="8"/>
                  <a:pt x="1466" y="17"/>
                </a:cubicBezTo>
                <a:cubicBezTo>
                  <a:pt x="1483" y="25"/>
                  <a:pt x="1486" y="48"/>
                  <a:pt x="1499" y="62"/>
                </a:cubicBezTo>
                <a:cubicBezTo>
                  <a:pt x="1506" y="81"/>
                  <a:pt x="1510" y="95"/>
                  <a:pt x="1522" y="112"/>
                </a:cubicBezTo>
                <a:cubicBezTo>
                  <a:pt x="1527" y="142"/>
                  <a:pt x="1543" y="162"/>
                  <a:pt x="1550" y="190"/>
                </a:cubicBezTo>
                <a:cubicBezTo>
                  <a:pt x="1560" y="231"/>
                  <a:pt x="1566" y="277"/>
                  <a:pt x="1589" y="313"/>
                </a:cubicBezTo>
                <a:cubicBezTo>
                  <a:pt x="1601" y="353"/>
                  <a:pt x="1616" y="395"/>
                  <a:pt x="1622" y="436"/>
                </a:cubicBezTo>
                <a:cubicBezTo>
                  <a:pt x="1628" y="473"/>
                  <a:pt x="1632" y="595"/>
                  <a:pt x="1673" y="632"/>
                </a:cubicBezTo>
                <a:cubicBezTo>
                  <a:pt x="1677" y="639"/>
                  <a:pt x="1680" y="647"/>
                  <a:pt x="1684" y="654"/>
                </a:cubicBezTo>
                <a:cubicBezTo>
                  <a:pt x="1687" y="659"/>
                  <a:pt x="1692" y="661"/>
                  <a:pt x="1695" y="666"/>
                </a:cubicBezTo>
                <a:cubicBezTo>
                  <a:pt x="1705" y="683"/>
                  <a:pt x="1706" y="703"/>
                  <a:pt x="1717" y="721"/>
                </a:cubicBezTo>
                <a:cubicBezTo>
                  <a:pt x="1728" y="739"/>
                  <a:pt x="1750" y="746"/>
                  <a:pt x="1768" y="755"/>
                </a:cubicBezTo>
                <a:cubicBezTo>
                  <a:pt x="1781" y="775"/>
                  <a:pt x="1790" y="781"/>
                  <a:pt x="1812" y="789"/>
                </a:cubicBezTo>
                <a:cubicBezTo>
                  <a:pt x="1837" y="812"/>
                  <a:pt x="1874" y="826"/>
                  <a:pt x="1907" y="833"/>
                </a:cubicBezTo>
                <a:cubicBezTo>
                  <a:pt x="2018" y="826"/>
                  <a:pt x="1962" y="832"/>
                  <a:pt x="2019" y="811"/>
                </a:cubicBezTo>
                <a:cubicBezTo>
                  <a:pt x="2036" y="785"/>
                  <a:pt x="2071" y="781"/>
                  <a:pt x="2098" y="766"/>
                </a:cubicBezTo>
                <a:cubicBezTo>
                  <a:pt x="2110" y="760"/>
                  <a:pt x="2131" y="744"/>
                  <a:pt x="2131" y="744"/>
                </a:cubicBezTo>
                <a:cubicBezTo>
                  <a:pt x="2135" y="738"/>
                  <a:pt x="2137" y="731"/>
                  <a:pt x="2142" y="727"/>
                </a:cubicBezTo>
                <a:cubicBezTo>
                  <a:pt x="2147" y="723"/>
                  <a:pt x="2155" y="725"/>
                  <a:pt x="2159" y="721"/>
                </a:cubicBezTo>
                <a:cubicBezTo>
                  <a:pt x="2165" y="715"/>
                  <a:pt x="2165" y="705"/>
                  <a:pt x="2170" y="699"/>
                </a:cubicBezTo>
                <a:cubicBezTo>
                  <a:pt x="2184" y="683"/>
                  <a:pt x="2223" y="670"/>
                  <a:pt x="2243" y="666"/>
                </a:cubicBezTo>
                <a:cubicBezTo>
                  <a:pt x="2270" y="636"/>
                  <a:pt x="2307" y="636"/>
                  <a:pt x="2344" y="626"/>
                </a:cubicBezTo>
                <a:cubicBezTo>
                  <a:pt x="2371" y="607"/>
                  <a:pt x="2407" y="600"/>
                  <a:pt x="2439" y="593"/>
                </a:cubicBezTo>
                <a:cubicBezTo>
                  <a:pt x="2502" y="597"/>
                  <a:pt x="2541" y="604"/>
                  <a:pt x="2601" y="610"/>
                </a:cubicBezTo>
                <a:cubicBezTo>
                  <a:pt x="2631" y="617"/>
                  <a:pt x="2643" y="633"/>
                  <a:pt x="2668" y="649"/>
                </a:cubicBezTo>
                <a:cubicBezTo>
                  <a:pt x="2698" y="647"/>
                  <a:pt x="2727" y="646"/>
                  <a:pt x="2757" y="643"/>
                </a:cubicBezTo>
                <a:cubicBezTo>
                  <a:pt x="2797" y="639"/>
                  <a:pt x="2849" y="559"/>
                  <a:pt x="2875" y="531"/>
                </a:cubicBezTo>
                <a:cubicBezTo>
                  <a:pt x="2886" y="496"/>
                  <a:pt x="2870" y="531"/>
                  <a:pt x="2897" y="509"/>
                </a:cubicBezTo>
                <a:cubicBezTo>
                  <a:pt x="2921" y="489"/>
                  <a:pt x="2904" y="485"/>
                  <a:pt x="2942" y="475"/>
                </a:cubicBezTo>
                <a:cubicBezTo>
                  <a:pt x="2948" y="471"/>
                  <a:pt x="2953" y="467"/>
                  <a:pt x="2959" y="464"/>
                </a:cubicBezTo>
                <a:cubicBezTo>
                  <a:pt x="2968" y="460"/>
                  <a:pt x="2978" y="458"/>
                  <a:pt x="2987" y="453"/>
                </a:cubicBezTo>
                <a:cubicBezTo>
                  <a:pt x="3031" y="426"/>
                  <a:pt x="2976" y="442"/>
                  <a:pt x="3026" y="431"/>
                </a:cubicBezTo>
                <a:cubicBezTo>
                  <a:pt x="3051" y="406"/>
                  <a:pt x="3081" y="389"/>
                  <a:pt x="3115" y="380"/>
                </a:cubicBezTo>
                <a:cubicBezTo>
                  <a:pt x="3124" y="356"/>
                  <a:pt x="3142" y="337"/>
                  <a:pt x="3160" y="319"/>
                </a:cubicBezTo>
                <a:cubicBezTo>
                  <a:pt x="3175" y="275"/>
                  <a:pt x="3153" y="328"/>
                  <a:pt x="3182" y="291"/>
                </a:cubicBezTo>
                <a:cubicBezTo>
                  <a:pt x="3203" y="265"/>
                  <a:pt x="3170" y="279"/>
                  <a:pt x="3205" y="269"/>
                </a:cubicBezTo>
                <a:cubicBezTo>
                  <a:pt x="3223" y="250"/>
                  <a:pt x="3238" y="227"/>
                  <a:pt x="3255" y="207"/>
                </a:cubicBezTo>
                <a:cubicBezTo>
                  <a:pt x="3271" y="187"/>
                  <a:pt x="3263" y="176"/>
                  <a:pt x="3289" y="168"/>
                </a:cubicBezTo>
                <a:cubicBezTo>
                  <a:pt x="3297" y="133"/>
                  <a:pt x="3340" y="89"/>
                  <a:pt x="3373" y="73"/>
                </a:cubicBezTo>
                <a:cubicBezTo>
                  <a:pt x="3384" y="23"/>
                  <a:pt x="3367" y="73"/>
                  <a:pt x="3401" y="39"/>
                </a:cubicBezTo>
                <a:cubicBezTo>
                  <a:pt x="3405" y="35"/>
                  <a:pt x="3401" y="25"/>
                  <a:pt x="3406" y="22"/>
                </a:cubicBezTo>
                <a:cubicBezTo>
                  <a:pt x="3428" y="10"/>
                  <a:pt x="3455" y="8"/>
                  <a:pt x="3479" y="0"/>
                </a:cubicBezTo>
                <a:cubicBezTo>
                  <a:pt x="3513" y="9"/>
                  <a:pt x="3501" y="18"/>
                  <a:pt x="3524" y="39"/>
                </a:cubicBezTo>
                <a:cubicBezTo>
                  <a:pt x="3528" y="56"/>
                  <a:pt x="3535" y="73"/>
                  <a:pt x="3535" y="9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63640" y="5157720"/>
            <a:ext cx="142920" cy="1443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32000" y="5805360"/>
            <a:ext cx="28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547640" y="5661000"/>
            <a:ext cx="648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4.500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97964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6.324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41128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5.81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843280" y="580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28.266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203640" y="5661000"/>
            <a:ext cx="5032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35.971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3564000" y="5805360"/>
            <a:ext cx="504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63.312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924360" y="573408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17.507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5805360"/>
            <a:ext cx="4316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7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1887480" y="621936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V="1">
            <a:off x="1476360" y="623700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268360" y="62179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651040" y="6216120"/>
            <a:ext cx="390600" cy="11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332000" y="6381720"/>
            <a:ext cx="251928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800" spc="-1" strike="noStrike">
                <a:solidFill>
                  <a:srgbClr val="ffffff"/>
                </a:solidFill>
                <a:latin typeface="Arial"/>
              </a:rPr>
              <a:t>0.00002 seg entre cada muest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Frecuencia de muestreo y Bits en un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457200" y="1600200"/>
            <a:ext cx="75708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cc"/>
                </a:solidFill>
                <a:latin typeface="Arial"/>
              </a:rPr>
              <a:t>De esta forma, es posible registrar en un CD la forma de onda de un álbum completo, guardando cada número como una serie de dieciséis “0”s y “1”s con los que se representa las variaciones de presión del sonido grabado. En el CD, los “1” y “0” son marcados como “baches” en la superficie de alumnio del disco. El disco va siendo leído en forma de espiral, con un número siendo representado por cada 16 bi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ffffcc"/>
                </a:solidFill>
                <a:latin typeface="Arial"/>
              </a:rPr>
              <a:t>El CD de AUDI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7155000" y="114480"/>
            <a:ext cx="1401480" cy="133164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2"/>
          <a:stretch/>
        </p:blipFill>
        <p:spPr>
          <a:xfrm>
            <a:off x="4932360" y="3645000"/>
            <a:ext cx="3733920" cy="1257120"/>
          </a:xfrm>
          <a:prstGeom prst="rect">
            <a:avLst/>
          </a:prstGeom>
          <a:ln w="0">
            <a:noFill/>
          </a:ln>
        </p:spPr>
      </p:pic>
      <p:pic>
        <p:nvPicPr>
          <p:cNvPr id="476" name="" descr=""/>
          <p:cNvPicPr/>
          <p:nvPr/>
        </p:nvPicPr>
        <p:blipFill>
          <a:blip r:embed="rId3"/>
          <a:stretch/>
        </p:blipFill>
        <p:spPr>
          <a:xfrm>
            <a:off x="1332000" y="3789360"/>
            <a:ext cx="1904760" cy="2019240"/>
          </a:xfrm>
          <a:prstGeom prst="rect">
            <a:avLst/>
          </a:prstGeom>
          <a:ln w="0">
            <a:noFill/>
          </a:ln>
        </p:spPr>
      </p:pic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4572000" y="5300640"/>
            <a:ext cx="3857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CMM</cp:lastModifiedBy>
  <dcterms:modified xsi:type="dcterms:W3CDTF">2006-01-10T21:04:15Z</dcterms:modified>
  <cp:revision>36</cp:revision>
  <dc:subject/>
  <dc:title>Taller de Ciencias en la Música </dc:title>
</cp:coreProperties>
</file>