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29C-E753-4FFA-80DB-A1C1922A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140-6CD2-4268-8C62-16E63997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85A-E090-44FC-AC73-A242BFCD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5B4-6E33-4010-8F9A-402450A8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986-6B7D-4E3D-ACD2-1A46E98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3FD-934A-4039-8687-0B79CE08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C8C-4BE3-45FF-B832-29DACDA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D2B-FFE5-4ADF-A93A-DD50EA74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616-6F26-4CD2-B95A-BFD08FE0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CA3-828F-4191-9590-0137AFD2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F58-DE1D-478C-BB77-C3A3E333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E0E-2F77-42E3-9FD5-72A30F1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AF92-AD42-4C99-86FB-BB264DD70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hyperlink" Target="file:///Applets/Ondas%20Reflejadas/reflect.html" TargetMode="External"/><Relationship Id="rId4" Type="http://schemas.openxmlformats.org/officeDocument/2006/relationships/hyperlink" Target="file:///Applets/Ondas%20Reflejadas/reflect.html" TargetMode="External"/><Relationship Id="rId5" Type="http://schemas.openxmlformats.org/officeDocument/2006/relationships/hyperlink" Target="file:///Applets/Ondas%20Reflejadas/reflect.html" TargetMode="External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1 (Altas frecuencias)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 (55.3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14480" y="2100240"/>
            <a:ext cx="5315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2 (160.1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2062080"/>
            <a:ext cx="53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5 (369.74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2671920"/>
            <a:ext cx="5333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 2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ágina 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EB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580392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guitars/hummingbi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2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33720" y="2862360"/>
            <a:ext cx="4876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3  (188Hz)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5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4-28T19:18:57Z</dcterms:modified>
  <cp:revision>32</cp:revision>
  <dc:subject/>
  <dc:title>Taller de Ciencias en la Música </dc:title>
</cp:coreProperties>
</file>