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962-9CDA-47C8-8D4F-9A929D5E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A2A-C947-4D9D-A329-7737ACAD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6CC-BEA6-4E85-A876-95A145A6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253-6C48-4400-A912-887DA682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92A-6371-459B-B5B3-EA9018C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108-AB91-4034-8BD5-74F34B51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99A-D9AE-4D56-AB54-7412A992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A99-8217-440D-9F8A-B61E793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89A-BE6B-4133-AB50-5B957EE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FDA-C6F4-46C1-B006-612B40E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4A-C539-445C-A62D-BDB4339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A8B-A26D-4E9B-831B-868ABCF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1E6C-9125-458E-859A-83C488AC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file:///Applets/Ondas%20Reflejadas/reflect.html" TargetMode="External"/><Relationship Id="rId4" Type="http://schemas.openxmlformats.org/officeDocument/2006/relationships/hyperlink" Target="file:///Applets/Ondas%20Reflejadas/reflect.html" TargetMode="External"/><Relationship Id="rId5" Type="http://schemas.openxmlformats.org/officeDocument/2006/relationships/hyperlink" Target="file:///Applets/Ondas%20Reflejadas/reflect.html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1 (Altas frecuencias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(55.3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2100240"/>
            <a:ext cx="5315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(160.1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2062080"/>
            <a:ext cx="53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(369.74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2671920"/>
            <a:ext cx="5333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B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8039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guitars/hummingbi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2862360"/>
            <a:ext cx="48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3  (188Hz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4-28T19:18:57Z</dcterms:modified>
  <cp:revision>32</cp:revision>
  <dc:subject/>
  <dc:title>Taller de Ciencias en la Música </dc:title>
</cp:coreProperties>
</file>