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2.png" ContentType="image/png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2DEF-1A34-4504-94FD-79102415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81F-9DCA-41B5-BB45-3C77F9DF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C79E-9D58-4E9D-85EE-4424996A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9FCA-D748-488E-84E1-67717444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144-01F8-4D6C-9C15-8CC791B7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D6F-2C23-4216-A1F7-CD9F8B91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C777-8C69-4C53-A4F1-C7549F79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80B4-7E18-4961-B9DB-9BDE39C2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BEA-B612-4A7F-8D69-CABB0B6D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68BB-F41C-457C-9906-A9E610DA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244-510E-4B8A-80D2-57F438F3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D79-F829-42A3-9C04-55333E59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5A97-B7D7-4B78-B569-C44176117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hyperlink" Target="file:///Applets/Ondas%20Reflejadas/reflect.html" TargetMode="External"/><Relationship Id="rId4" Type="http://schemas.openxmlformats.org/officeDocument/2006/relationships/hyperlink" Target="file:///Applets/Ondas%20Reflejadas/reflect.html" TargetMode="External"/><Relationship Id="rId5" Type="http://schemas.openxmlformats.org/officeDocument/2006/relationships/hyperlink" Target="file:///Applets/Ondas%20Reflejadas/reflect.html" TargetMode="External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t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3867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11 (Altas frecuencias) en Guitarra Acú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33720" y="2909880"/>
            <a:ext cx="4876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1 (55.3 Hz) en Guitarra Eléc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14480" y="2100240"/>
            <a:ext cx="53150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2 (160.1 Hz) en Guitarra Eléc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5120" y="2062080"/>
            <a:ext cx="53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5 (369.74 Hz) en Guitarra Eléc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2671920"/>
            <a:ext cx="53337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La Física del Sonido 2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uls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32000" y="2205000"/>
            <a:ext cx="2187720" cy="218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71640" y="5803920"/>
            <a:ext cx="777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oustics Animations © 2002 Dr. Dan Russel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ttering University Applied Phys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kettering.edu/~drussell/dem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fexión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32000" y="2060640"/>
            <a:ext cx="36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flexiones con cambio de densidad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64000" y="227664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595008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ágina </a:t>
            </a: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EB</a:t>
            </a: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de on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1 en Guitarra Acú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33720" y="2909880"/>
            <a:ext cx="4876560" cy="1905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580392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oustics Animations © 2002 Dr. Dan Russel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ttering University Applied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kettering.edu/~drussell/guitars/hummingbir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2 en Guitarra Acú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33720" y="2862360"/>
            <a:ext cx="4876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3  (188Hz) en Guitarra Acú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33720" y="2909880"/>
            <a:ext cx="4876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5 en Guitarra Acú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33720" y="2909880"/>
            <a:ext cx="4876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Mecesup</cp:lastModifiedBy>
  <dcterms:modified xsi:type="dcterms:W3CDTF">2004-04-28T19:18:57Z</dcterms:modified>
  <cp:revision>32</cp:revision>
  <dc:subject/>
  <dc:title>Taller de Ciencias en la Música </dc:title>
</cp:coreProperties>
</file>