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gif" ContentType="image/gif"/>
  <Override PartName="/ppt/media/image14.gif" ContentType="image/gif"/>
  <Override PartName="/ppt/media/image2.png" ContentType="image/png"/>
  <Override PartName="/ppt/media/image3.gif" ContentType="image/gif"/>
  <Override PartName="/ppt/media/image1.jpeg" ContentType="image/jpeg"/>
  <Override PartName="/ppt/media/image4.gif" ContentType="image/gif"/>
  <Override PartName="/ppt/media/image5.gif" ContentType="image/gif"/>
  <Override PartName="/ppt/media/image10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29F3-D275-4394-9DD3-5394C42C6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A0ABA-0B6F-43A1-9076-281E5167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CC1F-C6CB-41E7-A7DF-E199E5942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D0A0-1B76-490E-B4FF-0619F5AF6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BE1F-62D1-4A54-8E03-2190CC988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644DC-9385-4F84-90A4-0C9F14D3E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41DB-624B-4E5C-9CD5-7A44BA26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7373-3B76-4584-BC83-2EF367708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7C621-78F7-4EBA-938F-BD633A657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0435E-4E74-45EB-8E18-6000031AB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1771-D776-4FBA-ADBE-5E5FE94D2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A97C-D6AB-419A-A60C-A87F8391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D006F-7CC5-49A1-AD88-34710E47F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79280" y="1484280"/>
            <a:ext cx="8713800" cy="0"/>
          </a:xfrm>
          <a:prstGeom prst="line">
            <a:avLst/>
          </a:prstGeom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8854920" y="1447920"/>
            <a:ext cx="73080" cy="73080"/>
          </a:xfrm>
          <a:prstGeom prst="ellipse">
            <a:avLst/>
          </a:prstGeom>
          <a:solidFill>
            <a:srgbClr val="ffffcc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hyperlink" Target="file:///Applets/Ondas%20Reflejadas/reflect.html" TargetMode="External"/><Relationship Id="rId4" Type="http://schemas.openxmlformats.org/officeDocument/2006/relationships/hyperlink" Target="file:///Applets/Ondas%20Reflejadas/reflect.html" TargetMode="External"/><Relationship Id="rId5" Type="http://schemas.openxmlformats.org/officeDocument/2006/relationships/hyperlink" Target="file:///Applets/Ondas%20Reflejadas/reflect.html" TargetMode="External"/><Relationship Id="rId6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Taller de Música en la Ciencia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3563640" y="6093000"/>
            <a:ext cx="5360760" cy="55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cc"/>
                </a:solidFill>
                <a:latin typeface="Arial"/>
              </a:rPr>
              <a:t>Enero dos mil tr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476360" y="1989000"/>
            <a:ext cx="386712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1 (Altas frecuencias)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 (55.3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914480" y="2100240"/>
            <a:ext cx="531504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2 (160.1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1905120" y="2062080"/>
            <a:ext cx="53337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5 (369.74 Hz) en Guitarra Eléctr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905120" y="2671920"/>
            <a:ext cx="5333760" cy="238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Unidad II </a:t>
            </a:r>
            <a:br>
              <a:rPr sz="4000"/>
            </a:b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La Física del Sonido 2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7451640" y="189000"/>
            <a:ext cx="1224000" cy="120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Pulso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132000" y="2205000"/>
            <a:ext cx="2187720" cy="21877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971640" y="5803920"/>
            <a:ext cx="777708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demos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lfexión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132000" y="2060640"/>
            <a:ext cx="360072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ffffcc"/>
                </a:solidFill>
                <a:latin typeface="Arial"/>
              </a:rPr>
              <a:t>Ondas Mecánicas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9152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cc"/>
                </a:solidFill>
                <a:latin typeface="Arial"/>
              </a:rPr>
              <a:t>Reflexiones con cambio de densidad:</a:t>
            </a:r>
            <a:endParaRPr b="0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395280" y="227664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64000" y="227664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395280" y="595008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ágina 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EB</a:t>
            </a:r>
            <a:r>
              <a:rPr b="0" lang="es-CL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 de ond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1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395280" y="5803920"/>
            <a:ext cx="7632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coustics Animations © 2002 Dr. Dan Russell</a:t>
            </a:r>
            <a:br>
              <a:rPr sz="1800"/>
            </a:b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Kettering University Applied Phys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ttp://www.kettering.edu/~drussell/guitars/hummingbird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2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2133720" y="2862360"/>
            <a:ext cx="4876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3  (188Hz)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ffffcc"/>
                </a:solidFill>
                <a:latin typeface="Arial"/>
              </a:rPr>
              <a:t>Modos de Vibración en Guitarras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1773360"/>
            <a:ext cx="8291520" cy="7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ffffcc"/>
                </a:solidFill>
                <a:latin typeface="Arial"/>
              </a:rPr>
              <a:t>Modo 5 en Guitarra Acústic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2133720" y="2909880"/>
            <a:ext cx="48765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6T16:27:35Z</dcterms:created>
  <dc:creator>Mecesup</dc:creator>
  <dc:description/>
  <dc:language>en-US</dc:language>
  <cp:lastModifiedBy>Mecesup</cp:lastModifiedBy>
  <dcterms:modified xsi:type="dcterms:W3CDTF">2004-04-28T19:18:57Z</dcterms:modified>
  <cp:revision>32</cp:revision>
  <dc:subject/>
  <dc:title>Taller de Ciencias en la Música </dc:title>
</cp:coreProperties>
</file>