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261-8ABA-448E-B354-D81F7C7C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9C6-FA50-4FA2-AC2B-03846857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856-8208-45A9-BC8D-54FF11E4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675-D704-40BE-A815-7C6BA91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DFA-0C2E-42ED-8600-E4619EC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EB8-A566-4A6B-9843-B46B473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F63-40EA-429F-A5A1-1AEBA22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474-5A4C-4ED3-9E5B-BCC90F9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7A8-BB1D-4EC3-A5B1-5A3E870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23B-1183-4F40-A9B9-8A2B06F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ED8-FFB6-4008-AF0D-FA81399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D6B-F3DA-4814-85E3-FCF68CC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E86C-8312-4B1D-9303-479BACF6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1:04:57Z</dcterms:modified>
  <cp:revision>27</cp:revision>
  <dc:subject/>
  <dc:title>Taller de Ciencias en la Música </dc:title>
</cp:coreProperties>
</file>