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9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3.gif" ContentType="image/gif"/>
  <Override PartName="/ppt/media/image7.png" ContentType="image/png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4.png" ContentType="image/png"/>
  <Override PartName="/ppt/media/image11.gif" ContentType="image/gif"/>
  <Override PartName="/ppt/media/image8.jpeg" ContentType="image/jpe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5580-2B12-444E-907A-FBE79759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56D-93D6-43B2-BC95-9B787024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C49-A715-44E9-95A0-AC821452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210E-69AD-40F5-8E41-54E58C3A6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E2C6-84AB-4F35-B711-124EE567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187-C534-405C-B193-09E40A6B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ACD6-7EC8-4FAE-A707-955BB0A3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272C-2A4A-491C-82C6-EC53A7FB3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73C5-2552-4B62-9D8A-F653AF45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3B8A-B559-43A1-8C5D-6A7C7C86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DA0-1EBB-4BA7-9276-602944C4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B05-A655-4B3B-91D3-52342A62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2905-EEF5-43D3-833B-BF39CDA64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micro.magnet.fsu.edu/electromag/java/speaker/" TargetMode="External"/><Relationship Id="rId2" Type="http://schemas.openxmlformats.org/officeDocument/2006/relationships/hyperlink" Target="http://micro.magnet.fsu.edu/electromag/java/speaker/" TargetMode="External"/><Relationship Id="rId3" Type="http://schemas.openxmlformats.org/officeDocument/2006/relationships/hyperlink" Target="http://micro.magnet.fsu.edu/electromag/java/speaker/" TargetMode="External"/><Relationship Id="rId4" Type="http://schemas.openxmlformats.org/officeDocument/2006/relationships/hyperlink" Target="http://micro.magnet.fsu.edu/electromag/java/speaker/" TargetMode="External"/><Relationship Id="rId5" Type="http://schemas.openxmlformats.org/officeDocument/2006/relationships/hyperlink" Target="http://micro.magnet.fsu.edu/electromag/java/microphone/" TargetMode="External"/><Relationship Id="rId6" Type="http://schemas.openxmlformats.org/officeDocument/2006/relationships/hyperlink" Target="http://micro.magnet.fsu.edu/electromag/java/microphone/" TargetMode="External"/><Relationship Id="rId7" Type="http://schemas.openxmlformats.org/officeDocument/2006/relationships/hyperlink" Target="http://micro.magnet.fsu.edu/electromag/java/microphone/" TargetMode="External"/><Relationship Id="rId8" Type="http://schemas.openxmlformats.org/officeDocument/2006/relationships/hyperlink" Target="http://micro.magnet.fsu.edu/electromag/java/microphone/" TargetMode="External"/><Relationship Id="rId9" Type="http://schemas.openxmlformats.org/officeDocument/2006/relationships/hyperlink" Target="http://micro.magnet.fsu.edu/electromag/java/microphone/" TargetMode="External"/><Relationship Id="rId10" Type="http://schemas.openxmlformats.org/officeDocument/2006/relationships/hyperlink" Target="http://micro.magnet.fsu.edu/electromag/java/microphone/" TargetMode="External"/><Relationship Id="rId11" Type="http://schemas.openxmlformats.org/officeDocument/2006/relationships/hyperlink" Target="http://micro.magnet.fsu.edu/electromag/java/microphone/" TargetMode="External"/><Relationship Id="rId12" Type="http://schemas.openxmlformats.org/officeDocument/2006/relationships/hyperlink" Target="http://micro.magnet.fsu.edu/electromag/java/microphone/" TargetMode="External"/><Relationship Id="rId13" Type="http://schemas.openxmlformats.org/officeDocument/2006/relationships/hyperlink" Target="http://www.falstad.com/mathphysics.html" TargetMode="External"/><Relationship Id="rId14" Type="http://schemas.openxmlformats.org/officeDocument/2006/relationships/hyperlink" Target="http://www.falstad.com/mathphysics.html" TargetMode="External"/><Relationship Id="rId15" Type="http://schemas.openxmlformats.org/officeDocument/2006/relationships/hyperlink" Target="http://www.falstad.com/mathphysics.html" TargetMode="External"/><Relationship Id="rId16" Type="http://schemas.openxmlformats.org/officeDocument/2006/relationships/hyperlink" Target="http://www.falstad.com/mathphysics.html" TargetMode="External"/><Relationship Id="rId17" Type="http://schemas.openxmlformats.org/officeDocument/2006/relationships/hyperlink" Target="http://www.falstad.com/mathphysics.html" TargetMode="External"/><Relationship Id="rId1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falstad.com/fourier/" TargetMode="External"/><Relationship Id="rId2" Type="http://schemas.openxmlformats.org/officeDocument/2006/relationships/hyperlink" Target="http://www.cs.ubc.ca/spider/kvdoel/sound_demo6.html" TargetMode="External"/><Relationship Id="rId3" Type="http://schemas.openxmlformats.org/officeDocument/2006/relationships/hyperlink" Target="http://www.cs.ubc.ca/spider/kvdoel/sound_demo6.html" TargetMode="External"/><Relationship Id="rId4" Type="http://schemas.openxmlformats.org/officeDocument/2006/relationships/hyperlink" Target="http://www.cs.ubc.ca/spider/kvdoel/sound_demo6.html" TargetMode="External"/><Relationship Id="rId5" Type="http://schemas.openxmlformats.org/officeDocument/2006/relationships/hyperlink" Target="http://www.cs.ubc.ca/spider/kvdoel/sound_demo6.html" TargetMode="External"/><Relationship Id="rId6" Type="http://schemas.openxmlformats.org/officeDocument/2006/relationships/hyperlink" Target="http://www.cs.ubc.ca/spider/kvdoel/sound_demo6.html" TargetMode="External"/><Relationship Id="rId7" Type="http://schemas.openxmlformats.org/officeDocument/2006/relationships/hyperlink" Target="http://www.cs.ubc.ca/spider/kvdoel/sound_demo6.html" TargetMode="External"/><Relationship Id="rId8" Type="http://schemas.openxmlformats.org/officeDocument/2006/relationships/hyperlink" Target="http://www.cs.ubc.ca/spider/kvdoel/sound_demo6.html" TargetMode="External"/><Relationship Id="rId9" Type="http://schemas.openxmlformats.org/officeDocument/2006/relationships/hyperlink" Target="http://www.cs.ubc.ca/spider/kvdoel/sound_demo6.html" TargetMode="External"/><Relationship Id="rId10" Type="http://schemas.openxmlformats.org/officeDocument/2006/relationships/hyperlink" Target="http://www.cs.ubc.ca/spider/kvdoel/sound_demo6.html" TargetMode="External"/><Relationship Id="rId11" Type="http://schemas.openxmlformats.org/officeDocument/2006/relationships/hyperlink" Target="http://www.cs.ubc.ca/spider/kvdoel/sound_demo6.html" TargetMode="External"/><Relationship Id="rId12" Type="http://schemas.openxmlformats.org/officeDocument/2006/relationships/hyperlink" Target="http://www.cs.ubc.ca/spider/kvdoel/sound_demo6.html" TargetMode="External"/><Relationship Id="rId1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www.xtec.es/centres/a8019411/caixa/index_es.htm" TargetMode="External"/><Relationship Id="rId3" Type="http://schemas.openxmlformats.org/officeDocument/2006/relationships/hyperlink" Target="http://www.xtec.es/centres/a8019411/caixa/index_es.htm" TargetMode="External"/><Relationship Id="rId4" Type="http://schemas.openxmlformats.org/officeDocument/2006/relationships/hyperlink" Target="http://www.xtec.es/centres/a8019411/caixa/index_es.htm" TargetMode="External"/><Relationship Id="rId5" Type="http://schemas.openxmlformats.org/officeDocument/2006/relationships/hyperlink" Target="http://www.xtec.es/centres/a8019411/caixa/index_es.htm" TargetMode="External"/><Relationship Id="rId6" Type="http://schemas.openxmlformats.org/officeDocument/2006/relationships/hyperlink" Target="http://www.xtec.es/centres/a8019411/caixa/index_es.htm" TargetMode="External"/><Relationship Id="rId7" Type="http://schemas.openxmlformats.org/officeDocument/2006/relationships/hyperlink" Target="http://www.kettering.edu/~drussell/Demos.html" TargetMode="External"/><Relationship Id="rId8" Type="http://schemas.openxmlformats.org/officeDocument/2006/relationships/hyperlink" Target="http://www.kettering.edu/~drussell/Demos.html" TargetMode="External"/><Relationship Id="rId9" Type="http://schemas.openxmlformats.org/officeDocument/2006/relationships/hyperlink" Target="http://www.kettering.edu/~drussell/Demos.html" TargetMode="External"/><Relationship Id="rId10" Type="http://schemas.openxmlformats.org/officeDocument/2006/relationships/hyperlink" Target="http://www.kettering.edu/~drussell/Demos.html" TargetMode="External"/><Relationship Id="rId11" Type="http://schemas.openxmlformats.org/officeDocument/2006/relationships/hyperlink" Target="http://www.kettering.edu/~drussell/Demos.html" TargetMode="External"/><Relationship Id="rId12" Type="http://schemas.openxmlformats.org/officeDocument/2006/relationships/hyperlink" Target="http://www.kettering.edu/~drussell/Demos.html" TargetMode="External"/><Relationship Id="rId13" Type="http://schemas.openxmlformats.org/officeDocument/2006/relationships/hyperlink" Target="http://www.kettering.edu/~drussell/Demos.html" TargetMode="External"/><Relationship Id="rId14" Type="http://schemas.openxmlformats.org/officeDocument/2006/relationships/image" Target="../media/image3.gif"/><Relationship Id="rId1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synwater.exe" TargetMode="External"/><Relationship Id="rId2" Type="http://schemas.openxmlformats.org/officeDocument/2006/relationships/hyperlink" Target="tsunami wave globe.mov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t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42160" cy="2297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5157720"/>
            <a:ext cx="8207280" cy="10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laciones en las On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 = 1 / </a:t>
            </a:r>
            <a:r>
              <a:rPr b="0" lang="es-CL" sz="2400" spc="-1" strike="noStrike">
                <a:solidFill>
                  <a:srgbClr val="ffffff"/>
                </a:solidFill>
                <a:latin typeface="Monotype Corsiva"/>
              </a:rPr>
              <a:t>f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v =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λ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i="1" lang="es-ES" sz="2400" spc="-1" strike="noStrike">
                <a:solidFill>
                  <a:srgbClr val="ffffff"/>
                </a:solidFill>
                <a:latin typeface="Monotype Corsiva"/>
              </a:rPr>
              <a:t>f</a:t>
            </a:r>
            <a:r>
              <a:rPr b="0" lang="es-ES" sz="2400" spc="-1" strike="noStrike">
                <a:solidFill>
                  <a:srgbClr val="ffffff"/>
                </a:solidFill>
                <a:latin typeface="Monotype Corsiva"/>
              </a:rPr>
              <a:t>                            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g(t)=sin(2·</a:t>
            </a:r>
            <a:r>
              <a:rPr b="0" i="1" lang="el-GR" sz="3200" spc="-1" strike="noStrike">
                <a:solidFill>
                  <a:srgbClr val="ffffff"/>
                </a:solidFill>
                <a:latin typeface="Monotype Corsiva"/>
              </a:rPr>
              <a:t>π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·4·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presentación Circula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56000" y="1699920"/>
            <a:ext cx="274644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s ondas se representan matemáticamente como funciones trigonométricas (Seno y Coseno) o como números Reales e Imaginario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619272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scilacione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scilacione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Parlante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icro.magnet.fsu.edu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electromag/java/speak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Micrófono 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micro.magnet.fsu.edu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electromag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java/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microphone</a:t>
            </a:r>
            <a:r>
              <a:rPr b="0" lang="es-CL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membrana (Tambor)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e cuerda o bar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://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falstad.com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</a:t>
            </a:r>
            <a:r>
              <a:rPr b="0" lang="es-CL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mathphysics.htm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2840" y="1455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Al cruzarse dos o más ondas, éstas se “suman” (superponen). Esto produce distintos efectos: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611964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19280" y="2347920"/>
            <a:ext cx="4248000" cy="424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el mismo sentid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042920" y="2274840"/>
            <a:ext cx="4465800" cy="4465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Dos ondas viajando en sentidos opuest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Superposición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2205000"/>
            <a:ext cx="4392360" cy="4392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os ondas de frecuencias ligeramente distinta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51847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61976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2492280"/>
            <a:ext cx="76197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La Física del Sonid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02680" y="404640"/>
            <a:ext cx="934920" cy="9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 y Serie de Fouri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76201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Síntesis por superposición de armónic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alstad.com/fourier/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Otro sitio de síntesis por Modelamiento Físic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cs.ubc.ca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spider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kvdoel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/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ound_demo6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.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ml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ecuencias de los 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 un tubo cerr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( v =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 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1628640"/>
            <a:ext cx="431964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5148360" y="2276640"/>
                <a:ext cx="27367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Frecuencias de los Armónico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 tubo abierto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( v = velocidad del sonido en el aire   </a:t>
            </a:r>
            <a:r>
              <a:rPr b="1" lang="es-CL" sz="2800" spc="-1" strike="noStrike">
                <a:solidFill>
                  <a:srgbClr val="ffffcc"/>
                </a:solidFill>
                <a:latin typeface="Arial"/>
              </a:rPr>
              <a:t>340.29 m/s 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1628640"/>
            <a:ext cx="4319640" cy="302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148360" y="2276640"/>
                <a:ext cx="2736720" cy="15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Resonador de Helmholtz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3240" y="2887560"/>
            <a:ext cx="1919160" cy="638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0040" y="2492280"/>
            <a:ext cx="852480" cy="322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9720" y="2492280"/>
            <a:ext cx="0" cy="6080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19280" y="4149720"/>
            <a:ext cx="10666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16040" y="2421000"/>
            <a:ext cx="639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3640" y="2637000"/>
            <a:ext cx="1280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otype Corsiva"/>
              </a:rPr>
              <a:t>l </a:t>
            </a:r>
            <a:r>
              <a:rPr b="0" lang="en-US" sz="1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932360" y="2349360"/>
            <a:ext cx="29844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onotype Corsiva"/>
              </a:rPr>
              <a:t>l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largo del cue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: Área de a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 : Volu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149720"/>
            <a:ext cx="3529080" cy="20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4710240" y="4581360"/>
                <a:ext cx="31064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d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V</m:t>
                            </m:r>
                            <m:r>
                              <m:t xml:space="preserve">⋅</m:t>
                            </m:r>
                            <m:r>
                              <m:t xml:space="preserve">l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Propagación de Energía sin transferencia de materia: onda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187280" y="3645000"/>
            <a:ext cx="5904000" cy="1317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4000" y="2349360"/>
            <a:ext cx="727236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Página Web: La Caja de Músic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de Carlos García Peñalba 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xtec.es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centres/a8019411/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ixa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</a:t>
            </a:r>
            <a:r>
              <a:rPr b="0" lang="es-CL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index_e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kettering.edu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~drussell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Demo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4"/>
          <a:stretch/>
        </p:blipFill>
        <p:spPr>
          <a:xfrm>
            <a:off x="1187280" y="5040360"/>
            <a:ext cx="590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s Ondas Sonor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278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 importante notar que las partículas no se desplazan, sino que vibran u oscilan. Osea, en una flauta no “sale” aire por el extremo….el aire se está moviendo dentro de la flauta a distintas velocidades o “frecuencias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748836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jemplo de Ondas: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ynWater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dor de ondas producidas por gotas de agua en un estanque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sunami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simulación de un Tsunami que se propag desde Chile hasta Japón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ngitudinales: movimiento en el sentido de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4292640"/>
            <a:ext cx="792000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ipos de Ond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Transversales: movimiento perpendicular a la propagació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83534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09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Amplitud     ( A ) es qué tan amplia es la oscilación. Corresponde al volúme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Período       ( T ) : cuántos segundos dura un ciclo de una onda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ongitud de Onda  ( </a:t>
            </a:r>
            <a:r>
              <a:rPr b="0" lang="el-GR" sz="2000" spc="-1" strike="noStrike">
                <a:solidFill>
                  <a:srgbClr val="ffffcc"/>
                </a:solidFill>
                <a:latin typeface="Arial"/>
                <a:ea typeface="Arial"/>
              </a:rPr>
              <a:t>λ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 ) : distancia (en metros) entre dos ciclos.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7345440" cy="247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13000" y="4238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9280" y="4292640"/>
            <a:ext cx="1974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4365720"/>
            <a:ext cx="143964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845400" y="4338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43640" y="5229360"/>
            <a:ext cx="86508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mplit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met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34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1000" y="601488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72000" y="6093000"/>
            <a:ext cx="197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6165720"/>
            <a:ext cx="1440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eríodo de 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segun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Características Físicas de Ond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Frecuencia  ( </a:t>
            </a:r>
            <a:r>
              <a:rPr b="0" lang="es-CL" sz="2400" spc="-1" strike="noStrike">
                <a:solidFill>
                  <a:srgbClr val="ffffcc"/>
                </a:solidFill>
                <a:latin typeface="Monotype Corsiva"/>
              </a:rPr>
              <a:t>f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 ) es cuántos ciclos ocurren en 1 segundo.   Corresponde al ton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v es la velocidad de propagación de la onda…en el caso del sonido, es la velocidad del sonido en el aire   </a:t>
            </a:r>
            <a:r>
              <a:rPr b="1" lang="es-CL" sz="2400" spc="-1" strike="noStrike">
                <a:solidFill>
                  <a:srgbClr val="ffffcc"/>
                </a:solidFill>
                <a:latin typeface="Arial"/>
              </a:rPr>
              <a:t>340.29 m/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86421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Mecesup</cp:lastModifiedBy>
  <dcterms:modified xsi:type="dcterms:W3CDTF">2004-02-10T21:04:57Z</dcterms:modified>
  <cp:revision>27</cp:revision>
  <dc:subject/>
  <dc:title>Taller de Ciencias en la Música </dc:title>
</cp:coreProperties>
</file>