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3F1-D195-4817-A1D7-B836F63B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C29-917C-4B21-8869-A7A8D3B2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627-BFE5-4059-8783-A8857048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E97-7DFE-4588-ADF9-FB1289D8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496-D2F8-42B7-8A10-590A57EA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920-9183-4578-8D58-04741DB8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0EA-FB8E-40DB-B119-B650F9A2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6B1-0534-4EEF-84D4-96442BA7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DAA-71CD-4476-B730-34D3E3D1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AB3-D764-4ECD-95B8-8A39E7C3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F12-4EDE-4645-A37E-38EDACF1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B1E-23A3-433D-BD81-AB82C21F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8C65-1299-4A34-B3F8-89BD0FC5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fine una primera nota fundamental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grado con una cuerda de cierta longitud ( Ej:  DO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COMMA SINTONICA o DIDYMICA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III no es pura (no es 5:4) por un poc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I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 está en relación      2:1    con la fundamental  ( Ej. DO 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¾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SOL   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FA    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bajo SOL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menor (Mib) =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2-10T20:18:17Z</dcterms:modified>
  <cp:revision>29</cp:revision>
  <dc:subject/>
  <dc:title>Taller de Ciencias en la Música </dc:title>
</cp:coreProperties>
</file>