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C75-BFD6-487A-AFF8-33338CE9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90D-E287-44D0-8D2B-F3D4D1B7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CA4-0F7E-4550-A239-799CFA6C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56E-EA06-4017-9C3D-C9FAEABE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832-222D-4839-89DD-EC44EA03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C82-E38C-4294-A0A2-E002A87E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C22-E1F6-4DE9-B80A-18F60BBC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F88-E777-4D9D-86B1-15170AFA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2D6-11DA-46EB-B8D2-61DF7C46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B74-780D-4F6A-858C-4C8F6F7F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762-8C3B-4A80-8680-C8E6A35D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C74-E6A3-440A-87F8-31E1A017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4DFC-7CA0-4F2A-8A10-D9F910AB4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fine una primera nota fundamental o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grado con una cuerda de cierta longitud ( Ej:  DO 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COMMA SINTONICA o DIDYMICA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III no es pura (no es 5:4) por un poco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I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 está en relación      2:1    con la fundamental  ( Ej. DO 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¾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SOL   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FA    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bajo SOL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menor (Mib) =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2-10T20:18:17Z</dcterms:modified>
  <cp:revision>29</cp:revision>
  <dc:subject/>
  <dc:title>Taller de Ciencias en la Música </dc:title>
</cp:coreProperties>
</file>