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6BB-C7F6-4A49-AC96-AC807B92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AEC-5C30-4255-95A5-1550BF3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D16-D708-4F33-966B-FFC339D0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2E4-4556-4CF2-B2E6-621869E9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1DE-4988-41D8-A0F3-8FD5ED1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179-59B6-4FB6-9F61-90675FD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821-164B-47FD-99BD-F1CC493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08F-033D-4D57-8EC5-A9AD3124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DE3-A684-428C-BE2C-BC67D60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8F0-BFE0-4047-BA1B-FD008A29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407-0BF2-4A7B-8619-897C667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38E-3658-463D-A285-612FF09F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F6F-6FF4-4097-A3E0-AEBB4E01D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0:18:17Z</dcterms:modified>
  <cp:revision>29</cp:revision>
  <dc:subject/>
  <dc:title>Taller de Ciencias en la Música </dc:title>
</cp:coreProperties>
</file>