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A18-6F25-45D4-ABDF-38ADCFDD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10E-729C-4888-B3B6-CF02186D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E5E-FBE0-4782-893B-E0F3EEDA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129-5CA1-42EF-AA36-305207D7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778-BDE3-41F9-8788-21656E71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E9A-03C2-4436-B1CF-A4F0D788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0F6-E45F-476C-BF26-A76464B3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6FA-57C5-4D3D-BC86-41C64839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5FD-EC56-4E2E-819C-2F9F82F5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8C4-FD27-4317-854F-61A0CEB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D60-DD53-43CC-8321-0F6762E0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315-CF38-4328-8E66-130EC9F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2F33-3359-437B-BCE2-39ACE6FD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fine una primera nota fundamental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grado con una cuerda de cierta longitud ( Ej:  DO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COMMA SINTONICA o DIDYMICA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III no es pura (no es 5:4) por un poc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I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 está en relación      2:1    con la fundamental  ( Ej. DO 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¾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SOL   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FA    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bajo SOL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menor (Mib) =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2-10T20:18:17Z</dcterms:modified>
  <cp:revision>29</cp:revision>
  <dc:subject/>
  <dc:title>Taller de Ciencias en la Música </dc:title>
</cp:coreProperties>
</file>