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3D6-A1F0-44EF-8D9F-845D840B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9EA-BB7F-4CDA-A4B3-4869CB8B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29A-44F4-4085-BD86-5E056CF0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4EA-96FD-46B1-9FD3-52EE0BF2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21C-43CF-44D4-A580-7185B97C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54C-CDA9-46C0-97FB-0934A78D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427-9CC7-48B6-B198-F33B3D39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77F-7C2A-4946-BF03-8885FD0D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D9B-7502-42E5-B68C-6B4E0ED5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91B-7E74-4688-8907-9BFBB73F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06C-6DDC-4B23-AA80-EB265189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640-1E74-4C85-B891-1C7DE4E2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B716-FAE9-49B8-815A-23BAAC6661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I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5261040"/>
              <a:ext cx="3456000" cy="328680"/>
            </a:xfrm>
            <a:custGeom>
              <a:avLst/>
              <a:gdLst/>
              <a:ahLst/>
              <a:rect l="l" t="t" r="r" b="b"/>
              <a:pathLst>
                <a:path w="2177" h="207">
                  <a:moveTo>
                    <a:pt x="0" y="71"/>
                  </a:moveTo>
                  <a:lnTo>
                    <a:pt x="454" y="207"/>
                  </a:lnTo>
                  <a:lnTo>
                    <a:pt x="2177" y="26"/>
                  </a:lnTo>
                  <a:lnTo>
                    <a:pt x="2038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04360" y="5084640"/>
              <a:ext cx="156960" cy="36036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0" y="0"/>
                  </a:moveTo>
                  <a:cubicBezTo>
                    <a:pt x="41" y="26"/>
                    <a:pt x="83" y="53"/>
                    <a:pt x="91" y="91"/>
                  </a:cubicBezTo>
                  <a:cubicBezTo>
                    <a:pt x="99" y="129"/>
                    <a:pt x="53" y="204"/>
                    <a:pt x="4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92720" y="6381720"/>
              <a:ext cx="3311640" cy="432000"/>
            </a:xfrm>
            <a:custGeom>
              <a:avLst/>
              <a:gdLst/>
              <a:ahLst/>
              <a:rect l="l" t="t" r="r" b="b"/>
              <a:pathLst>
                <a:path w="2086" h="272">
                  <a:moveTo>
                    <a:pt x="0" y="90"/>
                  </a:moveTo>
                  <a:lnTo>
                    <a:pt x="2086" y="0"/>
                  </a:lnTo>
                  <a:lnTo>
                    <a:pt x="2086" y="272"/>
                  </a:lnTo>
                  <a:lnTo>
                    <a:pt x="0" y="1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9920" y="5257800"/>
              <a:ext cx="3102120" cy="241200"/>
            </a:xfrm>
            <a:custGeom>
              <a:avLst/>
              <a:gdLst/>
              <a:ahLst/>
              <a:rect l="l" t="t" r="r" b="b"/>
              <a:pathLst>
                <a:path w="1954" h="152">
                  <a:moveTo>
                    <a:pt x="1830" y="0"/>
                  </a:moveTo>
                  <a:lnTo>
                    <a:pt x="0" y="130"/>
                  </a:lnTo>
                  <a:lnTo>
                    <a:pt x="66" y="152"/>
                  </a:lnTo>
                  <a:lnTo>
                    <a:pt x="1954" y="26"/>
                  </a:lnTo>
                  <a:lnTo>
                    <a:pt x="183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575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5-12-26T16:53:43Z</dcterms:modified>
  <cp:revision>28</cp:revision>
  <dc:subject/>
  <dc:title>Taller de Ciencias en la Música </dc:title>
</cp:coreProperties>
</file>