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7.png" ContentType="image/png"/>
  <Override PartName="/ppt/media/image4.gif" ContentType="image/gif"/>
  <Override PartName="/ppt/media/image1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8.png" ContentType="image/png"/>
  <Override PartName="/ppt/media/image13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8519-B1A6-469F-9B0A-150DC690B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8609-BBC4-48BD-A0A0-33C8192AB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9FBB-6F66-4FB0-BB51-5FCE0A73A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FF53-C341-41A0-B3C6-7598C81AA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6A49-8B12-4CC8-AE85-86906068D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9DF2-EDB8-42C8-9E36-9A159615E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C28C-F1F6-417B-9C47-7320D3E92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E305-2680-4257-A7B5-4508B72DB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9175-E76C-41B7-9621-2C3BB4CA3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B08B-205D-4BF8-B7FC-D207F2FB6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B7AB-FA5A-4495-B36A-3D2BA5179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6DCA-62EA-4A12-B94F-09C40153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D26DD-E6DE-4F4A-8C73-C6933623259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79280" y="1484280"/>
            <a:ext cx="8713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8854920" y="1447920"/>
            <a:ext cx="73080" cy="730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4.gif"/><Relationship Id="rId1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Taller de Música en la Ciencia</a:t>
            </a:r>
            <a:br>
              <a:rPr sz="4000"/>
            </a:b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EL OIDO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563640" y="6093000"/>
            <a:ext cx="536076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nero dos mil sei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187280" y="477720"/>
            <a:ext cx="619308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Oído Medio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cc"/>
                </a:solidFill>
                <a:latin typeface="Arial"/>
              </a:rPr>
              <a:t>http://www.neurophys.wisc.edu/h&amp;b/auditory/animation/animationmain.html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124000" y="2205000"/>
            <a:ext cx="828720" cy="809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042920" y="2205000"/>
            <a:ext cx="828720" cy="809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076720" y="4389480"/>
            <a:ext cx="3743280" cy="22082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900000" y="3933720"/>
            <a:ext cx="316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El estribo amplifica en cerca de 20 veces la presión ejercida sobre el tímpa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Canales Semicircular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3 canales semicirculares y ortogonales, es decir, cada uno orientado en 90° respecto de los otros do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Corresponderían a uno cada ej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Determinan la posición de la cabeza: Equilibrio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284720" y="2492280"/>
            <a:ext cx="46767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La Cochle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La cochlea es una estructura similar a un caracol, que se enrolla aprox. 2.5 veces alrededor del eje central llamado </a:t>
            </a:r>
            <a:r>
              <a:rPr b="0" i="1" lang="es-CL" sz="1800" spc="-1" strike="noStrike">
                <a:solidFill>
                  <a:srgbClr val="ffffcc"/>
                </a:solidFill>
                <a:latin typeface="Arial"/>
              </a:rPr>
              <a:t>modiolus</a:t>
            </a: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 o </a:t>
            </a:r>
            <a:r>
              <a:rPr b="0" i="1" lang="es-CL" sz="1800" spc="-1" strike="noStrike">
                <a:solidFill>
                  <a:srgbClr val="ffffcc"/>
                </a:solidFill>
                <a:latin typeface="Arial"/>
              </a:rPr>
              <a:t>columnella</a:t>
            </a: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. Si se desenrollara, sería un tubo cilíndrico de 30mm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0" y="2028960"/>
            <a:ext cx="4248000" cy="40179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84360" y="3789360"/>
            <a:ext cx="2012760" cy="21877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71640" y="6093000"/>
            <a:ext cx="35290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Barra: 5 m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Flecha amarilla: ventana redonda (flecha azul en fig.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Flecha azul: ventana oval (flecha roja en fig.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La Cochle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4038840" cy="27054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788000" y="3284640"/>
            <a:ext cx="4248000" cy="1199880"/>
          </a:xfrm>
          <a:prstGeom prst="rect">
            <a:avLst/>
          </a:prstGeom>
          <a:ln w="0">
            <a:noFill/>
          </a:ln>
        </p:spPr>
      </p:pic>
      <p:grpSp>
        <p:nvGrpSpPr>
          <p:cNvPr id="63" name=""/>
          <p:cNvGrpSpPr/>
          <p:nvPr/>
        </p:nvGrpSpPr>
        <p:grpSpPr>
          <a:xfrm>
            <a:off x="3564000" y="4653000"/>
            <a:ext cx="5400720" cy="2205000"/>
            <a:chOff x="3564000" y="4653000"/>
            <a:chExt cx="5400720" cy="2205000"/>
          </a:xfrm>
        </p:grpSpPr>
        <p:sp>
          <p:nvSpPr>
            <p:cNvPr id="64" name=""/>
            <p:cNvSpPr/>
            <p:nvPr/>
          </p:nvSpPr>
          <p:spPr>
            <a:xfrm>
              <a:off x="3564000" y="4653000"/>
              <a:ext cx="5400720" cy="2205000"/>
            </a:xfrm>
            <a:prstGeom prst="rect">
              <a:avLst/>
            </a:prstGeom>
            <a:solidFill>
              <a:srgbClr val="fcfc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508720" y="4869000"/>
              <a:ext cx="309564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5508720" y="5445000"/>
              <a:ext cx="3168720" cy="6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292720" y="6381720"/>
              <a:ext cx="3311640" cy="43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435640" y="5013360"/>
              <a:ext cx="73080" cy="288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435640" y="5661000"/>
              <a:ext cx="73080" cy="144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148360" y="5261040"/>
              <a:ext cx="3456000" cy="328680"/>
            </a:xfrm>
            <a:custGeom>
              <a:avLst/>
              <a:gdLst/>
              <a:ahLst/>
              <a:rect l="l" t="t" r="r" b="b"/>
              <a:pathLst>
                <a:path w="2177" h="207">
                  <a:moveTo>
                    <a:pt x="0" y="71"/>
                  </a:moveTo>
                  <a:lnTo>
                    <a:pt x="454" y="207"/>
                  </a:lnTo>
                  <a:lnTo>
                    <a:pt x="2177" y="26"/>
                  </a:lnTo>
                  <a:lnTo>
                    <a:pt x="2038" y="0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604360" y="5084640"/>
              <a:ext cx="156960" cy="360360"/>
            </a:xfrm>
            <a:custGeom>
              <a:avLst/>
              <a:gdLst/>
              <a:ahLst/>
              <a:rect l="l" t="t" r="r" b="b"/>
              <a:pathLst>
                <a:path w="99" h="227">
                  <a:moveTo>
                    <a:pt x="0" y="0"/>
                  </a:moveTo>
                  <a:cubicBezTo>
                    <a:pt x="41" y="26"/>
                    <a:pt x="83" y="53"/>
                    <a:pt x="91" y="91"/>
                  </a:cubicBezTo>
                  <a:cubicBezTo>
                    <a:pt x="99" y="129"/>
                    <a:pt x="53" y="204"/>
                    <a:pt x="46" y="22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003640" y="515772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4932360" y="5734080"/>
              <a:ext cx="503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924360" y="5084640"/>
              <a:ext cx="1008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Ventana Ov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635280" y="5734080"/>
              <a:ext cx="12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Ventana Redond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292720" y="6381720"/>
              <a:ext cx="3311640" cy="432000"/>
            </a:xfrm>
            <a:custGeom>
              <a:avLst/>
              <a:gdLst/>
              <a:ahLst/>
              <a:rect l="l" t="t" r="r" b="b"/>
              <a:pathLst>
                <a:path w="2086" h="272">
                  <a:moveTo>
                    <a:pt x="0" y="90"/>
                  </a:moveTo>
                  <a:lnTo>
                    <a:pt x="2086" y="0"/>
                  </a:lnTo>
                  <a:lnTo>
                    <a:pt x="2086" y="272"/>
                  </a:lnTo>
                  <a:lnTo>
                    <a:pt x="0" y="181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093080" y="6453360"/>
              <a:ext cx="1296720" cy="246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Membrana Basil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479920" y="5257800"/>
              <a:ext cx="3102120" cy="241200"/>
            </a:xfrm>
            <a:custGeom>
              <a:avLst/>
              <a:gdLst/>
              <a:ahLst/>
              <a:rect l="l" t="t" r="r" b="b"/>
              <a:pathLst>
                <a:path w="1954" h="152">
                  <a:moveTo>
                    <a:pt x="1830" y="0"/>
                  </a:moveTo>
                  <a:lnTo>
                    <a:pt x="0" y="130"/>
                  </a:lnTo>
                  <a:lnTo>
                    <a:pt x="66" y="152"/>
                  </a:lnTo>
                  <a:lnTo>
                    <a:pt x="1954" y="26"/>
                  </a:lnTo>
                  <a:lnTo>
                    <a:pt x="1830" y="0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148360" y="4869000"/>
              <a:ext cx="720720" cy="1224000"/>
            </a:xfrm>
            <a:prstGeom prst="ellipse">
              <a:avLst/>
            </a:prstGeom>
            <a:gradFill rotWithShape="0">
              <a:gsLst>
                <a:gs pos="0">
                  <a:srgbClr val="ffffcc">
                    <a:alpha val="19215"/>
                  </a:srgbClr>
                </a:gs>
                <a:gs pos="100000">
                  <a:srgbClr val="75755e">
                    <a:alpha val="25098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Órgano de Corti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5843520" cy="45259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443640" y="2205000"/>
            <a:ext cx="2089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Scanning electron micrograph showing three rows of outer hair cells and some of their supporting cells.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cc"/>
                </a:solidFill>
                <a:latin typeface="Arial"/>
              </a:rPr>
              <a:t>http://www.neurophys.wisc.edu/h&amp;b/auditory/animation/animationmain.html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132000" y="2205000"/>
            <a:ext cx="828720" cy="8096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40360" y="2205000"/>
            <a:ext cx="828360" cy="8096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7380360" y="544500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7380360" y="292428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7380360" y="414972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5148360" y="2205000"/>
            <a:ext cx="819000" cy="8002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7"/>
          <a:stretch/>
        </p:blipFill>
        <p:spPr>
          <a:xfrm>
            <a:off x="6084720" y="2205000"/>
            <a:ext cx="819360" cy="8002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8"/>
          <a:stretch/>
        </p:blipFill>
        <p:spPr>
          <a:xfrm>
            <a:off x="7308720" y="1989000"/>
            <a:ext cx="828720" cy="8096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9"/>
          <a:stretch/>
        </p:blipFill>
        <p:spPr>
          <a:xfrm>
            <a:off x="2124000" y="2205000"/>
            <a:ext cx="828720" cy="809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10"/>
          <a:stretch/>
        </p:blipFill>
        <p:spPr>
          <a:xfrm>
            <a:off x="1042920" y="2205000"/>
            <a:ext cx="828720" cy="8096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1"/>
          <a:stretch/>
        </p:blipFill>
        <p:spPr>
          <a:xfrm>
            <a:off x="468360" y="4724280"/>
            <a:ext cx="285732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6T16:27:35Z</dcterms:created>
  <dc:creator>Mecesup</dc:creator>
  <dc:description/>
  <dc:language>en-US</dc:language>
  <cp:lastModifiedBy>CMM</cp:lastModifiedBy>
  <dcterms:modified xsi:type="dcterms:W3CDTF">2005-12-26T16:53:43Z</dcterms:modified>
  <cp:revision>28</cp:revision>
  <dc:subject/>
  <dc:title>Taller de Ciencias en la Música </dc:title>
</cp:coreProperties>
</file>