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C426-E90A-48B2-A876-27DD037B7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8065-95C9-4435-A0D6-A5AFE81DD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13D8-F39B-48E3-A74D-2670EDD9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2D7-F235-4D26-938D-CF93EB011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CE48-EF0D-41AA-892F-75D14657D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8AA7-0330-4E47-B387-3BF83528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4A6D-5439-4601-8A95-CB74780A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EDED-14A5-4D60-87B1-027C57FC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626F-43FB-4515-A169-99442C84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8AC6-03FD-4D99-B96B-2783FA5F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2CB1-1E63-4873-AFD0-F391696D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12D1-BD47-4A6E-8E98-C1B78ECA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3BD2-9EA5-4D75-94EF-BDA0A0AA720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4.gif"/><Relationship Id="rId1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EL OIDO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e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477720"/>
            <a:ext cx="6193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ído Medio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5076720" y="4389480"/>
            <a:ext cx="3743280" cy="22082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000" y="3933720"/>
            <a:ext cx="316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El estribo amplifica en cerca de 20 veces la presión ejercida sobre el tímpa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Canales Semicircular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3 canales semicirculares y ortogonales, es decir, cada uno orientado en 90° respecto de los otros dos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Corresponderían a uno cada ej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Determinan la posición de la cabeza: Equilibrio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284720" y="2492280"/>
            <a:ext cx="46767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La cochlea es una estructura similar a un caracol, que se enrolla aprox. 2.5 veces alrededor del eje central llamad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modiolus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o </a:t>
            </a:r>
            <a:r>
              <a:rPr b="0" i="1" lang="es-CL" sz="1800" spc="-1" strike="noStrike">
                <a:solidFill>
                  <a:srgbClr val="ffffcc"/>
                </a:solidFill>
                <a:latin typeface="Arial"/>
              </a:rPr>
              <a:t>columnella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. Si se desenrollara, sería un tubo cilíndrico de 30mm.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0" y="2028960"/>
            <a:ext cx="4248000" cy="40179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012760" cy="2187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71640" y="6093000"/>
            <a:ext cx="3529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Barra: 5 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marilla: ventana redonda (flecha azul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Flecha azul: ventana oval (flecha roja en fig.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La Cochle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038840" cy="2705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788000" y="3284640"/>
            <a:ext cx="4248000" cy="1199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3564000" y="4653000"/>
            <a:ext cx="5400720" cy="2205000"/>
            <a:chOff x="3564000" y="4653000"/>
            <a:chExt cx="5400720" cy="2205000"/>
          </a:xfrm>
        </p:grpSpPr>
        <p:sp>
          <p:nvSpPr>
            <p:cNvPr id="64" name=""/>
            <p:cNvSpPr/>
            <p:nvPr/>
          </p:nvSpPr>
          <p:spPr>
            <a:xfrm>
              <a:off x="3564000" y="4653000"/>
              <a:ext cx="5400720" cy="2205000"/>
            </a:xfrm>
            <a:prstGeom prst="rect">
              <a:avLst/>
            </a:prstGeom>
            <a:solidFill>
              <a:srgbClr val="fcf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508720" y="4869000"/>
              <a:ext cx="309564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508720" y="5445000"/>
              <a:ext cx="3168720" cy="64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92720" y="6381720"/>
              <a:ext cx="3311640" cy="43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35640" y="5013360"/>
              <a:ext cx="73080" cy="2887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435640" y="5661000"/>
              <a:ext cx="73080" cy="144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148360" y="5261040"/>
              <a:ext cx="3456000" cy="328680"/>
            </a:xfrm>
            <a:custGeom>
              <a:avLst/>
              <a:gdLst/>
              <a:ahLst/>
              <a:rect l="l" t="t" r="r" b="b"/>
              <a:pathLst>
                <a:path w="2177" h="207">
                  <a:moveTo>
                    <a:pt x="0" y="71"/>
                  </a:moveTo>
                  <a:lnTo>
                    <a:pt x="454" y="207"/>
                  </a:lnTo>
                  <a:lnTo>
                    <a:pt x="2177" y="26"/>
                  </a:lnTo>
                  <a:lnTo>
                    <a:pt x="2038" y="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604360" y="5084640"/>
              <a:ext cx="156960" cy="360360"/>
            </a:xfrm>
            <a:custGeom>
              <a:avLst/>
              <a:gdLst/>
              <a:ahLst/>
              <a:rect l="l" t="t" r="r" b="b"/>
              <a:pathLst>
                <a:path w="99" h="227">
                  <a:moveTo>
                    <a:pt x="0" y="0"/>
                  </a:moveTo>
                  <a:cubicBezTo>
                    <a:pt x="41" y="26"/>
                    <a:pt x="83" y="53"/>
                    <a:pt x="91" y="91"/>
                  </a:cubicBezTo>
                  <a:cubicBezTo>
                    <a:pt x="99" y="129"/>
                    <a:pt x="53" y="204"/>
                    <a:pt x="46" y="2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003640" y="515772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4932360" y="5734080"/>
              <a:ext cx="50328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24360" y="5084640"/>
              <a:ext cx="100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O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35280" y="5734080"/>
              <a:ext cx="12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tana Redond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292720" y="6381720"/>
              <a:ext cx="3311640" cy="432000"/>
            </a:xfrm>
            <a:custGeom>
              <a:avLst/>
              <a:gdLst/>
              <a:ahLst/>
              <a:rect l="l" t="t" r="r" b="b"/>
              <a:pathLst>
                <a:path w="2086" h="272">
                  <a:moveTo>
                    <a:pt x="0" y="90"/>
                  </a:moveTo>
                  <a:lnTo>
                    <a:pt x="2086" y="0"/>
                  </a:lnTo>
                  <a:lnTo>
                    <a:pt x="2086" y="272"/>
                  </a:lnTo>
                  <a:lnTo>
                    <a:pt x="0" y="181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093080" y="6453360"/>
              <a:ext cx="1296720" cy="246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Membrana Basil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79920" y="5257800"/>
              <a:ext cx="3102120" cy="241200"/>
            </a:xfrm>
            <a:custGeom>
              <a:avLst/>
              <a:gdLst/>
              <a:ahLst/>
              <a:rect l="l" t="t" r="r" b="b"/>
              <a:pathLst>
                <a:path w="1954" h="152">
                  <a:moveTo>
                    <a:pt x="1830" y="0"/>
                  </a:moveTo>
                  <a:lnTo>
                    <a:pt x="0" y="130"/>
                  </a:lnTo>
                  <a:lnTo>
                    <a:pt x="66" y="152"/>
                  </a:lnTo>
                  <a:lnTo>
                    <a:pt x="1954" y="26"/>
                  </a:lnTo>
                  <a:lnTo>
                    <a:pt x="1830" y="0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148360" y="4869000"/>
              <a:ext cx="720720" cy="1224000"/>
            </a:xfrm>
            <a:prstGeom prst="ellipse">
              <a:avLst/>
            </a:prstGeom>
            <a:gradFill rotWithShape="0">
              <a:gsLst>
                <a:gs pos="0">
                  <a:srgbClr val="ffffcc">
                    <a:alpha val="19215"/>
                  </a:srgbClr>
                </a:gs>
                <a:gs pos="100000">
                  <a:srgbClr val="75755e">
                    <a:alpha val="25098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Órgano de Corti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843520" cy="4525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443640" y="2205000"/>
            <a:ext cx="2089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Scanning electron micrograph showing three rows of outer hair cells and some of their supporting cells.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cc"/>
                </a:solidFill>
                <a:latin typeface="Arial"/>
              </a:rPr>
              <a:t>http://www.neurophys.wisc.edu/h&amp;b/auditory/animation/animationmain.html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132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40360" y="2205000"/>
            <a:ext cx="828360" cy="809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380360" y="5445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7380360" y="29242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7380360" y="41497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5148360" y="2205000"/>
            <a:ext cx="819000" cy="800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6084720" y="2205000"/>
            <a:ext cx="819360" cy="8002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8"/>
          <a:stretch/>
        </p:blipFill>
        <p:spPr>
          <a:xfrm>
            <a:off x="7308720" y="1989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212400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10"/>
          <a:stretch/>
        </p:blipFill>
        <p:spPr>
          <a:xfrm>
            <a:off x="1042920" y="2205000"/>
            <a:ext cx="828720" cy="80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1"/>
          <a:stretch/>
        </p:blipFill>
        <p:spPr>
          <a:xfrm>
            <a:off x="468360" y="4724280"/>
            <a:ext cx="285732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CMM</cp:lastModifiedBy>
  <dcterms:modified xsi:type="dcterms:W3CDTF">2005-12-26T16:53:43Z</dcterms:modified>
  <cp:revision>28</cp:revision>
  <dc:subject/>
  <dc:title>Taller de Ciencias en la Música </dc:title>
</cp:coreProperties>
</file>