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EE8-04E3-4947-9FB9-E2E37EEE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592-7D67-4FBF-8D79-DBDC82D6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5347-5DE9-4C93-8000-2CCCB14A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953E-9CC7-4897-9D39-5B3BC993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32D8-4D30-455F-BA9D-AE0825AA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231C-C0F0-44D9-BC89-7F8667DC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C628-BEA4-42A6-8E43-B3CE11147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B0EE-F03D-4242-9560-006A105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33B1-2D34-4FDA-95A9-5ACCED84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CE33-819F-4CC5-A499-E3186A200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DE5-7C14-4FE4-AF02-73A46014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ADE4-C589-4CE1-9249-89023DE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46C6-4554-49A4-BDD0-4DBEC8858E2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3:43Z</dcterms:modified>
  <cp:revision>28</cp:revision>
  <dc:subject/>
  <dc:title>Taller de Ciencias en la Música </dc:title>
</cp:coreProperties>
</file>