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4CB-7F12-4807-AA4F-116F7279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847-23B1-4C83-8D4E-A90FF1A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276-09FE-4B12-B799-FFC752DF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734-1B55-4846-8510-8EAFF486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D8F-D51F-4828-AAB8-8BF85F0A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7C4-89F0-43F5-B9EE-4F8F5B3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661-9C44-4D85-A294-03A53A8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224-FABF-4249-A385-E2CFC7A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772-72F8-496C-A3C6-296A1F2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EC9-846B-4B36-96ED-10A96BB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093-C0F1-4F72-84E0-D1DAE7B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217-CDAE-4CB4-9962-1C15EA4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6CB-D574-4B3B-B367-64161057C0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acralización de la Tier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da vez más iban perdiendo su carácter de sagrado las plantas, animales, lugares en el mun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uchos lugares sagrados fueron destruidos o reemplazad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vimenta el camino para la Reforma Protest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forma Protestan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enía por objetiv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r al hombre el derecho divino a dominar a la naturalez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quitar al mismo tiempo el miedo a la condena por exceso de ambi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32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spiró la creación de la Royal Society of Lon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337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pues incluso el Universo se dice fue ensamblado con una cierta armonía de sonidos…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0:51Z</dcterms:modified>
  <cp:revision>25</cp:revision>
  <dc:subject/>
  <dc:title>Taller de Ciencias en la Música </dc:title>
</cp:coreProperties>
</file>