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7B3-F582-49BB-81D6-FD9DC751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0C1-C265-4298-B13E-3B263721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2D1-4776-42FC-9CDC-EBCB01B1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DC0-2F4F-4F84-BD2B-F5CD240B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F0F-808F-4929-A74A-1A06BEA6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AE0-53CE-4408-8DF2-0F4135BD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D89-1E12-4942-A556-C246D378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815-08B8-464A-87A6-257C98A7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D95-CBE0-433A-8237-E010C694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99A-1F99-4CFC-940A-9EAA8F1D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29C-2D24-4CBF-B60C-E88EE1A0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C73-89A0-4667-B078-93505964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5146-B489-4AF4-B5B0-FCC907E17F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C:\Documents and Settings\Darren\Desktop\Escuela de Verano\Escuela de Verano\Fotos para Clases\kepler earth-short.mp3" TargetMode="External"/><Relationship Id="rId3" Type="http://schemas.openxmlformats.org/officeDocument/2006/relationships/hyperlink" Target="C:\Documents and Settings\Darren\Desktop\Escuela de Verano\Escuela de Verano\Fotos para Clases\kepler earth venus mars.mid" TargetMode="External"/><Relationship Id="rId4" Type="http://schemas.openxmlformats.org/officeDocument/2006/relationships/hyperlink" Target="C:\Documents and Settings\Darren\Desktop\Escuela de Verano\Escuela de Verano\Fotos para Clases\kepler-scale.mp3" TargetMode="External"/><Relationship Id="rId5" Type="http://schemas.openxmlformats.org/officeDocument/2006/relationships/hyperlink" Target="C:\Documents and Settings\Darren\Desktop\Escuela de Verano\Escuela de Verano\Fotos para Clases\kepler-stereo All six.mp3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628640"/>
            <a:ext cx="70567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Muchos pensadores antes que él buscaron definir la esencia básica del univers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Tales de Mileto : agua, dadora de vi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andro: consideraba que debía ser algo intangible y sin límite: algo sin nomb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enes: concluyó que era el A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Heraclito: el agente transformador Fuego (ojo de nuev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Pitágora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Los Egipcios ya habían encontrado belleza en las formulaciones matemáticas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Triángulo Dorado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Relaciones matemáticas en la gran Pirámid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110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1601640"/>
            <a:ext cx="7704000" cy="5256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354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n Egipto, Tales aprendió el arte de estimar la altura de una pirámide con solo observar la sombra proyectada…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1000 AC, un sacerdote Egipcio llamado Ahmes había producido el papiro de RHIND: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 “</a:t>
            </a: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Direcciones para Conocer Toda Cosa Oculta y Oscura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471840" cy="49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2060640"/>
            <a:ext cx="453528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=1 + 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8 = 1 + 2 + 4 + 7 +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orema de Pitág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latón y la Ciu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Número Ideal de ciudadanos: 50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3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4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5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7 = 5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MÚSICA, expresión del orden matemático del Unive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2060640"/>
            <a:ext cx="37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itágoras investigó la relación numérica entre las longitudes de cuerdas, el peso (o tensión) a la que están sometidas, y el tono que producen al hacerlas vib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307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sacralización de la Tierr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ada vez más iban perdiendo su carácter de sagrado las plantas, animales, lugares en el mund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uchos lugares sagrados fueron destruidos o reemplazado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vimenta el camino para la Reforma Protesta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forma Protestan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otestantes buscaban purificar la religió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obedece inmutablemente a las leyes de Di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epara el camino para la visión mecanicista del mundo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como la  gran máquin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de Johannes Kepler (157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202104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656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numérica entre los semiejes de las elipses descritas por los planet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úsica de las Esfera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5003640" cy="374508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/>
          </p:cNvPr>
          <p:cNvSpPr/>
          <p:nvPr/>
        </p:nvSpPr>
        <p:spPr>
          <a:xfrm>
            <a:off x="248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3"/>
          </p:cNvPr>
          <p:cNvSpPr/>
          <p:nvPr/>
        </p:nvSpPr>
        <p:spPr>
          <a:xfrm>
            <a:off x="3708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59482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94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Venus 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4"/>
          </p:cNvPr>
          <p:cNvSpPr/>
          <p:nvPr/>
        </p:nvSpPr>
        <p:spPr>
          <a:xfrm>
            <a:off x="543564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528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"/>
          </p:cNvPr>
          <p:cNvSpPr/>
          <p:nvPr/>
        </p:nvSpPr>
        <p:spPr>
          <a:xfrm>
            <a:off x="716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0400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Plan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enía por objetivo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ar al hombre el derecho divino a dominar a la naturalez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quitar al mismo tiempo el miedo a la condena por exceso de ambi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8321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úsica y el Hombre y la Cienci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Hizo parecer el dominio tecnológico de la naturaleza como la recuperación de poder dado al Hombre por Dio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iferenció el conocimiento “natural” del mundo del conocimiento “moral”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siderado por muchos como el fundador de la Ciencia moder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Inspiró la creación de la Royal Society of Lond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6337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ne Descar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mero en articular la nueva visón mecanicista del univers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“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odo el universo funciona en forma mecánica de acuerdo a necesidades matemática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UNIVERSO MECANIC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l Universo mecánico abrió puertas a un Dios mecánico. Esto influye fuertemente en todo ámbito de cosas, incluida la Mús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ticularmente, la AFIN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rofesor de Matemáticas en Trinity, Cambridg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Incansable experimentador, se encierra durante horas en su estudio a investigar distintos fenómenos de la naturalez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Matemáticas (disputa con Liebnitz el título de creador del Cálculo diferencial), mecánica, química, alquimia, se pincha la córnea con agujas para estudiar la deformación de la imagen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u mayor fascinación en algún momento fue la descomposición de la luz blanca en sus distintos componentes al pasar por un prisma (efecto de refracción de la luz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sputado por los líderes religiosos de la época, por considerar la luz blanca, “el más limpio vapor de iluminación, y símbolo de la pureza del Paraíso” como una amalgama de colores del arcoiri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ewton notó que la separación que existe entre los distintos colores que componen la luz siguen una secuencia similar a la tradicional escala mayor en la músic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Larga – Larga – Corta – Larga - Larga - Larga – Cort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(Tono – Tono – SemiT – Tono –Tono –Tono –SemiTono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lanteaba nuevamente una antigua pregunt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496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abía creado la Naturaleza una ley para la Melodía y la Armonía similares a la de la mezcla de colores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s universidades medievales, trazando el asunto hasta los antiguos griegos, afirmaban que así era…enseñaban Música como una arquitectura invisible, un espejo de los ciel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in música, no puede haber conocimiento perfecto”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scribiría el enciclopedista medieval Isidoro de Sevill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, “…pues incluso el Universo se dice fue ensamblado con una cierta armonía de sonidos…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lación Hombre-Mús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sibles primeras manifestaciones musicale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ocimiento limitado, posterior a 200 D.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Uso de la música com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nsaje so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igio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1. Madre Naturalez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ación del Hombre antiguo con los fenómenos de la naturalez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entimientos ambivalentes: bella, creativa, fértil, generosa y por otro lado, salvaje, destructiva, caprichos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uropa, por ejemplo, se han encontrado indicios de vida agraria establecida desde 7000 A.C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igiones juegan rol importante, donde se veneran una serie de dioses o espíritus para cada manifestación natural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Visión primariamente femenina de las divinidades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2. Inicios de la Cienc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No es Ciencias como se entiende ho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“Ciencia” (como observación sistemática de fenómenos naturales) y la Tecnología ayudan a utilizar en su provecho (o a defenderse y prepararse) las fuerzas natural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Hacia el 3500 A.C. las tribus nómades pastorales (cazadores) (y por tanto guerreras) invaden. Panteón previamente femenino y matriarcal se convierte en Patriarca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ito Reiterativo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vinidad Matriarcal es destronada por dioses masculino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lknam (kloketé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India (invasiones Arya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Grecia (Apollo usurpa el altar de Gai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Babylonia (Marduk que mata a Tiama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201636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24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0600" cy="6945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709880" cy="6970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ecia, 500 A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Líder espiritual,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Brujo matemá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Mís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Caminaba por Crotón en túnica blanca, corona de oro, atrayendo seguidores con la promesa de alcanzar “la serenidad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u culto, y status, se convirtieron en fuerza dominante en la región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91080" y="1600200"/>
            <a:ext cx="38750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Al poco andar, se le atribuían poderes proféticos, curaciones milagrosas, viajar más allá de los confines del cuerpo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Evidentemente, fue corrido de la ciudad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653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5-12-26T16:50:51Z</dcterms:modified>
  <cp:revision>25</cp:revision>
  <dc:subject/>
  <dc:title>Taller de Ciencias en la Música </dc:title>
</cp:coreProperties>
</file>