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90A-0C68-47DE-AB7B-E1C1A1F4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500-ABB9-4E5F-AC0A-9322096A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A23-3D6C-4220-8594-4EB4CACF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305-939E-42C2-84A2-D7F716C0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8FB-8C7B-4A83-B361-443FDCAF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85C-0126-4CEA-BD64-DD399998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F39-1188-4E16-99C2-436C348A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64F-E847-4F63-BE2A-8152A12C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643-AD83-4056-8CDD-A76B17F9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50D-F75E-46D6-8F0A-303F3A0B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DFB-1298-4A1E-B2F7-882631B8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620-5BA3-4F08-8634-CD779B68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96D6-BD4A-40F6-9AF7-8B6F45D210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628640"/>
            <a:ext cx="7056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Muchos pensadores antes que él buscaron definir la esencia básica del univers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Tales de Mileto : agua, dadora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andro: consideraba que debía ser algo intangible y sin límite: algo sin no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enes: concluyó que era el 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Heraclito: el agente transformador Fuego (ojo de nuev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Pitágora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Los Egipcios ya habían encontrado belleza en las formulaciones matemática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Triángulo Dor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Relaciones matemáticas en la gran Pirámid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10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601640"/>
            <a:ext cx="7704000" cy="5256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54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n Egipto, Tales aprendió el arte de estimar la altura de una pirámide con solo observar la sombra proyectada…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1000 AC, un sacerdote Egipcio llamado Ahmes había producido el papiro de RHIND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Direcciones para Conocer Toda Cosa Oculta y Oscura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4718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2060640"/>
            <a:ext cx="45352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=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atón y la Ciu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Número Ideal de ciudadanos: 5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7 = 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expresión del orden matemático del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0606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itágoras investigó la relación numérica entre las longitudes de cuerdas, el peso (o tensión) a la que están sometidas, y el tono que producen al hacerlas vi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3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acralización de la Tier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da vez más iban perdiendo su carácter de sagrado las plantas, animales, lugares en el mun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uchos lugares sagrados fueron destruidos o reemplazad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vimenta el camino para la Reforma Protesta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forma Protestan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enía por objetiv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r al hombre el derecho divino a dominar a la naturalez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quitar al mismo tiempo el miedo a la condena por exceso de ambi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321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úsica y el Hombre y la Cienci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Inspiró la creación de la Royal Society of Lond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6337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pues incluso el Universo se dice fue ensamblado con una cierta armonía de sonidos…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lación Hombre-Mús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bles primeras manifestaciones musicale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ocimiento limitado, posterior a 200 D.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so de la música com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nsaje so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1. Madre Naturale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ación del Hombre antiguo con los fenómenos de la naturalez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entimientos ambivalentes: bella, creativa, fértil, generosa y por otro lado, salvaje, destructiva, caprichos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uropa, por ejemplo, se han encontrado indicios de vida agraria establecida desde 7000 A.C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igiones juegan rol importante, donde se veneran una serie de dioses o espíritus para cada manifestación natura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Visión primariamente femenina de las divinidades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2. Inicios de la Cienc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 es Ciencias como se entiende ho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“Ciencia” (como observación sistemática de fenómenos naturales) y la Tecnología ayudan a utilizar en su provecho (o a defenderse y prepararse) las fuerzas natura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acia el 3500 A.C. las tribus nómades pastorales (cazadores) (y por tanto guerreras) invaden. Panteón previamente femenino y matriarcal se convierte en Patriarc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ito Reiterativ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vinidad Matriarcal es destronada por dioses masculin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lknam (kloketé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dia (invasiones Ary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recia (Apollo usurpa el altar de Gai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Babylonia (Marduk que mata a Tiama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0600" cy="694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709880" cy="697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ecia, 500 A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Líder espiritual,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Brujo matemá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Mís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Caminaba por Crotón en túnica blanca, corona de oro, atrayendo seguidores con la promesa de alcanzar “la serenidad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u culto, y status, se convirtieron en fuerza dominante en la región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91080" y="1600200"/>
            <a:ext cx="38750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Al poco andar, se le atribuían poderes proféticos, curaciones milagrosas, viajar más allá de los confines del cuerpo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Evidentemente, fue corrido de la ciudad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653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0:51Z</dcterms:modified>
  <cp:revision>25</cp:revision>
  <dc:subject/>
  <dc:title>Taller de Ciencias en la Música </dc:title>
</cp:coreProperties>
</file>