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2DFA-4249-4DB7-AB5B-3E64474C1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B4B2-C402-4865-94D7-3F139360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5874-51F3-4154-8BB7-BC818826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D1D3-5D2C-4713-8563-33BD26BA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5B4E-C62E-47E8-B4FF-2B687109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2E8A-DBEF-416C-941D-0BD0C27D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03D4-66FD-4F7C-B421-B1F9BEB0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067F-2B2B-4002-8B1E-EBDF0AAD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802C-CAA4-4281-AC8E-815FBB74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961D-BE86-4CEF-A929-D6F10B3E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421C-E89D-400F-B7C9-0709B270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D052-93E2-4826-90EE-CABB76CC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AD2A-6FD6-45D0-8A02-94FA6521B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2205000"/>
            <a:ext cx="6192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e n º 4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ción a Mat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4076280"/>
            <a:ext cx="727236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tiv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nocer 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571680" cy="857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1620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620640"/>
            <a:ext cx="4319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ULTAD DE CIENCIAS FISICAS Y MATEMA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ELA DE VERANO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Arial"/>
                <a:ea typeface="Arial"/>
              </a:rPr>
              <a:t>¿Qué es Matla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Matlab es un software de calculo numérico utilizado en ingenierías y ciencias puras para análisis de datos, simulaciones o resolución de ecuaciones complej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Arial"/>
              </a:rPr>
              <a:t>¿Cómo trabajar en Matlab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lab tiene una linea de comando para calculos “en vivo” y script’s (llamados M-files) para escribir programas (de una o más lineas de codig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ventaja de una M-file es que permite guardar los programas hechos y reutilizarlos cuantas veces quie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9999"/>
                </a:solidFill>
                <a:latin typeface="Arial"/>
              </a:rPr>
              <a:t>Características de Mat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lab trabaja con matr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ctores son matrices de 1xn o nx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9999"/>
                </a:solidFill>
                <a:latin typeface="Arial"/>
              </a:rPr>
              <a:t>Opera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ma, resta, multiplicacion, division y potencia son respectivamente: +,-,*,/ y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operar elemento a elemento en una matriz se antepone un “.”, punto, a la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lab además cuenta con funciones matemáticas predefinidas, como seno, coseno, tangente,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9999"/>
                </a:solidFill>
                <a:latin typeface="Arial"/>
              </a:rPr>
              <a:t>Datos Útiles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que matlab no nos muestre los resultados, finalizamos la linea de codigo con “;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hacer un ciclo en matlab se ocupa la siguiente sintax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for</a:t>
            </a:r>
            <a:r>
              <a:rPr b="0" lang="es-CL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 = valor inicial : paso : valor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presión(i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Enunci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270792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ee un vector que tenga los valores de la integral de seno de 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rafi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9999"/>
                </a:solidFill>
                <a:latin typeface="Arial"/>
              </a:rPr>
              <a:t>Tus fun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crear tus propias funciones debes abrir un M-file nuevo con el nombre de tu funcion y utilizar la siguiente sint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functio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valor=mi_funcion(x, y, etc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presion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alor=f(x, y, et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3300"/>
                </a:solidFill>
                <a:latin typeface="Arial"/>
              </a:rPr>
              <a:t>Enunciado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ee la función plotsin(x) que grafique seno entre 0 y 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01:06:42Z</dcterms:created>
  <dc:creator>Maria Fernanda Duran Sierra</dc:creator>
  <dc:description/>
  <dc:language>en-US</dc:language>
  <cp:lastModifiedBy>Soka</cp:lastModifiedBy>
  <dcterms:modified xsi:type="dcterms:W3CDTF">2006-01-14T23:51:17Z</dcterms:modified>
  <cp:revision>7</cp:revision>
  <dc:subject/>
  <dc:title>Clase nº1  Complemento Numérico</dc:title>
</cp:coreProperties>
</file>