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1B8-A122-4824-B8AC-A193BA4F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F23D-D751-4138-A70F-FC191F24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0E3-E28E-4DB3-94F3-FE107EC5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462-9EE5-44D0-A226-39702B5AD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3A9-D24D-47C5-B8BA-61834024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897-8D24-4A12-99B8-8A123B76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2A1-BF15-4D57-9543-E1932A26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F17-3F9B-45C4-BC97-6C7505D1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245-F3EE-4B74-90A7-1E97EED5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91F-F080-45DE-BCE1-9BAEB6D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2196-B458-444F-BEDB-A969431F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BF2-7DC2-40EB-912C-AAB5F1F3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E20C-9F9E-4A51-94CC-C8CFBD33F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e n º 4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ción a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nocer Mat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Arial"/>
                <a:ea typeface="Arial"/>
              </a:rPr>
              <a:t>¿Qué es Matla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Matlab es un software de calculo numérico utilizado en ingenierías y ciencias puras para análisis de datos, simulaciones o resolución de ecuaciones complej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Arial"/>
              </a:rPr>
              <a:t>¿Cómo trabajar en Matlab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iene una linea de comando para calculos “en vivo” y script’s (llamados M-files) para escribir programas (de una o más lineas de codi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ntaja de una M-file es que permite guardar los programas hechos y reutilizarlos cuantas veces quie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Características de Mat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trabaja con matr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ectores son matrices de 1xn o nx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Opera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uma, resta, multiplicacion, division y potencia son respectivamente: +,-,*,/ y ^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operar elemento a elemento en una matriz se antepone un “.”, punto, a la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lab además cuenta con funciones matemáticas predefinidas, como seno, coseno, tangente,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Datos Útiles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que matlab no nos muestre los resultados, finalizamos la linea de codigo con “;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hacer un ciclo en matlab se ocupa la siguiente sint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or</a:t>
            </a:r>
            <a:r>
              <a:rPr b="0" lang="es-CL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 = valor inicial : paso : valor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ón(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270792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e un vector que tenga los valores de la integral de seno de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9999"/>
                </a:solidFill>
                <a:latin typeface="Arial"/>
              </a:rPr>
              <a:t>Tus fun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crear tus propias funciones debes abrir un M-file nuevo con el nombre de tu funcion y utilizar la siguiente sintax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functio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valor=mi_funcion(x, y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presion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lor=f(x, y, et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Arial"/>
              </a:rPr>
              <a:t>Enunciad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e la función plotsin(x) que grafique seno entre 0 y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Soka</cp:lastModifiedBy>
  <dcterms:modified xsi:type="dcterms:W3CDTF">2006-01-14T23:51:17Z</dcterms:modified>
  <cp:revision>7</cp:revision>
  <dc:subject/>
  <dc:title>Clase nº1  Complemento Numérico</dc:title>
</cp:coreProperties>
</file>