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370-3096-4265-AD74-137E6605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1AF-BC70-416D-B78D-F18D19A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65E-FC11-487F-8BC6-CBF26377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7DE-2387-4853-BED8-5D62FBF9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6A6-DF6D-4A0A-86C4-3C9946F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F26-BEF3-48C5-AADB-44FABC2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A1E-6B64-46E9-BA51-C470CCB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051-78A7-4507-87F5-352F02B0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A6B-9DBE-4011-837C-214F399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4F3-0B26-4DF0-940C-37F5CC7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83-C66A-485A-960E-E94607F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715-F198-48F3-9E56-A74519A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290-2E9D-4028-B37B-63B2FC87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a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on, divisio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un vector que tenga los valores de la integral de seno de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o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Enunciad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la función plotsin(x) que grafique seno entre 0 y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Soka</cp:lastModifiedBy>
  <dcterms:modified xsi:type="dcterms:W3CDTF">2006-01-14T23:51:17Z</dcterms:modified>
  <cp:revision>7</cp:revision>
  <dc:subject/>
  <dc:title>Clase nº1  Complemento Numérico</dc:title>
</cp:coreProperties>
</file>