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69B-9904-4AA7-A5B9-F9325A11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677-5451-4C3A-BD84-A8888660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0FF-0CE9-4472-BA4C-D2214F80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195-E553-4794-87E4-64DFDCCE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6A9-2F11-479E-A06F-B0F3D064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645-1B23-46A2-86AE-9A9F9963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C39-9051-481A-928D-A7AC6FFC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FEC-3826-40CE-B82E-5AD5AE86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0C2-BB0A-46AF-9022-E774AA59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956-CAA6-410A-BBAB-8D5F8014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DEA-F343-47FD-A982-30D0A53D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282-CDB5-4415-9F42-3407272C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10A-E3DD-4DD8-88AE-D51D6B6A4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a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on, divisio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e un vector que tenga los valores de la integral de seno de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o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Enunciad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e la función plotsin(x) que grafique seno entre 0 y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Soka</cp:lastModifiedBy>
  <dcterms:modified xsi:type="dcterms:W3CDTF">2006-01-14T23:51:17Z</dcterms:modified>
  <cp:revision>7</cp:revision>
  <dc:subject/>
  <dc:title>Clase nº1  Complemento Numérico</dc:title>
</cp:coreProperties>
</file>