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3E19-6183-44B9-9D5C-36B38AA2653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actividad matemática aparece mucho antes que aparezcan las matemáticas mis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antropólogos señalan que los signos escritos para designar los números es uno de los 72 elementos que aparecen en cada cultura antigua a cuyos restos se ha tenido acceso. Esto, en todo caso ocurre después de la invención de la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animales, como el cuervo, pueden distinguir cantidades como 1, 2 , 3 o 4 granos. De la misma manera el hombre debe tener una habilidad innatapara distinguir entre muchos, pocos, pequeño y gr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a misma forma puede suceder con la geometría. La visión binocular requiere una cruda noción de geomet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rededor del año 8000 antes de Cristo, termina el Paleolítico (Piedra antigua, en griego) y aparece el homo sapiens con un cerebro más grande. Durante esta nueva etapa (Neolítico, la nueva piedra) dos cambios afectan en forma notable el desarrollo del hombre. La agricultura divide las tareas de los hombres y las mujeres en la caza y la agricultura y una mutación espontánea hace aparecer el trigo. El hombre se torna sedentario, primero en estaciones del año y después en forma más estable en v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assics of Mathematics, Donald Calinger, Ed., Prnetice Hall, 199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universo de Parménides, por primera vez el sol y la luna se movían en círculos concéntricos. El universo se dividía en regiones: el Olympus, el éter y las estrellas. El sol, la luna y  venus flotaban en el éter pero describían caminos circulares prop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ménides vivió en el sur de Italia, en Elea. Fue uno de las primeros en asegurar que la tierra era redonda. El fue junto a Pitágoras el primero en mantener esta idea y lo hizo antes que Platón y Aristótel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os vino de Elea a estudiar con Zeno que era el sucesor de Parménides en Mi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pus, fue discípulo de Demócrito.  Creadores, con Demócrito de la teoría que la materia estaba compuesta por átomos. Ellos enseñaban que la materia estaba compuesta por un número infinito de pequeños, finitos e indivisibles cuerpos: áto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Leucippus: Se pensaba que la tierra era un hemisferio, mientras que el centro estaba lleno de aire y todo estaba encerrado en la esfera cristalina incluyendo la luna.  Sobre ésta se situaban otras esferas para los planetas, el sol y probablemente las estrellas, más afuera de las anteri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ócrito: La tierra es un disco plano que divide la esfera que lo contiene en dos partes iguales.  Esta esfera yace inmersa en otra que contiene a la luna y  y la estrella de la mañana (Venus) , seguido de una esfera que contiene al sol, otra para los planetas, y finalmente las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atomista Demócrito, un ciudadano de mucha riqueza de Abdera en Tracia, hizo un descubrimiento importante en geometría de sólidos que fue probado en foma rigurosa más tarde por Eudoxus, un miembro del círculo de Plat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razón entre el volumen de una pirámide (o cono) y un prisma (o cilindro) de la misma base y altura es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mócrito determinó los volúmenes de las pirámides y prismas considerándolos como sólidos compuestos por secciones. Los sólidos fueron descompuestos en tajadas (discos o cuadrados de acuerdo al caso) paralelos a las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desarrollo de la segunda etapa del Neolítico, alrededor del año 3500 antes de Cristo, surgen las civilizaciones de Egipto y la antigua Mesopotamia (Entre ríos, en griego), establecidas en los alrededores de un río. Con la invención de la escritura comenzaron a emerger religiones relativamente complejas y también las instituciones sociopolíticas, el dominio de ciertos metales, cobre y bronce. El surgimiento de las villas hizo pensar a Aristóteles que el hombre es un animal polí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ciudad surge entonces el escribano del palacio y el de la escuela. Ambos gozaban de prestigio y entre sus tareas estaba el mantener un registro cuidadoso de los movimientos de los cuerpos astrales con el propósito de elaborar calendarios. Estos calendarios también eran importantes en la religión que plasmaba sus dioses en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a Sumerios dominaron el sur de Mesopotamia alrededor del año 2500 Antes de Cristo. Los Akadios se ubicaron en el norte y en la ciudad de Ur en los años 2150 antes de Cri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spués del año 2000 los Amoritas, un pueblo de origen semita comenzó a conquistar la región y en alrededor de cien años la dominó y estableció su capital Babilonia.  Existen dos épocas, desde 1800 a 1600 a. de c. ( Hammurapi ), la vieja Babilonia y  300 a. De c.( Seleucid ). Existen registros fidedignos ya sea paleográficos y linguísticos de cada una de las épo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n, además, 500.000 tabletas y ciertamente existen muchas otras más sepultadas en las ruinas de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os archivos de la ciudad de Nippur, hoy dispersos en al menos tres museos, existen tablas que son claramente textos escolares. También existen tablas comerciales con pesos y medidas de utilidad en la vida di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sexagesimal deberían existir 59 tabletas de multip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babilonios conocían el valor de la raíz cuadrada de 2 =1;24,5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acuerdo a “”Classics of  Mathematics” ed. R. Cal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el año 2350 los sumerios comenzaron a agrupar números. Esto es un progreso tremendo con respecto a simplemente contar. Parece tan importante como la invención de la escritura. Tenían notación en base 60 y en base 10. La base 60 terminó imponiénd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i los Sumerios ni los egipcios conocieron el c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mayas lo utilizaron en sus cálcu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do de 1,24,51,10 en sexages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Times New Roman"/>
              </a:rPr>
              <a:t>Lo más importante en esta tableta es que los sumerios sabían que estaban calculando la raíz del número 2. La precisión con la cual está escrito no puede ser onbbtenida mediante métodos geométricos, como medició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Babilonios mantenían un registros del Sol que cubrían largos intervalos. Esto era necesario para poder predecir eclipses con un exactitud raz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todo el mundo era capaz de realizar las medidas necesarias para alimentar estos registros. Los sacerdotes eran los astrónomos de la antigüedad. Ellos utilizaban su conocimiento para obtener poder sobre la gente. La adoración a Dios se confundió con la astronom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La astronomía comenzó a identificarse con los deseos de lo di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su vez los dioses se identificaron con objetos celestiales: Marduk el dios de la ciudad de Babilonia    era el Dios Júpiter; Ninurta. La diosa de la guerra en el planeta Satu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lo anterior parece razonable pensar que muchos templos y monumentos eran también los observatorios  utilizados por los sacerdotes. La torre de babel era un ejemplo de este tipo de estructur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parece el ojo solar de Egipto (a la izquierda y sobre la niña) tomado de un papiro de un funeral (1000 a de 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de los egipcios era una caja rectangular; la tierra era el piso, el cielo era una vaca cuyas extremidades descansaban en la cuatros esquinas de la tierra, o una mujer que se mantenía sobre la tierra apoyada en sus brazos y piernas. Más tarde se convirtió en una cúpula de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rededor de las paredes internas de la caja , en una especie de galería elevada fluía un río donde circulaban el dios sol y la diosa luna entrando y desapareciendo a través de diferentes portales. Las estrellas eran lámparas sostenidas desde la cúpula o transportadas por otros dioses. Los planetas viajaban con sus botes a lo largo de la Vía Láctea que era el gemelo celestial del Nilo. Periódicamente la diosa Luna era atacada y devorada por un feroz cisne macho. De este evento volvía a renacer. A veces el cisne la devoraba totalmente, causando una eclipse lunar. A veces una serpiente devoraba el Sol causando una eclipse solar.   Estas tragedias eran como un sueño, en parte reales en parte no.(Koest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ugar de Nacimiento de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una de las batallas ocurridas por la guerra entre  los lidianos (asia menor) y los Persas, en el año 585ac, el cielo se obscureció repentinamente. Este eclipse solar había sido predicha por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no estaba satisfecho con  la predicción, deseaba saber el origen de este fenóme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hales marca la diferencia con sus antecesores al buscar explicaciones de los fenómenos observ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e marca un paso fundamental, al dejar atrás los mitos, dioses como explicación del la periodicidad del día y la noche, la sucesión de las estaciones...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Thales de Mileto: Un disco plano flotando sobre el agu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14FC1-D98F-4704-87BF-762E2401E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D099-023A-4077-B399-465C2A6A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491E0-7B5D-4B17-A637-113202DCE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EAE54-42CA-4BB2-93FD-3ECB90970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8CB1F-B9BD-4CF4-98D8-921FB975A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4F61C-46B7-4E62-ACEF-F6A9EEDB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75AD-23E9-4FE6-AA0F-48F60F350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AA3EA-A656-4D15-AD24-708A3BB4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298B7-3057-4A62-99BF-2FCD9CC32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86D3-5964-4824-B97E-B73BB665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D632B-8DF7-429E-A63E-685993F8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F3EA-DDAA-4582-9D29-F02D8C476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9C2B-429F-4891-AE07-A8926346158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1371600"/>
            <a:ext cx="78483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ANAXIMAND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611 - 546 A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UNIVERSO ES INFINITO EN  EXTENSIÓN Y DU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SOL ES UNA APERTURA EN EL BORDE DE LA ESFERA QUE LO CONTIENE (NO ES  ALGO RE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94" name=""/>
          <p:cNvSpPr/>
          <p:nvPr/>
        </p:nvSpPr>
        <p:spPr>
          <a:xfrm>
            <a:off x="5069160" y="7621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Anaximander</a:t>
            </a:r>
            <a:endParaRPr b="0" lang="en-US" sz="2400" spc="-1" strike="noStrike">
              <a:solidFill>
                <a:srgbClr val="000000"/>
              </a:solidFill>
              <a:latin typeface="Times New Roman"/>
            </a:endParaRPr>
          </a:p>
        </p:txBody>
      </p:sp>
      <p:sp>
        <p:nvSpPr>
          <p:cNvPr id="95" name=""/>
          <p:cNvSpPr/>
          <p:nvPr/>
        </p:nvSpPr>
        <p:spPr>
          <a:xfrm>
            <a:off x="1008360" y="601992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rigen de los cascarones celestiales</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1905120" y="1371600"/>
            <a:ext cx="5867280" cy="42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055480" y="7621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Parmenides</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143000" y="1143000"/>
            <a:ext cx="5943600" cy="4875120"/>
          </a:xfrm>
          <a:prstGeom prst="rect">
            <a:avLst/>
          </a:prstGeom>
          <a:ln w="0">
            <a:noFill/>
          </a:ln>
        </p:spPr>
      </p:pic>
      <p:sp>
        <p:nvSpPr>
          <p:cNvPr id="9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5224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Leucippu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066680" y="1295280"/>
            <a:ext cx="5867640" cy="4934160"/>
          </a:xfrm>
          <a:prstGeom prst="rect">
            <a:avLst/>
          </a:prstGeom>
          <a:ln w="0">
            <a:noFill/>
          </a:ln>
        </p:spPr>
      </p:pic>
      <p:sp>
        <p:nvSpPr>
          <p:cNvPr id="10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990720" y="3048120"/>
            <a:ext cx="2295360" cy="3105000"/>
          </a:xfrm>
          <a:prstGeom prst="rect">
            <a:avLst/>
          </a:prstGeom>
          <a:ln w="0">
            <a:noFill/>
          </a:ln>
        </p:spPr>
      </p:pic>
      <p:pic>
        <p:nvPicPr>
          <p:cNvPr id="105" name="" descr=""/>
          <p:cNvPicPr/>
          <p:nvPr/>
        </p:nvPicPr>
        <p:blipFill>
          <a:blip r:embed="rId2"/>
          <a:stretch/>
        </p:blipFill>
        <p:spPr>
          <a:xfrm>
            <a:off x="3989520" y="1143000"/>
            <a:ext cx="5154480" cy="4308480"/>
          </a:xfrm>
          <a:prstGeom prst="rect">
            <a:avLst/>
          </a:prstGeom>
          <a:ln w="0">
            <a:noFill/>
          </a:ln>
        </p:spPr>
      </p:pic>
      <p:sp>
        <p:nvSpPr>
          <p:cNvPr id="10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143000" y="1219320"/>
            <a:ext cx="5334120" cy="5287680"/>
          </a:xfrm>
          <a:prstGeom prst="rect">
            <a:avLst/>
          </a:prstGeom>
          <a:ln w="0">
            <a:noFill/>
          </a:ln>
        </p:spPr>
      </p:pic>
      <p:sp>
        <p:nvSpPr>
          <p:cNvPr id="10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7400" y="1295280"/>
            <a:ext cx="5334120" cy="4637160"/>
          </a:xfrm>
          <a:prstGeom prst="rect">
            <a:avLst/>
          </a:prstGeom>
          <a:ln w="0">
            <a:noFill/>
          </a:ln>
        </p:spPr>
      </p:pic>
      <p:sp>
        <p:nvSpPr>
          <p:cNvPr id="5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24040" y="1143000"/>
            <a:ext cx="3271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El Teorema de Pitágo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Se incluye el signifi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de las cuñas.</a:t>
            </a:r>
            <a:endParaRPr b="0" lang="en-US" sz="2000" spc="-1" strike="noStrike">
              <a:solidFill>
                <a:srgbClr val="000000"/>
              </a:solidFill>
              <a:latin typeface="Times New Roman"/>
            </a:endParaRPr>
          </a:p>
        </p:txBody>
      </p:sp>
      <p:pic>
        <p:nvPicPr>
          <p:cNvPr id="56" name="" descr=""/>
          <p:cNvPicPr/>
          <p:nvPr/>
        </p:nvPicPr>
        <p:blipFill>
          <a:blip r:embed="rId1"/>
          <a:stretch/>
        </p:blipFill>
        <p:spPr>
          <a:xfrm>
            <a:off x="990720" y="1981080"/>
            <a:ext cx="4292640" cy="4000680"/>
          </a:xfrm>
          <a:prstGeom prst="rect">
            <a:avLst/>
          </a:prstGeom>
          <a:ln w="0">
            <a:noFill/>
          </a:ln>
        </p:spPr>
      </p:pic>
      <p:pic>
        <p:nvPicPr>
          <p:cNvPr id="57" name="" descr=""/>
          <p:cNvPicPr/>
          <p:nvPr/>
        </p:nvPicPr>
        <p:blipFill>
          <a:blip r:embed="rId2"/>
          <a:stretch/>
        </p:blipFill>
        <p:spPr>
          <a:xfrm>
            <a:off x="5791320" y="2362320"/>
            <a:ext cx="1244520" cy="1536480"/>
          </a:xfrm>
          <a:prstGeom prst="rect">
            <a:avLst/>
          </a:prstGeom>
          <a:ln w="0">
            <a:noFill/>
          </a:ln>
        </p:spPr>
      </p:pic>
      <p:pic>
        <p:nvPicPr>
          <p:cNvPr id="58" name="" descr=""/>
          <p:cNvPicPr/>
          <p:nvPr/>
        </p:nvPicPr>
        <p:blipFill>
          <a:blip r:embed="rId3"/>
          <a:stretch/>
        </p:blipFill>
        <p:spPr>
          <a:xfrm>
            <a:off x="7467480" y="2514600"/>
            <a:ext cx="1295640" cy="1212840"/>
          </a:xfrm>
          <a:prstGeom prst="rect">
            <a:avLst/>
          </a:prstGeom>
          <a:ln w="0">
            <a:noFill/>
          </a:ln>
        </p:spPr>
      </p:pic>
      <p:pic>
        <p:nvPicPr>
          <p:cNvPr id="59" name="" descr=""/>
          <p:cNvPicPr/>
          <p:nvPr/>
        </p:nvPicPr>
        <p:blipFill>
          <a:blip r:embed="rId4"/>
          <a:stretch/>
        </p:blipFill>
        <p:spPr>
          <a:xfrm>
            <a:off x="5638680" y="4572000"/>
            <a:ext cx="1524240" cy="1214280"/>
          </a:xfrm>
          <a:prstGeom prst="rect">
            <a:avLst/>
          </a:prstGeom>
          <a:ln w="0">
            <a:noFill/>
          </a:ln>
        </p:spPr>
      </p:pic>
      <p:pic>
        <p:nvPicPr>
          <p:cNvPr id="60" name="" descr=""/>
          <p:cNvPicPr/>
          <p:nvPr/>
        </p:nvPicPr>
        <p:blipFill>
          <a:blip r:embed="rId5"/>
          <a:stretch/>
        </p:blipFill>
        <p:spPr>
          <a:xfrm>
            <a:off x="7467480" y="4572000"/>
            <a:ext cx="1397160" cy="1144440"/>
          </a:xfrm>
          <a:prstGeom prst="rect">
            <a:avLst/>
          </a:prstGeom>
          <a:ln w="0">
            <a:noFill/>
          </a:ln>
        </p:spPr>
      </p:pic>
      <p:sp>
        <p:nvSpPr>
          <p:cNvPr id="61" name=""/>
          <p:cNvSpPr/>
          <p:nvPr/>
        </p:nvSpPr>
        <p:spPr>
          <a:xfrm>
            <a:off x="5776920" y="4003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62" name=""/>
          <p:cNvSpPr/>
          <p:nvPr/>
        </p:nvSpPr>
        <p:spPr>
          <a:xfrm>
            <a:off x="7834320" y="3851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6157800" y="590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4" name=""/>
          <p:cNvSpPr/>
          <p:nvPr/>
        </p:nvSpPr>
        <p:spPr>
          <a:xfrm>
            <a:off x="7910280" y="5832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79600" y="914400"/>
            <a:ext cx="3666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Teorema de Pitágor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1, 2, 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5, 5</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447920" y="1523880"/>
            <a:ext cx="1257120" cy="1879560"/>
          </a:xfrm>
          <a:prstGeom prst="rect">
            <a:avLst/>
          </a:prstGeom>
          <a:ln w="0">
            <a:noFill/>
          </a:ln>
        </p:spPr>
      </p:pic>
      <p:pic>
        <p:nvPicPr>
          <p:cNvPr id="67" name="" descr=""/>
          <p:cNvPicPr/>
          <p:nvPr/>
        </p:nvPicPr>
        <p:blipFill>
          <a:blip r:embed="rId2"/>
          <a:stretch/>
        </p:blipFill>
        <p:spPr>
          <a:xfrm>
            <a:off x="2971800" y="1523880"/>
            <a:ext cx="1617840" cy="1905120"/>
          </a:xfrm>
          <a:prstGeom prst="rect">
            <a:avLst/>
          </a:prstGeom>
          <a:ln w="0">
            <a:noFill/>
          </a:ln>
        </p:spPr>
      </p:pic>
      <p:pic>
        <p:nvPicPr>
          <p:cNvPr id="68" name="" descr=""/>
          <p:cNvPicPr/>
          <p:nvPr/>
        </p:nvPicPr>
        <p:blipFill>
          <a:blip r:embed="rId3"/>
          <a:stretch/>
        </p:blipFill>
        <p:spPr>
          <a:xfrm>
            <a:off x="4800600" y="1752480"/>
            <a:ext cx="2197080" cy="1663920"/>
          </a:xfrm>
          <a:prstGeom prst="rect">
            <a:avLst/>
          </a:prstGeom>
          <a:ln w="0">
            <a:noFill/>
          </a:ln>
        </p:spPr>
      </p:pic>
      <p:pic>
        <p:nvPicPr>
          <p:cNvPr id="69" name="" descr=""/>
          <p:cNvPicPr/>
          <p:nvPr/>
        </p:nvPicPr>
        <p:blipFill>
          <a:blip r:embed="rId4"/>
          <a:stretch/>
        </p:blipFill>
        <p:spPr>
          <a:xfrm>
            <a:off x="2057400" y="4114800"/>
            <a:ext cx="1406520" cy="1968480"/>
          </a:xfrm>
          <a:prstGeom prst="rect">
            <a:avLst/>
          </a:prstGeom>
          <a:ln w="0">
            <a:noFill/>
          </a:ln>
        </p:spPr>
      </p:pic>
      <p:pic>
        <p:nvPicPr>
          <p:cNvPr id="70" name="" descr=""/>
          <p:cNvPicPr/>
          <p:nvPr/>
        </p:nvPicPr>
        <p:blipFill>
          <a:blip r:embed="rId5"/>
          <a:stretch/>
        </p:blipFill>
        <p:spPr>
          <a:xfrm>
            <a:off x="3657600" y="4114800"/>
            <a:ext cx="1600200" cy="18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114800" y="838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ducción de la Tabla</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878200" y="1647720"/>
            <a:ext cx="3387600" cy="3562560"/>
          </a:xfrm>
          <a:prstGeom prst="rect">
            <a:avLst/>
          </a:prstGeom>
          <a:ln w="0">
            <a:noFill/>
          </a:ln>
        </p:spPr>
      </p:pic>
      <p:sp>
        <p:nvSpPr>
          <p:cNvPr id="7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4" name=""/>
          <p:cNvSpPr/>
          <p:nvPr/>
        </p:nvSpPr>
        <p:spPr>
          <a:xfrm>
            <a:off x="1371600" y="55627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1+#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6" name=""/>
          <p:cNvSpPr/>
          <p:nvPr/>
        </p:nvSpPr>
        <p:spPr>
          <a:xfrm>
            <a:off x="6306120" y="762120"/>
            <a:ext cx="2632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itología egipcia</a:t>
            </a:r>
            <a:endParaRPr b="0" lang="en-US" sz="2400" spc="-1" strike="noStrike">
              <a:solidFill>
                <a:srgbClr val="000000"/>
              </a:solidFill>
              <a:latin typeface="Times New Roman"/>
            </a:endParaRPr>
          </a:p>
        </p:txBody>
      </p:sp>
      <p:sp>
        <p:nvSpPr>
          <p:cNvPr id="77"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rayectoria del sol en el firmamento</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1676520" y="1523880"/>
            <a:ext cx="61736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133720" y="990720"/>
            <a:ext cx="4548240" cy="5105160"/>
          </a:xfrm>
          <a:prstGeom prst="rect">
            <a:avLst/>
          </a:prstGeom>
          <a:ln w="0">
            <a:noFill/>
          </a:ln>
        </p:spPr>
      </p:pic>
      <p:sp>
        <p:nvSpPr>
          <p:cNvPr id="81" name=""/>
          <p:cNvSpPr/>
          <p:nvPr/>
        </p:nvSpPr>
        <p:spPr>
          <a:xfrm>
            <a:off x="6397920" y="91440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Egipcio</a:t>
            </a:r>
            <a:endParaRPr b="0" lang="en-US" sz="2400" spc="-1" strike="noStrike">
              <a:solidFill>
                <a:srgbClr val="000000"/>
              </a:solidFill>
              <a:latin typeface="Times New Roman"/>
            </a:endParaRPr>
          </a:p>
        </p:txBody>
      </p:sp>
      <p:sp>
        <p:nvSpPr>
          <p:cNvPr id="82"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estrellas cuelgan del cielo como lámpa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2120" y="144792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TALES DE MIL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r>
              <a:rPr b="0" lang="es-ES_tradnl" sz="2400" spc="-1" strike="noStrike">
                <a:solidFill>
                  <a:srgbClr val="ff0000"/>
                </a:solidFill>
                <a:latin typeface="Arial"/>
                <a:ea typeface="Arial"/>
              </a:rPr>
              <a:t>(624-547 AC)</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762120" y="2743200"/>
            <a:ext cx="2881080" cy="3505320"/>
          </a:xfrm>
          <a:prstGeom prst="rect">
            <a:avLst/>
          </a:prstGeom>
          <a:ln w="0">
            <a:noFill/>
          </a:ln>
        </p:spPr>
      </p:pic>
      <p:pic>
        <p:nvPicPr>
          <p:cNvPr id="85" name="" descr=""/>
          <p:cNvPicPr/>
          <p:nvPr/>
        </p:nvPicPr>
        <p:blipFill>
          <a:blip r:embed="rId2"/>
          <a:stretch/>
        </p:blipFill>
        <p:spPr>
          <a:xfrm>
            <a:off x="3886200" y="1143000"/>
            <a:ext cx="5105520" cy="4267080"/>
          </a:xfrm>
          <a:prstGeom prst="rect">
            <a:avLst/>
          </a:prstGeom>
          <a:ln w="0">
            <a:noFill/>
          </a:ln>
        </p:spPr>
      </p:pic>
      <p:sp>
        <p:nvSpPr>
          <p:cNvPr id="8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14400" y="4495680"/>
            <a:ext cx="7467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PRIMERA PREDICIÓN DE UNA ECLIP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UNIVERSO ESTÁ DOMINADO POR LEYES FIJ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 HOMBRE PUEDE DESCUBRIR DICHAS LEYES</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990720" y="1295280"/>
            <a:ext cx="7238880" cy="2293920"/>
          </a:xfrm>
          <a:prstGeom prst="rect">
            <a:avLst/>
          </a:prstGeom>
          <a:ln w="0">
            <a:noFill/>
          </a:ln>
        </p:spPr>
      </p:pic>
      <p:sp>
        <p:nvSpPr>
          <p:cNvPr id="8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05T00:50:51Z</dcterms:modified>
  <cp:revision>12</cp:revision>
  <dc:subject/>
  <dc:title>COSMOLOGÍA HOY</dc:title>
</cp:coreProperties>
</file>