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B618-C5A7-45A2-B554-AC40890452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l universo se está acelerando y si algo no detiene esta aceleración se convertirá en un espacio infinito vacío y frío, sin vida. Si duda deja un vacío caball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n esta foto los cosmólogos han logrado determinar que el universo es plano. Esta es una de las tres posibilidades que podía elegir el universo para evolucionar. Que sea plano no significa que la teoría de Einstein está mal. El tamaño de la foto intenta dar una idea de la sección del cielo que se analizó con la sonda. Este fue un experimento cruc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 el universo es infinito, entonces pueden existir copias de nuestro propio univero en alguna región lejana, incluso con las mismas propiedades. La probabilidad es extraordinariamente pequeña pero si el universo es infinito, es una pos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cosmología está siendo inundada por datos obtenidos a través de satélites. Estas máquinas han puesto a la cosmología en otro nivel. Hoy es preciso mirar los datos para saber si el modelo propuesto es un ejercicio académico o tiene algo que ver con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atélite Chandra mide la intensidad de los rayos X provenientes del espacio. Los rayos X constituyen una huella digital de la existencia de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ientemente WMAP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es. ¿Cómo es posible que el hombre pueda imaginarse 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xtrapolación envuelve las escalas de tiempo y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podremos saber a ciencia cierta qué sucedió al comienzo del universo. Lograremos tener un cuadro consistente, a eso llamaremos realidad. Sin embargo, es muy posible que, fuera del alcance de nuestro conocimiento actual, en el futuro de nuestra civilización, sea posible  encontrar una relación entre dos leyes hoy conocidas que refleje un condición que debió existir en el punto de parti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Por ejemplo hoy no sabemos por qué el electrón tiene la carga que tiene. Por qué no es otro valor o  por qué todos los electrones tienen la misma carg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magen destaca que nuestra estadía en este universo es prácticamente nula.La edad del universo se estima en 13 mil millones de años. Registro de la existencia del hombre se remontana a cinco o seis millones de años. La invención del telescopio es demasiado reciente en esta escala. Sin embargo hemos progresado una enormid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jemplo, suponemos que las galaxias espirales se forman a través de un choque de dos galaxias elípticas. Podemos estar presenciando este choque, pero sólo vemos una instantánea de lo que ocur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l otro extremo de las distancias, las pequeñas, conocemos la estructura atómica. Recientemente se confirmó el funcionamiento del Sol. Por años existió una gran duda acerca si la reacción que se ilustra en la figura era realmente la fuente de energía del Sol. El motivo de las dudas era que sólo se detectaba un tercio de los neutrinos emitidos por el Sol. Hoy sabemos, por otros experimentos realizados en la Tierra que los neutrinos tienen masa y que los tres tipos de neutrinos oscilan entre un estado y otro. En el laboratorio se detecta sólo una familia de ellos, de allí que se descubra sólo un tercio de su número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delo data de los años 1930. Antes de esa fecha no se conocía el motor que le daba la energía al Sol.(Foto de Hans Beth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 un archivo con preguntas típicas que estará a disposición de los alumnos, en el sitio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tema de investigación, en lo posible, lo eligen Uds. de acuerdo al tema que les interese.El tema debe contar con la aprobación de uno de los dos profesores. Si no encuentra un tema, nosotros podemos sugerirlo. DEBE INCLUIR BIBLIOGRAF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 extensión no debe ser menos de 5 páginas ni más de 1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idea es dar una visión panorámica del curso. Para eso utilizamos un poema que tiene unas frases muy precisas acerca de algunos fenómenos cosmológ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frase aprecio dos ideas: lo pequeño en física siempre se refiere a un standard. En Astronomía pequeña es la distancia entre la Tierra y la Luna, comprarada con la distancia entre galaxias o el tamaño de sun super-cúlmulo. Lo mismo se puede decir con respecto al tiempo: nuestra vida media, 80 años, es muy corta para apreciar la evolución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tortugas me recuerdan que existen mitologías que afirman hechos que hoy, dentro de otro contexto, tienen un sentido físico. La existencia de un universo cíclico, por ejemplo, es una posibilidad (NO una certeza!!) dentro de la teoría de supercuer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s claro hoy si el universo tiene un principio y un fi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o grande saltamos a lo pequeño. La partícula elemental. Un electrón puede cruzar dos compuertas simultáneamente e interferir consigo mismo. Si no medimos la posición del electrón, éste se ubica en una región. Dentro de esa región existe una probabilidad de encontrarlo. Si uno no mide, el electrón puede ser encontrado en una cierta región con una cierta prob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mecánica cuántica, que es la teoría que describe est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sólo éstos, sino también la producción de partículas en un agujero negro. Por eso este tema es, como afirmamos, trans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blaremos de las interpretaciones posibles de la mecánica cuántic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la teoría del universo inflacionario propone que el universo se expandió a partir de una burbuja microscópica por efectos cuánticos. Aclararemos aquí que el universo no se creo a partir de un punto. El el universo se crea junto con el espacio tiempo.Por eso el tiempo antes de la creación del universo no “funca”. Hablaremos de la teoría del espacio y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último punto podemos distinguir claramente  entre filosofía y física. Tengo muchos problemas para expresar que es el espacio tiempo. No tengo problemas para identificarlo a través de una herramienta geométrica que es la distancia entre puntos.Este será nuestro tema en el capítulo de relatividad general.Acá comenzaremos a introducir la idea de un tiempo que no fluye y que transcurre en forma diferente de acuerdo a la física del ento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existe una foto del universo en sus comienzos. Representa al universo cuando tenía aproximadamente 400.000 añ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56EA7-426F-4408-A0DB-FE03264E8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F83C-F607-4D27-8160-D4BC34FE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72A5B-EFA4-4F84-A80E-A6234DB45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558AF-2AE8-4BEA-BC49-FEA6E2018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0267-B748-4716-A850-FCE29341C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9EF28-B062-4429-868F-AEB5F39AB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5324-C6BC-41A6-B916-579D74E5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7408-0B1F-4FB7-AF6C-5BB3ECC9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1C2C5-3767-43B1-A4E2-4EE7F0F9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AAE2-9DF2-432A-99E9-D39E3B374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0697-7D8E-4065-B8E7-89D62205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933A-D6BC-4C07-B3A6-1518D41F0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6D40-F342-45C5-BD1F-E3747A96F20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6494400" y="6297480"/>
            <a:ext cx="264816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676520"/>
            <a:ext cx="792468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PROFESOR:   </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NELSON  ZAMORANO</a:t>
            </a:r>
            <a:r>
              <a:rPr b="0" lang="es-ES_tradnl" sz="3200" spc="-1" strike="noStrike">
                <a:solidFill>
                  <a:srgbClr val="008000"/>
                </a:solidFill>
                <a:latin typeface="Arial"/>
              </a:rPr>
              <a:t> </a:t>
            </a:r>
            <a:r>
              <a:rPr b="0" lang="es-ES_tradnl" sz="2400" spc="-1" strike="noStrike">
                <a:solidFill>
                  <a:srgbClr val="008000"/>
                </a:solidFill>
                <a:latin typeface="Arial"/>
              </a:rPr>
              <a:t>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Arial"/>
              </a:rPr>
              <a:t>nzamora@dfi.uchile.cl</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PROFESORES INVITADOS:</a:t>
            </a:r>
            <a:r>
              <a:rPr b="1" lang="es-ES_tradnl" sz="3200" spc="-1" strike="noStrike">
                <a:solidFill>
                  <a:srgbClr val="ff3300"/>
                </a:solidFill>
                <a:latin typeface="Arial"/>
              </a:rPr>
              <a:t>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ichel Cure*,</a:t>
            </a:r>
            <a:r>
              <a:rPr b="0" lang="es-ES_tradnl" sz="3600" spc="-1" strike="noStrike">
                <a:solidFill>
                  <a:srgbClr val="000099"/>
                </a:solidFill>
                <a:latin typeface="Arial"/>
              </a:rPr>
              <a:t> </a:t>
            </a:r>
            <a:r>
              <a:rPr b="0" lang="es-ES_tradnl" sz="2800" spc="-1" strike="noStrike">
                <a:solidFill>
                  <a:srgbClr val="000099"/>
                </a:solidFill>
                <a:latin typeface="Arial"/>
              </a:rPr>
              <a:t>Sergio Del Camp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ndrés Mez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Por confirma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COSMOLOGÍA HO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8" name=""/>
          <p:cNvSpPr/>
          <p:nvPr/>
        </p:nvSpPr>
        <p:spPr>
          <a:xfrm>
            <a:off x="1219320" y="990720"/>
            <a:ext cx="2743200" cy="39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la teoría dice que después de la expansión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iverso se aprieta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no queda ni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o sea que volvemos a la teoría de la creación y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juicio fin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in edén, sin árbol, culebra ni manz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sin caída, sin un cristo que nos sal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 ángeles con trompetas ni muert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evantándose por todas part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Y también sin que ni remotamente un solo ser </a:t>
            </a:r>
            <a:r>
              <a:rPr b="0" lang="es-CL" sz="1200" spc="-1" strike="noStrike">
                <a:solidFill>
                  <a:srgbClr val="000000"/>
                </a:solidFill>
                <a:latin typeface="Arial"/>
                <a:ea typeface="Arial"/>
              </a:rPr>
              <a:t> </a:t>
            </a:r>
            <a:r>
              <a:rPr b="0" lang="es-ES" sz="1200" spc="-1" strike="noStrike">
                <a:solidFill>
                  <a:srgbClr val="000000"/>
                </a:solidFill>
                <a:latin typeface="Arial"/>
                <a:ea typeface="Arial"/>
              </a:rPr>
              <a:t>viviente,</a:t>
            </a:r>
            <a:endParaRPr b="0" lang="en-US" sz="1200" spc="-1" strike="noStrike">
              <a:solidFill>
                <a:srgbClr val="000000"/>
              </a:solidFill>
              <a:latin typeface="Times New Roman"/>
            </a:endParaRPr>
          </a:p>
        </p:txBody>
      </p:sp>
      <p:sp>
        <p:nvSpPr>
          <p:cNvPr id="89" name=""/>
          <p:cNvSpPr/>
          <p:nvPr/>
        </p:nvSpPr>
        <p:spPr>
          <a:xfrm>
            <a:off x="4267080" y="1066680"/>
            <a:ext cx="457200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gún nuestro concepto de la vid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ueda presenciar el fin del 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o importante que éste ha si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la religión, la poesía, la filosofía y 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iencia</a:t>
            </a: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o pienso en carne propia que nos deja un vací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abal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graphicFrame>
        <p:nvGraphicFramePr>
          <p:cNvPr id="90" name=""/>
          <p:cNvGraphicFramePr/>
          <p:nvPr/>
        </p:nvGraphicFramePr>
        <p:xfrm>
          <a:off x="3962520" y="3429000"/>
          <a:ext cx="5029200" cy="2666880"/>
        </p:xfrm>
        <a:graphic>
          <a:graphicData uri="http://schemas.openxmlformats.org/presentationml/2006/ole">
            <p:oleObj progId="PowerPoint.Show.12" r:id="rId1" spid="">
              <p:embed/>
              <p:pic>
                <p:nvPicPr>
                  <p:cNvPr id="91" name="" descr=""/>
                  <p:cNvPicPr/>
                  <p:nvPr/>
                </p:nvPicPr>
                <p:blipFill>
                  <a:blip r:embed="rId2"/>
                  <a:stretch/>
                </p:blipFill>
                <p:spPr>
                  <a:xfrm>
                    <a:off x="3962520" y="3429000"/>
                    <a:ext cx="502920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89800" y="152280"/>
            <a:ext cx="772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FOTO DEL UNIVERSO TEMPRANO</a:t>
            </a:r>
            <a:endParaRPr b="0" lang="en-US" sz="2400" spc="-1" strike="noStrike">
              <a:solidFill>
                <a:srgbClr val="000000"/>
              </a:solidFill>
              <a:latin typeface="Times New Roman"/>
            </a:endParaRPr>
          </a:p>
        </p:txBody>
      </p:sp>
      <p:sp>
        <p:nvSpPr>
          <p:cNvPr id="93" name=""/>
          <p:cNvSpPr/>
          <p:nvPr/>
        </p:nvSpPr>
        <p:spPr>
          <a:xfrm>
            <a:off x="3589200" y="758880"/>
            <a:ext cx="455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adiación de fondo medi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sde un globo en la Antártica</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1523880"/>
            <a:ext cx="401796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96" name=""/>
          <p:cNvSpPr/>
          <p:nvPr/>
        </p:nvSpPr>
        <p:spPr>
          <a:xfrm>
            <a:off x="1066680" y="990720"/>
            <a:ext cx="37339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562720" y="914400"/>
            <a:ext cx="3581280" cy="49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aún antes, como sugería más arrib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uno podría preguntas por </a:t>
            </a:r>
            <a:r>
              <a:rPr b="1" lang="es-ES" sz="1200" spc="-1" strike="noStrike">
                <a:solidFill>
                  <a:srgbClr val="ff0000"/>
                </a:solidFill>
                <a:latin typeface="Arial"/>
                <a:ea typeface="Arial"/>
              </a:rPr>
              <a:t>lo que sostiene el</a:t>
            </a:r>
            <a:r>
              <a:rPr b="1" lang="es-MX" sz="1200" spc="-1" strike="noStrike">
                <a:solidFill>
                  <a:srgbClr val="ff0000"/>
                </a:solidFill>
                <a:latin typeface="Arial"/>
                <a:ea typeface="Arial"/>
              </a:rPr>
              <a:t> </a:t>
            </a:r>
            <a:r>
              <a:rPr b="1" lang="es-ES" sz="1200" spc="-1" strike="noStrike">
                <a:solidFill>
                  <a:srgbClr val="ff0000"/>
                </a:solidFill>
                <a:latin typeface="Arial"/>
                <a:ea typeface="Arial"/>
              </a:rPr>
              <a:t>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0" lang="es-ES" sz="1200" spc="-1" strike="noStrike">
                <a:solidFill>
                  <a:srgbClr val="000000"/>
                </a:solidFill>
                <a:latin typeface="Arial"/>
                <a:ea typeface="Arial"/>
              </a:rPr>
              <a:t>dos tortugas” te decí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uno decía “aa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quedaba tranquilo uno porque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on animales muy pacífic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ahora no sólo no caben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o que en el fondo no hay vid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hay ríos, no hay m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hora en el fondo no hay quien escriba es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ema ni tampoco quien lo le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 lo mejor el oriente tiene una respuesta, no s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n todo caso no hay que preocuparse todaví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icen los superficiales de siemp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orque recién nos estamos expandiendo</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98" name=""/>
          <p:cNvGraphicFramePr/>
          <p:nvPr/>
        </p:nvGraphicFramePr>
        <p:xfrm>
          <a:off x="755640" y="1290600"/>
          <a:ext cx="4829040" cy="3656160"/>
        </p:xfrm>
        <a:graphic>
          <a:graphicData uri="http://schemas.openxmlformats.org/presentationml/2006/ole">
            <p:oleObj progId="PowerPoint.Show.12" r:id="rId1" spid="">
              <p:embed/>
              <p:pic>
                <p:nvPicPr>
                  <p:cNvPr id="99" name="" descr=""/>
                  <p:cNvPicPr/>
                  <p:nvPr/>
                </p:nvPicPr>
                <p:blipFill>
                  <a:blip r:embed="rId2"/>
                  <a:stretch/>
                </p:blipFill>
                <p:spPr>
                  <a:xfrm>
                    <a:off x="755640" y="1290600"/>
                    <a:ext cx="4829040" cy="36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07240" y="18900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LAS NUEVAS TECNOLOGÍAS</a:t>
            </a:r>
            <a:endParaRPr b="0" lang="en-US" sz="2400" spc="-1" strike="noStrike">
              <a:solidFill>
                <a:srgbClr val="000000"/>
              </a:solidFill>
              <a:latin typeface="Times New Roman"/>
            </a:endParaRPr>
          </a:p>
        </p:txBody>
      </p:sp>
      <p:sp>
        <p:nvSpPr>
          <p:cNvPr id="101" name=""/>
          <p:cNvSpPr/>
          <p:nvPr/>
        </p:nvSpPr>
        <p:spPr>
          <a:xfrm>
            <a:off x="2919600" y="914400"/>
            <a:ext cx="502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migrar en busca de un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ás favorable</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743200" y="1981080"/>
            <a:ext cx="4572000" cy="34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00200" y="13176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DISTANCIAS ASTRONÓMICAS</a:t>
            </a:r>
            <a:endParaRPr b="0" lang="en-US" sz="2400" spc="-1" strike="noStrike">
              <a:solidFill>
                <a:srgbClr val="000000"/>
              </a:solidFill>
              <a:latin typeface="Times New Roman"/>
            </a:endParaRPr>
          </a:p>
        </p:txBody>
      </p:sp>
      <p:sp>
        <p:nvSpPr>
          <p:cNvPr id="104"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1905120" y="1498680"/>
            <a:ext cx="6173640" cy="48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438280" y="131760"/>
            <a:ext cx="58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cala de Tiempo</a:t>
            </a:r>
            <a:endParaRPr b="0" lang="en-US" sz="2400" spc="-1" strike="noStrike">
              <a:solidFill>
                <a:srgbClr val="000000"/>
              </a:solidFill>
              <a:latin typeface="Times New Roman"/>
            </a:endParaRPr>
          </a:p>
        </p:txBody>
      </p:sp>
      <p:sp>
        <p:nvSpPr>
          <p:cNvPr id="107"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981080" y="1295280"/>
            <a:ext cx="5257800" cy="51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65760" y="115920"/>
            <a:ext cx="763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TRUCTURAS EN EL UNIVERSO</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371600" y="838080"/>
            <a:ext cx="4724280" cy="5715000"/>
          </a:xfrm>
          <a:prstGeom prst="rect">
            <a:avLst/>
          </a:prstGeom>
          <a:ln w="0">
            <a:noFill/>
          </a:ln>
        </p:spPr>
      </p:pic>
      <p:sp>
        <p:nvSpPr>
          <p:cNvPr id="111" name=""/>
          <p:cNvSpPr/>
          <p:nvPr/>
        </p:nvSpPr>
        <p:spPr>
          <a:xfrm>
            <a:off x="6323760" y="1265400"/>
            <a:ext cx="23464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olapso Monolític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nfriamiento 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Formación Este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55960" y="154080"/>
            <a:ext cx="659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INTERACCIONES DÉBILES</a:t>
            </a:r>
            <a:endParaRPr b="0" lang="en-US" sz="2400" spc="-1" strike="noStrike">
              <a:solidFill>
                <a:srgbClr val="000000"/>
              </a:solidFill>
              <a:latin typeface="Times New Roman"/>
            </a:endParaRPr>
          </a:p>
        </p:txBody>
      </p:sp>
      <p:sp>
        <p:nvSpPr>
          <p:cNvPr id="113" name=""/>
          <p:cNvSpPr/>
          <p:nvPr/>
        </p:nvSpPr>
        <p:spPr>
          <a:xfrm>
            <a:off x="4689720" y="762120"/>
            <a:ext cx="4146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igen de la energía del Sol</a:t>
            </a:r>
            <a:endParaRPr b="0" lang="en-US" sz="2400" spc="-1" strike="noStrike">
              <a:solidFill>
                <a:srgbClr val="000000"/>
              </a:solidFill>
              <a:latin typeface="Times New Roman"/>
            </a:endParaRPr>
          </a:p>
        </p:txBody>
      </p:sp>
      <p:sp>
        <p:nvSpPr>
          <p:cNvPr id="114"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iclo del protón-protón</a:t>
            </a:r>
            <a:endParaRPr b="0" lang="en-US" sz="2000" spc="-1" strike="noStrike">
              <a:solidFill>
                <a:srgbClr val="000000"/>
              </a:solidFill>
              <a:latin typeface="Times New Roman"/>
            </a:endParaRPr>
          </a:p>
        </p:txBody>
      </p:sp>
      <p:pic>
        <p:nvPicPr>
          <p:cNvPr id="115" name="" descr=""/>
          <p:cNvPicPr/>
          <p:nvPr/>
        </p:nvPicPr>
        <p:blipFill>
          <a:blip r:embed="rId1"/>
          <a:stretch/>
        </p:blipFill>
        <p:spPr>
          <a:xfrm>
            <a:off x="2514600" y="1828800"/>
            <a:ext cx="4622760" cy="32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117"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68360" y="1341360"/>
            <a:ext cx="5562720" cy="838440"/>
          </a:xfrm>
          <a:prstGeom prst="rect">
            <a:avLst/>
          </a:prstGeom>
          <a:solidFill>
            <a:srgbClr val="ffffff"/>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CLASES Y CONTROLES</a:t>
            </a:r>
            <a:endParaRPr b="0" lang="en-US" sz="3200" spc="-1" strike="noStrike">
              <a:solidFill>
                <a:srgbClr val="000000"/>
              </a:solidFill>
              <a:latin typeface="Times New Roman"/>
            </a:endParaRPr>
          </a:p>
        </p:txBody>
      </p:sp>
      <p:sp>
        <p:nvSpPr>
          <p:cNvPr id="54"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5" name=""/>
          <p:cNvSpPr/>
          <p:nvPr/>
        </p:nvSpPr>
        <p:spPr>
          <a:xfrm>
            <a:off x="1619280" y="2276640"/>
            <a:ext cx="6767640" cy="369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UANDO:</a:t>
            </a:r>
            <a:r>
              <a:rPr b="0" lang="es-ES_tradnl" sz="2400" spc="-1" strike="noStrike">
                <a:solidFill>
                  <a:srgbClr val="000000"/>
                </a:solidFill>
                <a:latin typeface="Arial"/>
              </a:rPr>
              <a:t>	</a:t>
            </a:r>
            <a:r>
              <a:rPr b="0" lang="es-ES_tradnl" sz="2400" spc="-1" strike="noStrike">
                <a:solidFill>
                  <a:srgbClr val="000099"/>
                </a:solidFill>
                <a:latin typeface="Arial"/>
              </a:rPr>
              <a:t>Lunes a Jueves de</a:t>
            </a:r>
            <a:r>
              <a:rPr b="0" lang="es-ES_tradnl" sz="2000" spc="-1" strike="noStrike">
                <a:solidFill>
                  <a:srgbClr val="000099"/>
                </a:solidFill>
                <a:latin typeface="Arial"/>
              </a:rPr>
              <a:t> 18:15 – 19: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DONDE:</a:t>
            </a:r>
            <a:r>
              <a:rPr b="0" lang="es-ES_tradnl" sz="2000" spc="-1" strike="noStrike">
                <a:solidFill>
                  <a:srgbClr val="000099"/>
                </a:solidFill>
                <a:latin typeface="Arial"/>
              </a:rPr>
              <a:t>	</a:t>
            </a:r>
            <a:r>
              <a:rPr b="0" lang="es-ES_tradnl" sz="2000" spc="-1" strike="noStrike">
                <a:solidFill>
                  <a:srgbClr val="000099"/>
                </a:solidFill>
                <a:latin typeface="Arial"/>
              </a:rPr>
              <a:t>Sala F-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EVALUACIÓN:</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ASISTENCIA:  Mayor que el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RUEBA DE ALTERNATIVAS (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despúes de la clase 10. Será anunciada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con anticip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EQUEÑA INVESTIGACIÓN (6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BLECER UNA CULTURA CIENTÍFICA BÁSIC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OPORCIONAR ELEMENTOS PARA DISCRIMINAR ENTRE CIENCIA Y SEUDO-CIENCIA.</a:t>
            </a:r>
            <a:endParaRPr b="0" lang="en-US" sz="24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EDER A ARTÍCULOS DE DIVULGACIÓN CIENTÍFICA. </a:t>
            </a:r>
            <a:r>
              <a:rPr b="0" lang="es-ES_tradnl" sz="1000" spc="-1" strike="noStrike">
                <a:solidFill>
                  <a:srgbClr val="ff3300"/>
                </a:solidFill>
                <a:latin typeface="Arial"/>
              </a:rPr>
              <a:t>(INVESTIGACIÓN Y CIENCIA, AMERICAN SCIENTIST, … en biblioteca central de Ing.)</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ONOCER EL ESTADO ACTUAL DE ALGUNOS DE LOS TEMAS TRATADOS EN EL CURS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Generales</a:t>
            </a:r>
            <a:endParaRPr b="0" lang="en-US" sz="4400" spc="-1" strike="noStrike">
              <a:solidFill>
                <a:srgbClr val="000000"/>
              </a:solidFill>
              <a:latin typeface="Times New Roman"/>
            </a:endParaRPr>
          </a:p>
        </p:txBody>
      </p:sp>
      <p:sp>
        <p:nvSpPr>
          <p:cNvPr id="58"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042560" y="2133360"/>
            <a:ext cx="7696440" cy="4174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DQUIRIR UNA VISIÓN GLOBAL DE LA COSMOLOGÍA DESDE SU ORIGEN A LA ACTUALIDAD.</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INTRODUCIR LAS IDEAS FÍSICAS QUE SUSTENTAN LOS MODELOS COSMOLÓGICOS.</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OSTRAR LA INTERRELACIÓN ENTRE EL MACROMUNDO Y EL MICROMUND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Específicos</a:t>
            </a:r>
            <a:endParaRPr b="0" lang="en-US" sz="4400" spc="-1" strike="noStrike">
              <a:solidFill>
                <a:srgbClr val="000000"/>
              </a:solidFill>
              <a:latin typeface="Times New Roman"/>
            </a:endParaRPr>
          </a:p>
        </p:txBody>
      </p:sp>
      <p:sp>
        <p:nvSpPr>
          <p:cNvPr id="61"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258920" y="2781360"/>
            <a:ext cx="7315200" cy="3527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s del Curso:</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TENSO Y PROFUND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000" spc="-1" strike="noStrike">
                <a:solidFill>
                  <a:srgbClr val="ff0000"/>
                </a:solidFill>
                <a:latin typeface="Arial"/>
              </a:rPr>
              <a:t>TRANSVERSAL: HISTORIA, RELIGIÓN, FÍS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FUTURO DEL HOMBRE</a:t>
            </a:r>
            <a:endParaRPr b="0" lang="en-US" sz="20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 DE OR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ff0000"/>
                </a:solidFill>
                <a:latin typeface="Arial"/>
              </a:rPr>
              <a:t>TECNOLOGÍ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TEORÍA (ATRASADA)</a:t>
            </a:r>
            <a:endParaRPr b="0" lang="en-US" sz="2000" spc="-1" strike="noStrike">
              <a:solidFill>
                <a:srgbClr val="000000"/>
              </a:solidFill>
              <a:latin typeface="Times New Roman"/>
            </a:endParaRPr>
          </a:p>
        </p:txBody>
      </p:sp>
      <p:sp>
        <p:nvSpPr>
          <p:cNvPr id="63"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64" name="PlaceHolder 2"/>
          <p:cNvSpPr>
            <a:spLocks noGrp="1"/>
          </p:cNvSpPr>
          <p:nvPr>
            <p:ph type="title"/>
          </p:nvPr>
        </p:nvSpPr>
        <p:spPr>
          <a:xfrm>
            <a:off x="755280" y="1341000"/>
            <a:ext cx="7777080" cy="11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cccc00"/>
                </a:solidFill>
                <a:latin typeface="Arial"/>
              </a:rPr>
              <a:t>Cómo lograr estos objetivos con el curso: Cosmología Hoy</a:t>
            </a:r>
            <a:r>
              <a:rPr b="0" lang="es-ES_tradnl" sz="4400" spc="-1" strike="noStrike">
                <a:solidFill>
                  <a:srgbClr val="cccc00"/>
                </a:solidFill>
                <a:latin typeface="Arial"/>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HISTORIA: DE LA ANTIGÜEDAD A LOS GRIEGOS. </a:t>
            </a:r>
            <a:r>
              <a:rPr b="1" lang="es-CL" sz="1000" spc="-1" strike="noStrike">
                <a:solidFill>
                  <a:srgbClr val="0000ff"/>
                </a:solidFill>
                <a:latin typeface="Arial"/>
              </a:rPr>
              <a:t>Los modelos cosmológicos de las primeras culturas. Las bases del pensamiento actual.</a:t>
            </a:r>
            <a:endParaRPr b="0" lang="en-US" sz="10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DE  GALILEO A NEWTON. </a:t>
            </a:r>
            <a:r>
              <a:rPr b="0" lang="es-ES_tradnl" sz="1000" spc="-1" strike="noStrike">
                <a:solidFill>
                  <a:srgbClr val="000099"/>
                </a:solidFill>
                <a:latin typeface="Arial"/>
              </a:rPr>
              <a:t> </a:t>
            </a:r>
            <a:r>
              <a:rPr b="1" lang="es-ES_tradnl" sz="1000" spc="-1" strike="noStrike">
                <a:solidFill>
                  <a:srgbClr val="0000ff"/>
                </a:solidFill>
                <a:latin typeface="Arial"/>
              </a:rPr>
              <a:t>Las bases de la nueva ciencia. El descubrimiento de la materia oscura. Origen de los agujeros negro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RELATIVIDAD ESPECIAL Y GENERAL. </a:t>
            </a:r>
            <a:r>
              <a:rPr b="1" lang="es-CL" sz="1000" spc="-1" strike="noStrike">
                <a:solidFill>
                  <a:srgbClr val="0000ff"/>
                </a:solidFill>
                <a:latin typeface="Arial"/>
              </a:rPr>
              <a:t>Una nueva visión del universo: su expansión, objetos exóticos, galaxias activa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MECÁNICA CUÁNTICA. </a:t>
            </a:r>
            <a:r>
              <a:rPr b="1" lang="es-CL" sz="1000" spc="-1" strike="noStrike">
                <a:solidFill>
                  <a:srgbClr val="0000ff"/>
                </a:solidFill>
                <a:latin typeface="Arial"/>
              </a:rPr>
              <a:t>Las líneas espectrales, cómo, posiblemente, surgió el universo, por qué no existe antimateria, ¿deben existir otros univers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FÍSICA Y COSMOLOGÍA: EL MICRO Y EL MACRO UNIVERSO. </a:t>
            </a:r>
            <a:r>
              <a:rPr b="1" lang="es-CL" sz="1200" spc="-1" strike="noStrike">
                <a:solidFill>
                  <a:srgbClr val="0000ff"/>
                </a:solidFill>
                <a:latin typeface="Times New Roman"/>
              </a:rPr>
              <a:t>Las líneas espectrales. ¿Cómo, posiblemente, surgió el universo actual? Por qué no existe antimateria, ¿deben existir otros universos?</a:t>
            </a:r>
            <a:r>
              <a:rPr b="0" lang="es-ES_tradnl" sz="2000" spc="-1" strike="noStrike">
                <a:solidFill>
                  <a:srgbClr val="3333cc"/>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ENIGMAS ACTUALES ACERCA DEL UNIVERSO (Y LA FÍSICA).</a:t>
            </a:r>
            <a:r>
              <a:rPr b="0" lang="es-ES_tradnl" sz="2000" spc="-1" strike="noStrike">
                <a:solidFill>
                  <a:srgbClr val="000099"/>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1476000" y="907920"/>
            <a:ext cx="665964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RESUMEN DEL CURSO</a:t>
            </a:r>
            <a:endParaRPr b="0" lang="en-US" sz="4400" spc="-1" strike="noStrike">
              <a:solidFill>
                <a:srgbClr val="000000"/>
              </a:solidFill>
              <a:latin typeface="Times New Roman"/>
            </a:endParaRPr>
          </a:p>
        </p:txBody>
      </p:sp>
      <p:sp>
        <p:nvSpPr>
          <p:cNvPr id="67"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83600" y="152280"/>
            <a:ext cx="649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L CURSO EN UN POEMA</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371600" y="837720"/>
            <a:ext cx="7772400" cy="1295640"/>
          </a:xfrm>
          <a:prstGeom prst="rect">
            <a:avLst/>
          </a:prstGeom>
          <a:noFill/>
          <a:ln w="0">
            <a:noFill/>
          </a:ln>
        </p:spPr>
        <p:txBody>
          <a:bodyPr lIns="90000" rIns="90000" tIns="46800" bIns="46800" anchor="ctr">
            <a:noAutofit/>
          </a:bodyPr>
          <a:p>
            <a:pPr marL="8380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Adán Méndez:</a:t>
            </a:r>
            <a:br>
              <a:rPr sz="1000"/>
            </a:br>
            <a:br>
              <a:rPr sz="1000"/>
            </a:br>
            <a:br>
              <a:rPr sz="1000"/>
            </a:br>
            <a:br>
              <a:rPr sz="1000"/>
            </a:br>
            <a:r>
              <a:rPr b="0" lang="es-ES" sz="1000" spc="-1" strike="noStrike">
                <a:solidFill>
                  <a:srgbClr val="000000"/>
                </a:solidFill>
                <a:latin typeface="Arial"/>
                <a:ea typeface="Arial"/>
              </a:rPr>
              <a:t>NUESTRA CIENCIA PARADIGMATICA</a:t>
            </a:r>
            <a:r>
              <a:rPr b="0" lang="es-MX" sz="1000" spc="-1" strike="noStrike">
                <a:solidFill>
                  <a:srgbClr val="000000"/>
                </a:solidFill>
                <a:latin typeface="Arial"/>
                <a:ea typeface="Times New Roman"/>
              </a:rPr>
              <a:t> </a:t>
            </a:r>
            <a:br>
              <a:rPr sz="1000"/>
            </a:br>
            <a:r>
              <a:rPr b="0" lang="es-ES" sz="1000" spc="-1" strike="noStrike">
                <a:solidFill>
                  <a:srgbClr val="000000"/>
                </a:solidFill>
                <a:latin typeface="Arial"/>
                <a:ea typeface="Arial"/>
              </a:rPr>
              <a:t>ES LA FÍSICA CONTEMPORÁNEA</a:t>
            </a:r>
            <a:r>
              <a:rPr b="0" lang="es-ES_tradnl" sz="2400" spc="-1" strike="noStrike">
                <a:solidFill>
                  <a:srgbClr val="808080"/>
                </a:solidFill>
                <a:latin typeface="Arial"/>
              </a:rPr>
              <a:t> </a:t>
            </a:r>
            <a:br>
              <a:rPr sz="2400"/>
            </a:br>
            <a:endParaRPr b="0" lang="en-US" sz="2400" spc="-1" strike="noStrike">
              <a:solidFill>
                <a:srgbClr val="000000"/>
              </a:solidFill>
              <a:latin typeface="Times New Roman"/>
            </a:endParaRPr>
          </a:p>
        </p:txBody>
      </p:sp>
      <p:pic>
        <p:nvPicPr>
          <p:cNvPr id="70" name="" descr=""/>
          <p:cNvPicPr/>
          <p:nvPr/>
        </p:nvPicPr>
        <p:blipFill>
          <a:blip r:embed="rId1"/>
          <a:stretch/>
        </p:blipFill>
        <p:spPr>
          <a:xfrm>
            <a:off x="5638680" y="735120"/>
            <a:ext cx="3200400" cy="2084400"/>
          </a:xfrm>
          <a:prstGeom prst="rect">
            <a:avLst/>
          </a:prstGeom>
          <a:ln w="0">
            <a:noFill/>
          </a:ln>
        </p:spPr>
      </p:pic>
      <p:sp>
        <p:nvSpPr>
          <p:cNvPr id="71" name=""/>
          <p:cNvSpPr/>
          <p:nvPr/>
        </p:nvSpPr>
        <p:spPr>
          <a:xfrm>
            <a:off x="762120" y="2133720"/>
            <a:ext cx="388620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luego de varios años de ignorancia cosmológic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o much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e hicieron largo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hoy día estamos más o menos como al princip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2" name=""/>
          <p:cNvSpPr/>
          <p:nvPr/>
        </p:nvSpPr>
        <p:spPr>
          <a:xfrm>
            <a:off x="5638680" y="27273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oema seleccionado de la obra ganadora,</a:t>
            </a:r>
            <a:br>
              <a:rPr sz="1000"/>
            </a:br>
            <a:r>
              <a:rPr b="0" lang="es-ES" sz="1000" spc="-1" strike="noStrike">
                <a:solidFill>
                  <a:srgbClr val="000000"/>
                </a:solidFill>
                <a:latin typeface="Arial"/>
                <a:ea typeface="Arial"/>
              </a:rPr>
              <a:t> “Antología Precipitada”.</a:t>
            </a:r>
            <a:r>
              <a:rPr b="0" lang="es-MX" sz="1000" spc="-1" strike="noStrike">
                <a:solidFill>
                  <a:srgbClr val="000000"/>
                </a:solidFill>
                <a:latin typeface="Arial"/>
                <a:ea typeface="Arial"/>
              </a:rPr>
              <a:t> Oct.1992</a:t>
            </a:r>
            <a:endParaRPr b="0" lang="en-US" sz="1000" spc="-1" strike="noStrike">
              <a:solidFill>
                <a:srgbClr val="000000"/>
              </a:solidFill>
              <a:latin typeface="Times New Roman"/>
            </a:endParaRPr>
          </a:p>
        </p:txBody>
      </p:sp>
      <p:sp>
        <p:nvSpPr>
          <p:cNvPr id="73" name=""/>
          <p:cNvSpPr/>
          <p:nvPr/>
        </p:nvSpPr>
        <p:spPr>
          <a:xfrm>
            <a:off x="4572000" y="328788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74" name="" descr=""/>
          <p:cNvPicPr/>
          <p:nvPr/>
        </p:nvPicPr>
        <p:blipFill>
          <a:blip r:embed="rId2"/>
          <a:stretch/>
        </p:blipFill>
        <p:spPr>
          <a:xfrm>
            <a:off x="1066680" y="3276720"/>
            <a:ext cx="4724640" cy="3047760"/>
          </a:xfrm>
          <a:prstGeom prst="rect">
            <a:avLst/>
          </a:prstGeom>
          <a:ln w="0">
            <a:noFill/>
          </a:ln>
        </p:spPr>
      </p:pic>
      <p:sp>
        <p:nvSpPr>
          <p:cNvPr id="75" name=""/>
          <p:cNvSpPr/>
          <p:nvPr/>
        </p:nvSpPr>
        <p:spPr>
          <a:xfrm>
            <a:off x="6095880" y="3429000"/>
            <a:ext cx="2667240" cy="20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universo es un h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principio y hay f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o va a desaparec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r que antes, como detallaremos más abaj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no hay ni un miserable par de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 sostenga el hue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416680" y="1522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MECÁNICA CUÁNTICA</a:t>
            </a:r>
            <a:endParaRPr b="0" lang="en-US" sz="2400" spc="-1" strike="noStrike">
              <a:solidFill>
                <a:srgbClr val="000000"/>
              </a:solidFill>
              <a:latin typeface="Times New Roman"/>
            </a:endParaRPr>
          </a:p>
        </p:txBody>
      </p:sp>
      <p:sp>
        <p:nvSpPr>
          <p:cNvPr id="77" name=""/>
          <p:cNvSpPr/>
          <p:nvPr/>
        </p:nvSpPr>
        <p:spPr>
          <a:xfrm>
            <a:off x="5181480" y="11430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8" name=""/>
          <p:cNvSpPr/>
          <p:nvPr/>
        </p:nvSpPr>
        <p:spPr>
          <a:xfrm>
            <a:off x="1371600" y="1676520"/>
            <a:ext cx="2819520" cy="40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meollo del asunto es la partícula subatómi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 la que no veo que lleguemos a imaginarn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sa no es la idea del coleg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nos imaginamos algo muy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pero algo chico es un rat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ájaro, un cerro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iojo por últim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lgo chico es algo que se compara con alg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a partícula subatómica no tiene comparac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e pedazo de nada lo trastorna tod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hasta el átomo</a:t>
            </a:r>
            <a:endParaRPr b="0" lang="en-US" sz="1200" spc="-1" strike="noStrike">
              <a:solidFill>
                <a:srgbClr val="000000"/>
              </a:solidFill>
              <a:latin typeface="Times New Roman"/>
            </a:endParaRPr>
          </a:p>
        </p:txBody>
      </p:sp>
      <p:graphicFrame>
        <p:nvGraphicFramePr>
          <p:cNvPr id="79" name=""/>
          <p:cNvGraphicFramePr/>
          <p:nvPr/>
        </p:nvGraphicFramePr>
        <p:xfrm>
          <a:off x="4648320" y="2362320"/>
          <a:ext cx="3504960" cy="3124080"/>
        </p:xfrm>
        <a:graphic>
          <a:graphicData uri="http://schemas.openxmlformats.org/presentationml/2006/ole">
            <p:oleObj progId="PowerPoint.Show.12" r:id="rId1" spid="">
              <p:embed/>
              <p:pic>
                <p:nvPicPr>
                  <p:cNvPr id="80" name="" descr=""/>
                  <p:cNvPicPr/>
                  <p:nvPr/>
                </p:nvPicPr>
                <p:blipFill>
                  <a:blip r:embed="rId2"/>
                  <a:stretch/>
                </p:blipFill>
                <p:spPr>
                  <a:xfrm>
                    <a:off x="4648320" y="2362320"/>
                    <a:ext cx="3504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2" name=""/>
          <p:cNvSpPr/>
          <p:nvPr/>
        </p:nvSpPr>
        <p:spPr>
          <a:xfrm>
            <a:off x="990720" y="1752480"/>
            <a:ext cx="3504960" cy="45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a partícula subatómica es distin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más inteligentes se hicieron católicos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en general a la mayoría les quedó la zorr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l universo prácticamente se creó ex-nihil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i siquiera era una 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dicen que explotó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está mal dicho porque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quí no fun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sí no más, de repente dic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que hasta se escucha todaví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que lo tienen grabado y to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a tremenda explos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e qué? De algo que ni siquiera era un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5029200" y="25146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4495680" y="3581280"/>
            <a:ext cx="4038840" cy="2610000"/>
          </a:xfrm>
          <a:prstGeom prst="rect">
            <a:avLst/>
          </a:prstGeom>
          <a:ln w="0">
            <a:noFill/>
          </a:ln>
        </p:spPr>
      </p:pic>
      <p:graphicFrame>
        <p:nvGraphicFramePr>
          <p:cNvPr id="85" name=""/>
          <p:cNvGraphicFramePr/>
          <p:nvPr/>
        </p:nvGraphicFramePr>
        <p:xfrm>
          <a:off x="4724280" y="990720"/>
          <a:ext cx="3733920" cy="2514600"/>
        </p:xfrm>
        <a:graphic>
          <a:graphicData uri="http://schemas.openxmlformats.org/presentationml/2006/ole">
            <p:oleObj progId="PowerPoint.Show.12" r:id="rId2" spid="">
              <p:embed/>
              <p:pic>
                <p:nvPicPr>
                  <p:cNvPr id="86" name="" descr=""/>
                  <p:cNvPicPr/>
                  <p:nvPr/>
                </p:nvPicPr>
                <p:blipFill>
                  <a:blip r:embed="rId3"/>
                  <a:stretch/>
                </p:blipFill>
                <p:spPr>
                  <a:xfrm>
                    <a:off x="4724280" y="990720"/>
                    <a:ext cx="37339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6:34:07Z</dcterms:created>
  <dc:creator>Nelson Zamorano</dc:creator>
  <dc:description/>
  <dc:language>en-US</dc:language>
  <cp:lastModifiedBy>Nelson Zamorano</cp:lastModifiedBy>
  <dcterms:modified xsi:type="dcterms:W3CDTF">2006-01-03T00:47:08Z</dcterms:modified>
  <cp:revision>11</cp:revision>
  <dc:subject/>
  <dc:title>Adán Mendez:   NUESTRA CIENCIA PARADIGMATICA  ES LA FÍSICA CONTEMPORÁNEA  </dc:title>
</cp:coreProperties>
</file>