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7CA9-5573-4434-B919-21DC3061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E13-1443-4039-ADDB-97AEED4F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40F-9454-4D0F-868E-BB5F369C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CAF-4123-4290-B347-1CC49947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495-4BC6-4628-905D-9A7A00C7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363-EC6D-4107-B685-B8D703F4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8F5-7554-4239-9C6F-8E263103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BB0-8CB2-4536-9503-F8553E37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2C9-4896-43FE-9517-F696B233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D82-8553-4CEB-B144-80041134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8C8-8179-4219-BA4A-56A905F7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BE8-8DD0-4F93-8725-A9384AE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C9B5-B748-4954-8810-6AF38B3A6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Fis 2- 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OBJETIVOS CENT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Preparar al estudiante para una primera parte de un curso de Introducción a la Física a un nivel de exigencia de Ingenier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La materia es cinemática y dinámica con ej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Se introducen herramientas matemáticas utilizando como base la geometr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Se revisan las tareas, ejercicios y controles desarrollados en el curso regular de ingeniería de primer añ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Fis 2- 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OBJETIVO 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Usar el contenido del curso de Formación General: </a:t>
            </a: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Cosmología Hoy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, para revisar los conceptos de física moderna a un nivel básico, sin uso de matemáticas avanza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En este curso, utilizando la historia de las ideas y modelos acerca de la evolución del universo, se revisan los modelos físicos que la fundament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Se ilustra la unión entre el macromundo y el mundo microscóp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La aprobación de este curso le permite al estudiante acumular 5 UD. Como es un curso del programa de Formación General,  estas unidades son válidas para cualquier carrera dentro de la Universidad de Chile y mientras Nelson Zamorano sea el profesor del cur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6666"/>
                </a:solidFill>
                <a:latin typeface="Arial"/>
              </a:rPr>
              <a:t>La evaluación consiste en una prueba de alternativas y un ensayo final de aproximadamente 8 pág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RESUMEN DEL CURSO</a:t>
            </a:r>
            <a:br>
              <a:rPr sz="3200"/>
            </a:b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Fis 2- 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CONTENIDOS de FI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REPASO MATERIA FÍSICA  1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1 sema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TRABAJO, Ejemplos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ENERGÍA: CINÉTICA , POTENCIAL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EJEMPLOS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: OSCILADOR ARMÓNICO, CAMPO GRAVITACIONAL CON g= CONSTANTE</a:t>
            </a: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CHOQUES: ELÁSTICO E INESLÁTICO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MOMENTO ANGULAR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GRAVITACIÓN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tres 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CONTENIDO (resumido) DE COSMOLOGÍA H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HISTORIA: DE LA ANTIGÜEDAD A LOS GRIE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DE  GALILEO A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RELATIVIDAD ESPECIAL Y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MECÁNICA CUÁN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FÍSICA Y COSMOLOGÍA: EL MICRO Y EL MACRO UN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ENIGMAS ACTUALES DEL U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1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Repaso de Geometría y Matemá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Derivadas e Integ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Series y geomet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trigonometrí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Repaso de Cine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Principio de superposi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Perro amarrado a un poste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Tráfico “Follow the leader”(exc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Repaso de Diná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Leyes de New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Plano incl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Pol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Movimiento Cir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2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Oscilador Armó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Solución Ana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Solución Nu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plicacion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Trabajo y Ener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Energía Cinétic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3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Momentum Lin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entro de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hoques elásticos e inelá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Est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Producto Vectorial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 de Momento 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 de Torque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4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Gravitación Univer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onservación de la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Momento 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Tipos de Órb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Aplicaciones en Cosm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inemática Rela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hoques Relativis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gujeros Negros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Modelos cosmológicos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El silabario de Ondas y Mecánica Cuán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00:57:34Z</dcterms:created>
  <dc:creator>Nelson Zamorano</dc:creator>
  <dc:description/>
  <dc:language>en-US</dc:language>
  <cp:lastModifiedBy>Nelson Zamorano</cp:lastModifiedBy>
  <dcterms:modified xsi:type="dcterms:W3CDTF">2006-01-02T23:57:38Z</dcterms:modified>
  <cp:revision>5</cp:revision>
  <dc:subject/>
  <dc:title>Semana 1-Fis 2- Mecánica</dc:title>
</cp:coreProperties>
</file>