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5BF-2E80-4562-B61B-666EFAE6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C80-326C-4BDE-AEFA-6A4B6561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B56-D646-44D2-9EE5-1D53E52C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E9A-2219-45F9-BA9C-9E1629D5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5B6-330E-4FE9-BB9A-440B7B43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1D8-B32C-4B12-BADB-3F7D43F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9A1-9E1F-4483-86CA-CA30A7EA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CE9-4472-4377-9B77-B272C64B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1E2-E069-4767-93D0-058656AA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2B6-2237-4274-92D4-8397367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52E-9221-4176-89E0-21D9941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7B8-9C9E-43D9-A3F2-29F046F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2B02-E31F-480F-A772-D0541E519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Preparar al estudiante para una primera parte de un curso de Introducción a la Física a un nivel de exigencia de Ingenier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La materia es cinemática y dinámica co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introducen herramientas matemáticas utilizando como base la g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revisan las tareas, ejercicios y controles desarrollados en el curso regular de ingeniería de primer añ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Usar el contenido del curso de Formación General: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Cosmología Hoy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, para revisar los conceptos de física moderna a un nivel básico, sin uso de matemáticas avanz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En este curso, utilizando la historia de las ideas y modelos acerca de la evolución del universo, se revisan los modelos físicos que la fundamen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 ilustra la unión entre el macromundo y el mundo microscóp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La aprobación de este curso le permite al estudiante acumular 5 UD. Como es un curso del programa de Formación General,  estas unidades son válidas para cualquier carrera dentro de la Universidad de Chile y mientras Nelson Zamorano sea el profesor del cur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La evaluación consiste en una prueba de alternativas y un ensayo final de aproximadamente 8 pág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RESUMEN DEL CURSO</a:t>
            </a:r>
            <a:br>
              <a:rPr sz="3200"/>
            </a:b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S de FI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REPASO MATERIA FÍSICA  1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1 sem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TRABAJO, Ejemplos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NERGÍA: CINÉTICA , POTENCIAL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JEMPLOS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: OSCILADOR ARMÓNICO, CAMPO GRAVITACIONAL CON g= CONSTANTE</a:t>
            </a: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CHOQUES: ELÁSTICO E INESLÁTICO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MOMENTO ANGULAR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GRAVITACIÓN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tres 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 (resumido) DE COSMOLOGÍA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HISTORIA: DE LA ANTIGÜEDAD A LOS GRI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DE  GALILEO A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RELATIVIDAD ESPECIAL 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MECÁNICA CUÁN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FÍSICA Y COSMOLOGÍA: EL MICRO Y EL MACRO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ENIGMAS ACTUALES DEL U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1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Geometría y 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Derivadas e Integ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ries y geomet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trigonometr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Cin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rincipio de superpos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erro amarrado a un poste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Tráfico “Follow the leader”(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Leyes de New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lano 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ol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Movimi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2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Oscilador Arm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Ana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Trabajo y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nergía Cinétic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3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Momentum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elásticos e inelá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Est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Producto Vectorial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Torque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4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Tipos de Órb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Aplicaciones en Cosm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inemática Rel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Relativ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gujeros Negros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delos cosmológico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l silabario de Ondas y Mecánica Cu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0:57:34Z</dcterms:created>
  <dc:creator>Nelson Zamorano</dc:creator>
  <dc:description/>
  <dc:language>en-US</dc:language>
  <cp:lastModifiedBy>Nelson Zamorano</cp:lastModifiedBy>
  <dcterms:modified xsi:type="dcterms:W3CDTF">2006-01-02T23:57:38Z</dcterms:modified>
  <cp:revision>5</cp:revision>
  <dc:subject/>
  <dc:title>Semana 1-Fis 2- Mecánica</dc:title>
</cp:coreProperties>
</file>