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08B-10E2-49F0-8D90-62A62B4A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B18-1BE4-4BDB-9376-AE0E00F9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5D6-21DC-458C-895D-6BBA20BD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FE7-3EEA-40AD-99BB-996D26EF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947-4FA6-4DEF-8214-0E059B8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B8F-D14F-4539-B1D0-BDC56FA1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813-D166-4A86-9E45-F9C75122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50A-ACD5-4FF6-9BF6-7605DE5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E32-54B7-46BA-9E51-DA801855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10B-57D3-441B-A128-DCA08B2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9CC-4CF7-4F76-B7B9-CD5C3F9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4DF-F6AC-42D4-BD69-71E2E63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3FB-F6BC-469E-ACE0-FB251A5D2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Preparar al estudiante para una primera parte de un curso de Introducción a la Física a un nivel de exigencia de Ingenier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La materia es cinemática y dinámica co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introducen herramientas matemáticas utilizando como base la g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Se revisan las tareas, ejercicios y controles desarrollados en el curso regular de ingeniería de primer añ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OBJETIVO 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Usar el contenido del curso de Formación General: </a:t>
            </a: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Cosmología Hoy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, para revisar los conceptos de física moderna a un nivel básico, sin uso de matemáticas avanz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En este curso, utilizando la historia de las ideas y modelos acerca de la evolución del universo, se revisan los modelos físicos que la fundament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 ilustra la unión entre el macromundo y el mundo microscóp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La aprobación de este curso le permite al estudiante acumular 5 UD. Como es un curso del programa de Formación General,  estas unidades son válidas para cualquier carrera dentro de la Universidad de Chile y mientras Nelson Zamorano sea el profesor del cur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CL" sz="1400" spc="-1" strike="noStrike">
                <a:solidFill>
                  <a:srgbClr val="006666"/>
                </a:solidFill>
                <a:latin typeface="Arial"/>
              </a:rPr>
              <a:t>La evaluación consiste en una prueba de alternativas y un ensayo final de aproximadamente 8 pág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RESUMEN DEL CURSO</a:t>
            </a:r>
            <a:br>
              <a:rPr sz="3200"/>
            </a:br>
            <a:r>
              <a:rPr b="1" lang="es-CL" sz="3200" spc="-1" strike="noStrike">
                <a:solidFill>
                  <a:srgbClr val="ff0000"/>
                </a:solidFill>
                <a:latin typeface="Arial"/>
              </a:rPr>
              <a:t>Fis 2- 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S de FI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REPASO MATERIA FÍSICA  1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1 sema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TRABAJO, Ejemplos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NERGÍA: CINÉTICA , POTENCIAL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EJEMPLOS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: OSCILADOR ARMÓNICO, CAMPO GRAVITACIONAL CON g= CONSTANTE</a:t>
            </a: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CHOQUES: ELÁSTICO E INESLÁTICO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MOMENTO ANGULAR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dos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cc"/>
                </a:solidFill>
                <a:latin typeface="Arial"/>
              </a:rPr>
              <a:t>GRAVITACIÓN </a:t>
            </a:r>
            <a:r>
              <a:rPr b="1" lang="es-CL" sz="1400" spc="-1" strike="noStrike">
                <a:solidFill>
                  <a:srgbClr val="ff9933"/>
                </a:solidFill>
                <a:latin typeface="Arial"/>
              </a:rPr>
              <a:t>(tres  cl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66"/>
                </a:solidFill>
                <a:latin typeface="Arial"/>
              </a:rPr>
              <a:t>CONTENIDO (resumido) DE COSMOLOGÍA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HISTORIA: DE LA ANTIGÜEDAD A LOS GRI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DE  GALILEO A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RELATIVIDAD ESPECIAL 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MECÁNICA CUÁN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FÍSICA Y COSMOLOGÍA: EL MICRO Y EL MACRO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ENIGMAS ACTUALES DEL U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1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Geometría y 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Derivadas e Integ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Series y geomet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trigonometr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Cin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49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rincipio de superposi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Arial"/>
              </a:rPr>
              <a:t>Perro amarrado a un poste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3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Tráfico “Follow the leader”(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Repaso de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Leyes de New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lano 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Pol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Movimi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2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Oscilador Arm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Ana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Solución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Trabajo y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nergía Cinétic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3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Momentum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elásticos e inelá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Est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Producto Vectorial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 de Torque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mana 4-Fis 2- Mecá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mento 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Tipos de Órb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Aplicaciones en Cosm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inemática Relati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Choques Relativ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Agujeros Negros</a:t>
            </a:r>
            <a:r>
              <a:rPr b="0" lang="es-CL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00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Modelos cosmológico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l silabario de Ondas y Mecánica Cu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0:57:34Z</dcterms:created>
  <dc:creator>Nelson Zamorano</dc:creator>
  <dc:description/>
  <dc:language>en-US</dc:language>
  <cp:lastModifiedBy>Nelson Zamorano</cp:lastModifiedBy>
  <dcterms:modified xsi:type="dcterms:W3CDTF">2006-01-02T23:57:38Z</dcterms:modified>
  <cp:revision>5</cp:revision>
  <dc:subject/>
  <dc:title>Semana 1-Fis 2- Mecánica</dc:title>
</cp:coreProperties>
</file>